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BA9-B438-4668-87EE-F8AC15CF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9B9-E3E3-4B5B-89B4-00476B7A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ABB-E874-4798-A50E-EBCFDFEF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A30-A18D-4082-8E2A-BA9EBD49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45D-263E-4A4F-8A70-B7AB778D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846-E451-4FE0-8DE2-171B4FEA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251-7CAC-4A8C-9FF0-27C32E47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975-1263-4117-90BE-6F824A0D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3BD-EC47-4D19-9BEC-F7A584C3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2A7-6B7C-4FDF-A53E-1C3C361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2B9-0962-49BB-A0BA-71C87D90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0D5-FA7A-4294-B31F-34183DF3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791C-0713-4E6D-BCBD-E3BC83F12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hyperlink" Target="http://pedsovet.su/" TargetMode="External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</a:rPr>
              <a:t>Я  в  «Сказке» и сказка  во  мне!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Monotype Corsiva"/>
              </a:rPr>
              <a:t>(коне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720" y="2000160"/>
            <a:ext cx="40003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унаева  Анна  Леонид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воспитатель  пер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МДОБУ «Детский  сад №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«Сказ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комбинированного  вида г.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0" descr="E:\Анечка садик\Новая папка\я 2.jpg"/>
          <p:cNvPicPr/>
          <p:nvPr/>
        </p:nvPicPr>
        <p:blipFill>
          <a:blip r:embed="rId5"/>
          <a:stretch/>
        </p:blipFill>
        <p:spPr>
          <a:xfrm>
            <a:off x="826920" y="1628640"/>
            <a:ext cx="3786480" cy="450072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Ф е я – в о л ш е н и ц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5"/>
          <a:stretch/>
        </p:blipFill>
        <p:spPr>
          <a:xfrm>
            <a:off x="928800" y="114300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9"/>
          <p:cNvPicPr/>
          <p:nvPr/>
        </p:nvPicPr>
        <p:blipFill>
          <a:blip r:embed="rId2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Ф е я -  в о л ш е б н и ц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928800" y="2286000"/>
            <a:ext cx="7286400" cy="2836440"/>
          </a:xfrm>
          <a:prstGeom prst="rect">
            <a:avLst/>
          </a:prstGeom>
          <a:solidFill>
            <a:srgbClr val="deb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Дома я – волшебница  и  ф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Поддержу, налажу, прослеж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Слово  доброе  я  вовремя  скаж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Для  моих  любимых  не  секрет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Мама - фея, в этом  спору 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newsflash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2" descr="I:\Documents and Settings\Admin\Local Settings\Temp\Rar$DI57.600\DSC03871.JPG"/>
          <p:cNvPicPr/>
          <p:nvPr/>
        </p:nvPicPr>
        <p:blipFill>
          <a:blip r:embed="rId3"/>
          <a:stretch/>
        </p:blipFill>
        <p:spPr>
          <a:xfrm>
            <a:off x="928800" y="3429000"/>
            <a:ext cx="3722400" cy="2786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I:\Documents and Settings\Admin\Local Settings\Temp\Rar$DI20.600\DSC03873.JPG"/>
          <p:cNvPicPr/>
          <p:nvPr/>
        </p:nvPicPr>
        <p:blipFill>
          <a:blip r:embed="rId4"/>
          <a:stretch/>
        </p:blipFill>
        <p:spPr>
          <a:xfrm>
            <a:off x="4643280" y="3394080"/>
            <a:ext cx="3767400" cy="28195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I:\Documents and Settings\Admin\Local Settings\Temp\Rar$DI16.712\DSC03861.JPG"/>
          <p:cNvPicPr/>
          <p:nvPr/>
        </p:nvPicPr>
        <p:blipFill>
          <a:blip r:embed="rId5"/>
          <a:stretch/>
        </p:blipFill>
        <p:spPr>
          <a:xfrm>
            <a:off x="4714920" y="785880"/>
            <a:ext cx="3643200" cy="2755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I:\Documents and Settings\Admin\Local Settings\Temp\Rar$DI01.600\DSC03872.JPG"/>
          <p:cNvPicPr/>
          <p:nvPr/>
        </p:nvPicPr>
        <p:blipFill>
          <a:blip r:embed="rId6"/>
          <a:stretch/>
        </p:blipFill>
        <p:spPr>
          <a:xfrm>
            <a:off x="857160" y="857160"/>
            <a:ext cx="3786120" cy="283392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ttps://mail.yandex.ru/message_part/DSC03697.JPG?hid=1.2&amp;ids=2310000000076720791&amp;no_disposition=y&amp;name=DSC03697.JPG"/>
          <p:cNvPicPr/>
          <p:nvPr/>
        </p:nvPicPr>
        <p:blipFill>
          <a:blip r:embed="rId3"/>
          <a:stretch/>
        </p:blipFill>
        <p:spPr>
          <a:xfrm>
            <a:off x="857160" y="92880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" descr="I:\Documents and Settings\Admin\Local Settings\Temp\Rar$DI38.600\DSC03864.JPG"/>
          <p:cNvPicPr/>
          <p:nvPr/>
        </p:nvPicPr>
        <p:blipFill>
          <a:blip r:embed="rId4"/>
          <a:stretch/>
        </p:blipFill>
        <p:spPr>
          <a:xfrm>
            <a:off x="4714920" y="3429000"/>
            <a:ext cx="3643200" cy="272556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</a:rPr>
              <a:t>М у х а  - Ц о к о т у х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5"/>
          <a:stretch/>
        </p:blipFill>
        <p:spPr>
          <a:xfrm>
            <a:off x="2357280" y="1200240"/>
            <a:ext cx="4429440" cy="565776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М у х а  - Ц о к о т у х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1071720" y="1785960"/>
            <a:ext cx="7143480" cy="3750840"/>
          </a:xfrm>
          <a:prstGeom prst="rect">
            <a:avLst/>
          </a:prstGeom>
          <a:solidFill>
            <a:srgbClr val="d1e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entury Gothic"/>
              </a:rPr>
              <a:t>Пирогов  я  испе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entury Gothic"/>
              </a:rPr>
              <a:t>Сладким  чаем  угощ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entury Gothic"/>
              </a:rPr>
              <a:t>Заходите  гости  в  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entury Gothic"/>
              </a:rPr>
              <a:t>Я  всегда  Вам  рад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entury Gothic"/>
              </a:rPr>
              <a:t>Пообщаться  за  чайком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entury Gothic"/>
              </a:rPr>
              <a:t>Для  меня – отра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newsflash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3" descr="I:\Documents and Settings\Admin\Local Settings\Temp\Rar$DI29.712\DSC03855.JPG"/>
          <p:cNvPicPr/>
          <p:nvPr/>
        </p:nvPicPr>
        <p:blipFill>
          <a:blip r:embed="rId3"/>
          <a:stretch/>
        </p:blipFill>
        <p:spPr>
          <a:xfrm>
            <a:off x="4857840" y="1000080"/>
            <a:ext cx="3394080" cy="25686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I:\Documents and Settings\Admin\Local Settings\Temp\Rar$DI85.712\DSC03860.JPG"/>
          <p:cNvPicPr/>
          <p:nvPr/>
        </p:nvPicPr>
        <p:blipFill>
          <a:blip r:embed="rId4"/>
          <a:stretch/>
        </p:blipFill>
        <p:spPr>
          <a:xfrm>
            <a:off x="1000080" y="3571920"/>
            <a:ext cx="3357720" cy="25416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I:\Documents and Settings\Admin\Local Settings\Temp\Rar$DI94.712\DSC03857.JPG"/>
          <p:cNvPicPr/>
          <p:nvPr/>
        </p:nvPicPr>
        <p:blipFill>
          <a:blip r:embed="rId5"/>
          <a:stretch/>
        </p:blipFill>
        <p:spPr>
          <a:xfrm>
            <a:off x="4572000" y="3571920"/>
            <a:ext cx="3357720" cy="2539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I:\Documents and Settings\Admin\Local Settings\Temp\Rar$DI73.600\DSC03887.JPG"/>
          <p:cNvPicPr/>
          <p:nvPr/>
        </p:nvPicPr>
        <p:blipFill>
          <a:blip r:embed="rId6"/>
          <a:stretch/>
        </p:blipFill>
        <p:spPr>
          <a:xfrm>
            <a:off x="1000080" y="857160"/>
            <a:ext cx="3435480" cy="257184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66978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О л е   Л у к о й 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5"/>
          <a:stretch/>
        </p:blipFill>
        <p:spPr>
          <a:xfrm>
            <a:off x="928800" y="1000080"/>
            <a:ext cx="7381800" cy="553716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О л е   Л у к о й 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857160" y="1928880"/>
            <a:ext cx="74296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Оле Лукойе – сказочный  гн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Сном  он  волшебным  входит  в  наш 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Сказочным  гномом  я  часто  быв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Так  как  я  сказки  сама  сочиняю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Сказки  для  дочек  пишу от  душ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Нравятся  дочкам  сказки  мо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newsflash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85920" y="213840"/>
            <a:ext cx="66974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Как девочка Маша с ленью боролась</a:t>
            </a:r>
            <a:br>
              <a:rPr sz="2800"/>
            </a:b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(посвящается  дочке  Ма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57160" y="1000080"/>
            <a:ext cx="7429680" cy="52088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Жила была девочка Маша. Это была хорошая девочка: добрая, умная, веселая. Но вот беда, повадилась на нее лень нападать. Наваливается на Машу всей своей тяжестью. Да так, что Маша ни рукой, ни ногой пошевелить не хоч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Пришла как-то мама с работы и просит дочку помочь ей. А Маша лежит на диване, и двигаться не хочет. «Ой, мамочка, на меня опять лень напала» - говорит она маме. Мама покачала головой и отвечает: «Так она тебя совсем одолеет. С ней ведь бороться над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-Да как же с ней бороться, если она невидимая? - спрашивает Машень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-А ты возьми веник и вымети ее из комн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Маша схватила веник и давай комнату подмет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-А чтобы лень не вернулась, надо все влажной тряпкой протереть. Ведь лень хитрая, она на свой запах возвращается. А ты все ее следы смоешь, она и не найд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Взялась Маша за тряпку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-Ну, а чтобы лень совсем не смогла до тебя добраться, надо в комнате кое-что изменить. Книжки, например, ровно на полке поставить, карандаши собрать. Заглянет лень в комнату, не узнает ее и уйд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Не хочет Маша, чтобы лень возвращалась. Собрала карандаши, книги расставила да еще игрушки рядком расса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-Какая ты молодец! Настоящий боец! Вон как ты ловко лень одолела – говорит мама – Но, что же ты опять на диван ложишь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-Ой, мамочка. Кажется, на меня теперь усталость навали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Мелодия - В гостях у сказки  (audiopoisk.com)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Мелодия - В гостях у сказки  (audiopoisk.com)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0000"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50016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66978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К а р л с о 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789120" y="963720"/>
            <a:ext cx="7569000" cy="5686200"/>
          </a:xfrm>
          <a:prstGeom prst="rect">
            <a:avLst/>
          </a:prstGeom>
          <a:ln w="0">
            <a:noFill/>
          </a:ln>
        </p:spPr>
      </p:pic>
    </p:spTree>
  </p:cSld>
  <p:transition advTm="20000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сточник шаблон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27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кушевская Юлия Серге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Кадетская школа-интернат № 9» г. Ом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 конкурса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edsovet.s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оформлении слайдов использовала векторный редакто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ra Xtreme Pro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векторный клипар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697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К а р л с о 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071720" y="1571760"/>
            <a:ext cx="7143480" cy="4950000"/>
          </a:xfrm>
          <a:prstGeom prst="rect">
            <a:avLst/>
          </a:prstGeom>
          <a:solidFill>
            <a:srgbClr val="fdf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Я душой  не  покрив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Если  Вам  сейчас  признаю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Путешествовать  люб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За  границу  собираю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Дует  с  моря  лёгкий  б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Отправляюсь  я в кру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С  пользой  дела  отдых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Много  нового  узн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9"/>
          <p:cNvPicPr/>
          <p:nvPr/>
        </p:nvPicPr>
        <p:blipFill>
          <a:blip r:embed="rId2"/>
          <a:stretch/>
        </p:blipFill>
        <p:spPr>
          <a:xfrm>
            <a:off x="3571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s://mail.yandex.ru/message_part/%D0%A2%D0%B0%D1%80%D1%80%D0%B0%D0%B3%D0%BE%D0%BD%D0%B0.JPG?hid=1.3&amp;ids=2310000000068009914&amp;no_disposition=y&amp;name=%D0%A2%D0%B0%D1%80%D1%80%D0%B0%D0%B3%D0%BE%D0%BD%D0%B0.JPG"/>
          <p:cNvPicPr/>
          <p:nvPr/>
        </p:nvPicPr>
        <p:blipFill>
          <a:blip r:embed="rId3"/>
          <a:stretch/>
        </p:blipFill>
        <p:spPr>
          <a:xfrm>
            <a:off x="1143000" y="341136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s://mail.yandex.ru/message_part/%D0%A1%D0%BE%D0%B3%D1%80%D0%B0%D0%B4%D0%B0%20%D0%A4%D0%B0%D0%BC%D0%B8%D0%BB%D0%B8%D1%8F.JPG?hid=1.2&amp;ids=2310000000068009914&amp;no_disposition=y&amp;name=%D0%A1%D0%BE%D0%B3%D1%80%D0%B0%D0%B4%D0%B0%20%D0%A4%D0%B0%D0%BC%D0%B8%D0%BB%D0%B8%D1%8F.JPG"/>
          <p:cNvPicPr/>
          <p:nvPr/>
        </p:nvPicPr>
        <p:blipFill>
          <a:blip r:embed="rId4"/>
          <a:stretch/>
        </p:blipFill>
        <p:spPr>
          <a:xfrm>
            <a:off x="5143680" y="3571920"/>
            <a:ext cx="3547800" cy="2660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mail.yandex.ru/message_part/%D0%91%D0%B0%D1%80%D1%81%D0%B5%D0%BB%D0%BE%D0%BD%D0%B0.JPG?hid=1.2&amp;ids=2310000000068006450&amp;no_disposition=y&amp;name=%D0%91%D0%B0%D1%80%D1%81%D0%B5%D0%BB%D0%BE%D0%BD%D0%B0.JPG"/>
          <p:cNvPicPr/>
          <p:nvPr/>
        </p:nvPicPr>
        <p:blipFill>
          <a:blip r:embed="rId5"/>
          <a:stretch/>
        </p:blipFill>
        <p:spPr>
          <a:xfrm>
            <a:off x="1143000" y="85716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s://mail.yandex.ru/message_part/%D0%BE%D0%BA%D0%B5%D0%B0%D0%BD%D0%B0%D1%80%D0%B8%D1%83%D0%BC%20(1).JPG?hid=1.2&amp;ids=2310000000068008510&amp;no_disposition=y&amp;name=%D0%BE%D0%BA%D0%B5%D0%B0%D0%BD%D0%B0%D1%80%D0%B8%D1%83%D0%BC%20(1).JPG"/>
          <p:cNvPicPr/>
          <p:nvPr/>
        </p:nvPicPr>
        <p:blipFill>
          <a:blip r:embed="rId6"/>
          <a:stretch/>
        </p:blipFill>
        <p:spPr>
          <a:xfrm>
            <a:off x="5143680" y="928800"/>
            <a:ext cx="3522600" cy="264312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s://mail.yandex.ru/message_part/%D0%9B%D0%BE%D0%BE.JPG?hid=1.3&amp;ids=2310000000068007647&amp;no_disposition=y&amp;name=%D0%9B%D0%BE%D0%BE.JPG"/>
          <p:cNvPicPr/>
          <p:nvPr/>
        </p:nvPicPr>
        <p:blipFill>
          <a:blip r:embed="rId3"/>
          <a:stretch/>
        </p:blipFill>
        <p:spPr>
          <a:xfrm>
            <a:off x="1000080" y="928800"/>
            <a:ext cx="3643200" cy="273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s://mail.yandex.ru/message_part/%D0%B8%D1%81%D0%BF%D0%B0%D0%BD%D0%B8%D1%8F.JPG?hid=1.2&amp;ids=2310000000068007647&amp;no_disposition=y&amp;name=%D0%B8%D1%81%D0%BF%D0%B0%D0%BD%D0%B8%D1%8F.JPG"/>
          <p:cNvPicPr/>
          <p:nvPr/>
        </p:nvPicPr>
        <p:blipFill>
          <a:blip r:embed="rId4"/>
          <a:stretch/>
        </p:blipFill>
        <p:spPr>
          <a:xfrm>
            <a:off x="4786200" y="928800"/>
            <a:ext cx="3643560" cy="2733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s://mail.yandex.ru/message_part/10.jpg?hid=1.4&amp;ids=2310000000070078816&amp;no_disposition=y&amp;name=10.jpg"/>
          <p:cNvPicPr/>
          <p:nvPr/>
        </p:nvPicPr>
        <p:blipFill>
          <a:blip r:embed="rId5"/>
          <a:stretch/>
        </p:blipFill>
        <p:spPr>
          <a:xfrm>
            <a:off x="4786200" y="3500280"/>
            <a:ext cx="3678480" cy="2613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s://mail.yandex.ru/message_part/%D0%BF%D0%BE%D0%B5%D0%B7%D0%B4%D0%BA%D0%B0%20%D0%BD%D0%B0%20%D0%B4%D0%B6%D0%B8%D0%BF%D0%B0%D1%85%20%D0%93%D0%B5%D0%BB%D0%B5%D0%BD%D0%B6%D0%B8%D0%BA.JPG?hid=1.2&amp;ids=2310000000068009578&amp;no_disposition=y&amp;name=%D0%BF%D0%BE%D0%B5%D0%B7%D0%B4%D0%BA%D0%B0%20%D0%BD%D0%B0%20%D0%B4%D0%B6%D0%B8%D0%BF%D0%B0%D1%85%20%D0%93%D0%B5%D0%BB%D0%B5%D0%BD%D0%B6%D0%B8%D0%BA.JPG"/>
          <p:cNvPicPr/>
          <p:nvPr/>
        </p:nvPicPr>
        <p:blipFill>
          <a:blip r:embed="rId6"/>
          <a:stretch/>
        </p:blipFill>
        <p:spPr>
          <a:xfrm>
            <a:off x="1000080" y="3357720"/>
            <a:ext cx="3643200" cy="273348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56840" y="142920"/>
            <a:ext cx="6697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Доктор  Айбол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5"/>
          <a:stretch/>
        </p:blipFill>
        <p:spPr>
          <a:xfrm>
            <a:off x="2786040" y="890640"/>
            <a:ext cx="3905280" cy="596736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Доктор  Айбол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928800" y="1214280"/>
            <a:ext cx="7429320" cy="5294520"/>
          </a:xfrm>
          <a:prstGeom prst="rect">
            <a:avLst/>
          </a:prstGeom>
          <a:solidFill>
            <a:srgbClr val="d1e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Всем  известен Айбол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Знаем,  чем  он  знаменит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Кошку, рыбку и собач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Всех  зверей  он  исце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Ну, а  мне  он  помо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Детям  доброту  при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Никого  в  беде  не  бр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Всем  помочь, всех  подле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6" descr="I:\Documents and Settings\Admin\Local Settings\Temp\Rar$DI07.304\DSC03890.JPG"/>
          <p:cNvPicPr/>
          <p:nvPr/>
        </p:nvPicPr>
        <p:blipFill>
          <a:blip r:embed="rId3"/>
          <a:stretch/>
        </p:blipFill>
        <p:spPr>
          <a:xfrm>
            <a:off x="857160" y="1000080"/>
            <a:ext cx="3857760" cy="2886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"/>
          <p:cNvPicPr/>
          <p:nvPr/>
        </p:nvPicPr>
        <p:blipFill>
          <a:blip r:embed="rId4"/>
          <a:stretch/>
        </p:blipFill>
        <p:spPr>
          <a:xfrm>
            <a:off x="4357800" y="3500280"/>
            <a:ext cx="4071960" cy="26434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5"/>
          <a:stretch/>
        </p:blipFill>
        <p:spPr>
          <a:xfrm>
            <a:off x="857160" y="3786120"/>
            <a:ext cx="3500640" cy="23828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"/>
          <p:cNvPicPr/>
          <p:nvPr/>
        </p:nvPicPr>
        <p:blipFill>
          <a:blip r:embed="rId6"/>
          <a:stretch/>
        </p:blipFill>
        <p:spPr>
          <a:xfrm>
            <a:off x="4714920" y="928800"/>
            <a:ext cx="3674880" cy="252576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3"/>
          <a:stretch/>
        </p:blipFill>
        <p:spPr>
          <a:xfrm>
            <a:off x="928800" y="1000080"/>
            <a:ext cx="3643200" cy="2357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"/>
          <p:cNvPicPr/>
          <p:nvPr/>
        </p:nvPicPr>
        <p:blipFill>
          <a:blip r:embed="rId4"/>
          <a:stretch/>
        </p:blipFill>
        <p:spPr>
          <a:xfrm>
            <a:off x="4714920" y="335772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5"/>
          <a:stretch/>
        </p:blipFill>
        <p:spPr>
          <a:xfrm>
            <a:off x="1000080" y="3429000"/>
            <a:ext cx="3500640" cy="27147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"/>
          <p:cNvPicPr/>
          <p:nvPr/>
        </p:nvPicPr>
        <p:blipFill>
          <a:blip r:embed="rId6"/>
          <a:stretch/>
        </p:blipFill>
        <p:spPr>
          <a:xfrm>
            <a:off x="4714920" y="1000080"/>
            <a:ext cx="3674880" cy="228600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Татьяна</cp:lastModifiedBy>
  <dcterms:modified xsi:type="dcterms:W3CDTF">2013-09-29T01:52:34Z</dcterms:modified>
  <cp:revision>97</cp:revision>
  <dc:subject/>
  <dc:title>Слайд 1</dc:title>
</cp:coreProperties>
</file>