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8E0-6714-4C5B-9325-FDEDA341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256-19B3-4134-B9B6-A89F3EA8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DEA-77FB-47F8-8C9F-1D9D70A5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361-16B9-4DE2-8B06-BE936282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A07-E4C6-4950-A8D6-2C5FD378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64B-60CE-4162-8281-25C81B01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78F-A583-428A-9411-3621875B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1BC-0CB9-4AB7-A9F0-A088E1EB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91B-C117-4E50-9E45-1100D48D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BA2-2652-473C-A72A-505E52CC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EA6-EB33-417F-8683-76DB014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840-6DBA-4D29-9BDC-40C1543D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0C8D-2243-47A2-8017-DE4B05EF98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</a:rPr>
              <a:t>Я  в  «Сказке» и сказка  во  мне!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Monotype Corsiva"/>
              </a:rPr>
              <a:t>(продолжение ч.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720" y="2000160"/>
            <a:ext cx="40003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унаева  Анна  Леонид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воспитатель  пер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МДОБУ «Детский  сад №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«Ска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комбинированного  вида г.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E:\Анечка садик\Новая папка\я 2.jpg"/>
          <p:cNvPicPr/>
          <p:nvPr/>
        </p:nvPicPr>
        <p:blipFill>
          <a:blip r:embed="rId5"/>
          <a:stretch/>
        </p:blipFill>
        <p:spPr>
          <a:xfrm>
            <a:off x="826920" y="1628640"/>
            <a:ext cx="3786480" cy="450072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С н е г у р о ч к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857160" y="1785960"/>
            <a:ext cx="7429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Не  страшны  мне  метель  и  пург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Не  пугает  морозом  погод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Потому что  я  зиму  любл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Это-лучшее  время 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На  коньках  прокатиться, на  лыжах Или  с  горки  промчаться  стрелой… Потому-то  Снегурочки  обра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Для  меня  очень  близкий, род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3"/>
          <a:stretch/>
        </p:blipFill>
        <p:spPr>
          <a:xfrm>
            <a:off x="4786200" y="3500280"/>
            <a:ext cx="3524400" cy="26434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4"/>
          <a:stretch/>
        </p:blipFill>
        <p:spPr>
          <a:xfrm>
            <a:off x="4786200" y="857160"/>
            <a:ext cx="3500640" cy="26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"/>
          <p:cNvPicPr/>
          <p:nvPr/>
        </p:nvPicPr>
        <p:blipFill>
          <a:blip r:embed="rId5"/>
          <a:stretch/>
        </p:blipFill>
        <p:spPr>
          <a:xfrm>
            <a:off x="714240" y="1071720"/>
            <a:ext cx="3786480" cy="500040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Незнай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1714680" y="1071720"/>
            <a:ext cx="5786280" cy="578628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Незнай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000080" y="1643040"/>
            <a:ext cx="7286760" cy="4396320"/>
          </a:xfrm>
          <a:prstGeom prst="rect">
            <a:avLst/>
          </a:prstGeom>
          <a:solidFill>
            <a:srgbClr val="d1e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Я-Незнайка, я-друз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Фантазёр, проказ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Моя  главная  меч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Чтоб вся  жизнь  как   праздни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Чтоб  поярче  фейервер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Чтоб  шары  взлет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Чтоб  улыбками  у 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Лица  расцв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oo10.mail.yandex.net/static/d9aca5674c0144aa9eb2521f47b6fc01/tmpQClTWo_html_m49812d21.jpg"/>
          <p:cNvPicPr/>
          <p:nvPr/>
        </p:nvPicPr>
        <p:blipFill>
          <a:blip r:embed="rId3"/>
          <a:stretch/>
        </p:blipFill>
        <p:spPr>
          <a:xfrm>
            <a:off x="785880" y="731880"/>
            <a:ext cx="3714840" cy="278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oo10.mail.yandex.net/static/d9aca5674c0144aa9eb2521f47b6fc01/tmpQClTWo_html_4e84d0ae.jpg"/>
          <p:cNvPicPr/>
          <p:nvPr/>
        </p:nvPicPr>
        <p:blipFill>
          <a:blip r:embed="rId4"/>
          <a:stretch/>
        </p:blipFill>
        <p:spPr>
          <a:xfrm>
            <a:off x="4572000" y="335772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5"/>
          <a:stretch/>
        </p:blipFill>
        <p:spPr>
          <a:xfrm>
            <a:off x="785880" y="342900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d1ea3a"/>
            </a:solidFill>
            <a:miter/>
          </a:ln>
        </p:spPr>
      </p:pic>
      <p:sp>
        <p:nvSpPr>
          <p:cNvPr id="71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ttp://oo7.mail.yandex.net/static/417e48a5b26d404f847c6b62980d8202/tmpXZUfPq_html_d65cf8f.jpg"/>
          <p:cNvPicPr/>
          <p:nvPr/>
        </p:nvPicPr>
        <p:blipFill>
          <a:blip r:embed="rId3"/>
          <a:stretch/>
        </p:blipFill>
        <p:spPr>
          <a:xfrm>
            <a:off x="4643280" y="3346560"/>
            <a:ext cx="3786480" cy="2835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5" descr="C:\Users\user\Desktop\еще\DSC03999.JPG"/>
          <p:cNvPicPr/>
          <p:nvPr/>
        </p:nvPicPr>
        <p:blipFill>
          <a:blip r:embed="rId4"/>
          <a:stretch/>
        </p:blipFill>
        <p:spPr>
          <a:xfrm>
            <a:off x="928800" y="339264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2" descr="E:\Анечка садик\104NIKON\DSCN1501.JPG"/>
          <p:cNvPicPr/>
          <p:nvPr/>
        </p:nvPicPr>
        <p:blipFill>
          <a:blip r:embed="rId5"/>
          <a:stretch/>
        </p:blipFill>
        <p:spPr>
          <a:xfrm>
            <a:off x="4643280" y="785880"/>
            <a:ext cx="3762360" cy="282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oo7.mail.yandex.net/static/417e48a5b26d404f847c6b62980d8202/tmpXZUfPq_html_m773e5e1f.jpg"/>
          <p:cNvPicPr/>
          <p:nvPr/>
        </p:nvPicPr>
        <p:blipFill>
          <a:blip r:embed="rId6"/>
          <a:stretch/>
        </p:blipFill>
        <p:spPr>
          <a:xfrm>
            <a:off x="928800" y="785880"/>
            <a:ext cx="3817800" cy="285732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6697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Кот  Леополь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5"/>
          <a:stretch/>
        </p:blipFill>
        <p:spPr>
          <a:xfrm>
            <a:off x="785880" y="1143000"/>
            <a:ext cx="7751520" cy="5157720"/>
          </a:xfrm>
          <a:prstGeom prst="rect">
            <a:avLst/>
          </a:prstGeom>
          <a:ln w="0">
            <a:noFill/>
          </a:ln>
        </p:spPr>
      </p:pic>
    </p:spTree>
  </p:cSld>
  <p:transition advTm="20000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Кот  Леополь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857160" y="1143000"/>
            <a:ext cx="7429680" cy="53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Я дружить  Вас  нау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Потому что,  не  сек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Ничего, ценнее друж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В  этом  мире  просто 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Кто  всегда  придёт  на 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Если  трудно  станет  в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Ну, конечно, без 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entury Gothic"/>
              </a:rPr>
              <a:t>Настоящий, верный 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857160" y="857160"/>
            <a:ext cx="3745080" cy="2643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928800" y="3346560"/>
            <a:ext cx="3571920" cy="2814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4572000" y="78588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"/>
          <p:cNvPicPr/>
          <p:nvPr/>
        </p:nvPicPr>
        <p:blipFill>
          <a:blip r:embed="rId6"/>
          <a:stretch/>
        </p:blipFill>
        <p:spPr>
          <a:xfrm>
            <a:off x="4572000" y="3357720"/>
            <a:ext cx="3849840" cy="2803320"/>
          </a:xfrm>
          <a:prstGeom prst="rect">
            <a:avLst/>
          </a:prstGeom>
          <a:ln w="0">
            <a:noFill/>
          </a:ln>
        </p:spPr>
      </p:pic>
    </p:spTree>
  </p:cSld>
  <p:transition advTm="12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3920" y="142560"/>
            <a:ext cx="66978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С н е г у р о ч к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928800" y="114300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p:transition advTm="20000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Татьяна</cp:lastModifiedBy>
  <dcterms:modified xsi:type="dcterms:W3CDTF">2013-09-29T01:49:11Z</dcterms:modified>
  <cp:revision>95</cp:revision>
  <dc:subject/>
  <dc:title>Слайд 1</dc:title>
</cp:coreProperties>
</file>