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946E-8B10-4488-B9E3-0B9E348E7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0D79-01D5-4330-BF22-E8241AD32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28C-240C-43CA-AEF2-3404CEC1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78C-C0FC-4774-99D3-70ACEF0F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A03-634F-48FB-BF7B-D3DEC71A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09F-C389-471D-9A4C-8A11FC5D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6B0-71ED-4366-A14D-B4583013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7D8-F736-496A-9A8B-BEEEC444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1D4-FC87-47CD-8FB4-9A49EB32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F38-F98C-4913-87FF-4E3BF3DA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2D7-0E8E-4348-A4E1-90B52236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6AB-22F4-4807-BAC5-FCEFE3C5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BCB-E4C5-455F-ABC6-D9719303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AED-C158-415F-A328-8DB8897B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2378-5CE3-4EAA-A9DA-02C9B280D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6880" y="2356920"/>
            <a:ext cx="53578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Monotype Corsiva"/>
              </a:rPr>
              <a:t>участника  конкурсного  отбора  </a:t>
            </a:r>
            <a:br>
              <a:rPr sz="2000"/>
            </a:br>
            <a:r>
              <a:rPr b="1" i="1" lang="ru-RU" sz="2000" spc="-1" strike="noStrike">
                <a:solidFill>
                  <a:srgbClr val="009900"/>
                </a:solidFill>
                <a:latin typeface="Monotype Corsiva"/>
              </a:rPr>
              <a:t>педагогических  работников</a:t>
            </a:r>
            <a:br>
              <a:rPr sz="2000"/>
            </a:br>
            <a:r>
              <a:rPr b="1" i="1" lang="ru-RU" sz="2000" spc="-1" strike="noStrike">
                <a:solidFill>
                  <a:srgbClr val="009900"/>
                </a:solidFill>
                <a:latin typeface="Monotype Corsiva"/>
              </a:rPr>
              <a:t>муниципальной  системы  дошкольного образования, активно  внедряющих  инновационные  образовательные 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3286080" y="1214280"/>
            <a:ext cx="271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Monotype Corsiva"/>
              </a:rPr>
              <a:t>Презентационные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Monotype Corsiva"/>
              </a:rPr>
              <a:t>слай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214720" y="4214880"/>
            <a:ext cx="45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воспитателя  МДОБУ № 221 «Сказка» г.Ор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Дунаевой  Анны  Леонид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Мелодия - В гостях у сказки  (audiopoisk.com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http://oo10.mail.yandex.net/static/c30e09f5849d461b8feead4bcee1ebc3/tmpZAjoe7_html_162d8f07.jpg"/>
          <p:cNvPicPr/>
          <p:nvPr/>
        </p:nvPicPr>
        <p:blipFill>
          <a:blip r:embed="rId3"/>
          <a:stretch/>
        </p:blipFill>
        <p:spPr>
          <a:xfrm>
            <a:off x="4500720" y="3286080"/>
            <a:ext cx="3795480" cy="2849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oo7.mail.yandex.net/static/417e48a5b26d404f847c6b62980d8202/tmpXZUfPq_html_50e7f993.jpg"/>
          <p:cNvPicPr/>
          <p:nvPr/>
        </p:nvPicPr>
        <p:blipFill>
          <a:blip r:embed="rId4"/>
          <a:stretch/>
        </p:blipFill>
        <p:spPr>
          <a:xfrm>
            <a:off x="4643280" y="857160"/>
            <a:ext cx="3691080" cy="2773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oo7.mail.yandex.net/static/417e48a5b26d404f847c6b62980d8202/tmpXZUfPq_html_14e788c2.jpg"/>
          <p:cNvPicPr/>
          <p:nvPr/>
        </p:nvPicPr>
        <p:blipFill>
          <a:blip r:embed="rId5"/>
          <a:stretch/>
        </p:blipFill>
        <p:spPr>
          <a:xfrm>
            <a:off x="928800" y="892080"/>
            <a:ext cx="3714480" cy="278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oo10.mail.yandex.net/static/c30e09f5849d461b8feead4bcee1ebc3/tmpZAjoe7_html_m6f2acf9e.jpg"/>
          <p:cNvPicPr/>
          <p:nvPr/>
        </p:nvPicPr>
        <p:blipFill>
          <a:blip r:embed="rId6"/>
          <a:stretch/>
        </p:blipFill>
        <p:spPr>
          <a:xfrm>
            <a:off x="928800" y="3321000"/>
            <a:ext cx="3714480" cy="278928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928800" y="85716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3619800" cy="271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5"/>
          <a:stretch/>
        </p:blipFill>
        <p:spPr>
          <a:xfrm>
            <a:off x="928800" y="364320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6"/>
          <a:stretch/>
        </p:blipFill>
        <p:spPr>
          <a:xfrm>
            <a:off x="4857840" y="85716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6697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Monotype Corsiva"/>
              </a:rPr>
              <a:t>Старичок   Лесови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5"/>
          <a:stretch/>
        </p:blipFill>
        <p:spPr>
          <a:xfrm>
            <a:off x="1000080" y="857160"/>
            <a:ext cx="7286760" cy="582768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3920" y="285840"/>
            <a:ext cx="66978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</a:rPr>
              <a:t>Старичок   Лесович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785880" y="1071720"/>
            <a:ext cx="7572240" cy="6066360"/>
          </a:xfrm>
          <a:prstGeom prst="rect">
            <a:avLst/>
          </a:prstGeom>
          <a:solidFill>
            <a:srgbClr val="fdf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Старичок  Лесови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О  природе  всё  расска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Заповедные  троп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Нам  в  лесу  своём  пока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Мы  с  природой  подружи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И  она, ведь  так  быв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Свои  тайны  и  секр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Перед  нами  раскры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«Не  топтать, не  рвать  и  не  шуме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-Каждый  это  твёрдо  з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Птичьим  пением  и  шелестом  лист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Лес  друзей  своих  приветливо  встреч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newsflash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4" descr=""/>
          <p:cNvPicPr/>
          <p:nvPr/>
        </p:nvPicPr>
        <p:blipFill>
          <a:blip r:embed="rId3"/>
          <a:stretch/>
        </p:blipFill>
        <p:spPr>
          <a:xfrm>
            <a:off x="928800" y="78588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"/>
          <p:cNvPicPr/>
          <p:nvPr/>
        </p:nvPicPr>
        <p:blipFill>
          <a:blip r:embed="rId4"/>
          <a:stretch/>
        </p:blipFill>
        <p:spPr>
          <a:xfrm>
            <a:off x="4786200" y="3571920"/>
            <a:ext cx="3603600" cy="24289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"/>
          <p:cNvPicPr/>
          <p:nvPr/>
        </p:nvPicPr>
        <p:blipFill>
          <a:blip r:embed="rId5"/>
          <a:stretch/>
        </p:blipFill>
        <p:spPr>
          <a:xfrm>
            <a:off x="857160" y="3571920"/>
            <a:ext cx="3714840" cy="25002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"/>
          <p:cNvPicPr/>
          <p:nvPr/>
        </p:nvPicPr>
        <p:blipFill>
          <a:blip r:embed="rId6"/>
          <a:stretch/>
        </p:blipFill>
        <p:spPr>
          <a:xfrm>
            <a:off x="4786200" y="857160"/>
            <a:ext cx="3500640" cy="271476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</a:rPr>
              <a:t>Я  в  «Сказке» и сказка  во  мн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0720" y="2000160"/>
            <a:ext cx="40003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унаева  Анна  Леонид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воспитатель  пер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МДОБУ «Детский  сад №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«Сказ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комбинированного  вида г.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0" descr="E:\Анечка садик\Новая папка\я 2.jpg"/>
          <p:cNvPicPr/>
          <p:nvPr/>
        </p:nvPicPr>
        <p:blipFill>
          <a:blip r:embed="rId5"/>
          <a:stretch/>
        </p:blipFill>
        <p:spPr>
          <a:xfrm>
            <a:off x="826920" y="1628640"/>
            <a:ext cx="3786480" cy="450072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3920" y="35676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Monotype Corsiva"/>
              </a:rPr>
              <a:t>Каждый  день  я  отправляюсь в «Сказку».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Monotype Corsiva"/>
              </a:rPr>
              <a:t>Каждый  день  наполнен  волшебством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Monotype Corsiva"/>
              </a:rPr>
              <a:t>Каждый  день  я  наполняю  сказку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Monotype Corsiva"/>
              </a:rPr>
              <a:t>Разумом, духовным  ест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5"/>
          <a:stretch/>
        </p:blipFill>
        <p:spPr>
          <a:xfrm>
            <a:off x="1000080" y="1643040"/>
            <a:ext cx="7176960" cy="472752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6697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</a:rPr>
              <a:t>Лиса  А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5"/>
          <a:stretch/>
        </p:blipFill>
        <p:spPr>
          <a:xfrm>
            <a:off x="662040" y="1000080"/>
            <a:ext cx="7767720" cy="5218200"/>
          </a:xfrm>
          <a:prstGeom prst="rect">
            <a:avLst/>
          </a:prstGeom>
          <a:ln w="0">
            <a:noFill/>
          </a:ln>
        </p:spPr>
      </p:pic>
      <p:pic>
        <p:nvPicPr>
          <p:cNvPr id="76" name="Мелодия - В гостях у сказки  (audiopoisk.com)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001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Лиса  Али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571760" y="1571760"/>
            <a:ext cx="6143400" cy="448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Даром перевоплощ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Обладаю я, 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Бабку Ёжку иль Принцес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С лёгкостью  сыграю 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И Кикимора  и  Дрё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Бармалей  и  Шапокл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Роли  эти  все  знак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Для  меня  они  пустя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Не  кривя  душой  ни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Вам  сейчас  признаюсь 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Что  театр, роли, с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Не  мечта, а  жизнь  м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6" descr="E:\Анечка садик\масленица\масленница фото\DSCN1434.jpg"/>
          <p:cNvPicPr/>
          <p:nvPr/>
        </p:nvPicPr>
        <p:blipFill>
          <a:blip r:embed="rId3"/>
          <a:stretch/>
        </p:blipFill>
        <p:spPr>
          <a:xfrm>
            <a:off x="4572000" y="1143000"/>
            <a:ext cx="3735360" cy="48006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88" name="Рисунок 44" descr="E:\Анечка садик\102NIKON\DSCN0794.JPG"/>
          <p:cNvPicPr/>
          <p:nvPr/>
        </p:nvPicPr>
        <p:blipFill>
          <a:blip r:embed="rId4"/>
          <a:stretch/>
        </p:blipFill>
        <p:spPr>
          <a:xfrm>
            <a:off x="1214280" y="1000080"/>
            <a:ext cx="3214800" cy="2413080"/>
          </a:xfrm>
          <a:prstGeom prst="rect">
            <a:avLst/>
          </a:prstGeom>
          <a:ln w="50760">
            <a:solidFill>
              <a:srgbClr val="7030a0"/>
            </a:solidFill>
            <a:miter/>
          </a:ln>
        </p:spPr>
      </p:pic>
      <p:pic>
        <p:nvPicPr>
          <p:cNvPr id="89" name="Picture 3" descr=""/>
          <p:cNvPicPr/>
          <p:nvPr/>
        </p:nvPicPr>
        <p:blipFill>
          <a:blip r:embed="rId5"/>
          <a:stretch/>
        </p:blipFill>
        <p:spPr>
          <a:xfrm>
            <a:off x="1214280" y="3500280"/>
            <a:ext cx="3214800" cy="265608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</p:spTree>
  </p:cSld>
  <p:transition advTm="10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Мальв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5"/>
          <a:stretch/>
        </p:blipFill>
        <p:spPr>
          <a:xfrm>
            <a:off x="1071720" y="1285920"/>
            <a:ext cx="7000560" cy="526248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</a:rPr>
              <a:t>Мальв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1143000" y="2000160"/>
            <a:ext cx="6715080" cy="3934440"/>
          </a:xfrm>
          <a:prstGeom prst="rect">
            <a:avLst/>
          </a:prstGeom>
          <a:solidFill>
            <a:srgbClr val="ff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Gothic"/>
              </a:rPr>
              <a:t>Буквы  разные узн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Gothic"/>
              </a:rPr>
              <a:t>Написать  и  сосчит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Gothic"/>
              </a:rPr>
              <a:t>Отличать  квадрат  и  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Gothic"/>
              </a:rPr>
              <a:t>Защищать  проекты  вслу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Gothic"/>
              </a:rPr>
              <a:t>На  занятьях – дисцип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Gothic"/>
              </a:rPr>
              <a:t>Обучает  всех  Мальв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1785960" y="228600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0" descr="I:\Documents and Settings\Admin\Рабочий стол\Новая папка\P1050551.JPG"/>
          <p:cNvPicPr/>
          <p:nvPr/>
        </p:nvPicPr>
        <p:blipFill>
          <a:blip r:embed="rId3"/>
          <a:stretch/>
        </p:blipFill>
        <p:spPr>
          <a:xfrm>
            <a:off x="928800" y="1000080"/>
            <a:ext cx="3643200" cy="27338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4"/>
          <a:stretch/>
        </p:blipFill>
        <p:spPr>
          <a:xfrm>
            <a:off x="4714920" y="928800"/>
            <a:ext cx="3571920" cy="25714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"/>
          <p:cNvPicPr/>
          <p:nvPr/>
        </p:nvPicPr>
        <p:blipFill>
          <a:blip r:embed="rId5"/>
          <a:stretch/>
        </p:blipFill>
        <p:spPr>
          <a:xfrm>
            <a:off x="928800" y="3571920"/>
            <a:ext cx="3643200" cy="26226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" descr="C:\Users\user\Desktop\еще\DSC03924.JPG"/>
          <p:cNvPicPr/>
          <p:nvPr/>
        </p:nvPicPr>
        <p:blipFill>
          <a:blip r:embed="rId6"/>
          <a:stretch/>
        </p:blipFill>
        <p:spPr>
          <a:xfrm>
            <a:off x="4714920" y="3500280"/>
            <a:ext cx="3571920" cy="267840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Татьяна</cp:lastModifiedBy>
  <dcterms:modified xsi:type="dcterms:W3CDTF">2013-09-29T01:40:34Z</dcterms:modified>
  <cp:revision>97</cp:revision>
  <dc:subject/>
  <dc:title>Слайд 1</dc:title>
</cp:coreProperties>
</file>