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B2CD-970C-4F65-8B4C-B4C924231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C67C-AEE5-46FB-B891-1BE27222B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D98-FF31-4398-AA36-57074197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B9D-F3CB-4E49-A49A-0B015262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929-0221-443D-9193-8B3185B2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B01-5763-4CC0-9EB6-9510E04E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90DA-B5EB-4A8C-9D39-BBECAEE1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E86-E0EC-4159-B98D-2420DFA9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59CC-3C2A-4FF8-B4DC-22B1FE87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CFAB-88E2-4085-817E-CCDEDCE2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73CF-06CC-4913-B8A0-03DA03B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85E-F326-4FD2-BEEB-D195C59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466-D1FE-4E45-905E-5DEDF043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4BB-6390-4043-8936-0CFF90C8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712D-D5B5-43A8-88A9-FE53D64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CC7-79C3-41F3-B7BA-763D54A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858-6900-46A8-A0CE-B4E80E6C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228-8182-40D5-B1E8-69626D52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9FF-D4E1-496B-B972-C99460F6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3355-B687-438A-AF82-73AE3785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D8E8D-14B4-4131-B2BD-B68DFE3F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D496-F22D-4A12-ADD8-0A5E474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C404-3BBB-4D21-A059-9FC8D84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273D-0C61-4A6B-B4E0-B3EC6E33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D3B-B4D2-4636-9350-F4F4230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DA4E-92CB-4E0E-949B-55EF168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4AFF-D5B1-493F-ADA1-7CBF3750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C3DA-B10B-4F64-BB11-FAB009D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E19D-07E0-4B78-B249-550F725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4876-F8C0-4825-9073-14C46F9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518B-0A74-421B-A228-6BD8F360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FAD6-137E-417D-AF9C-92E7ABC9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EF2E-2B36-4FB6-B6B8-BCA87E53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FCB7-7228-477D-A18B-C0876797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6D47-8F0F-475D-93CF-42D8EEB0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477-F2C2-45B4-BBAA-E83BA9B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9E1F-3305-4774-A052-933A64F3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AFBE-0DE0-4EF4-B17E-A411B404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FBEA-B047-49B5-B5AB-383EED35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F935-25CF-4B41-AE38-8742974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2F7C-EE46-4709-AF2A-6EE56EF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ABE0-CF05-42BF-8D2A-83F1D924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0060-2687-4A6B-8C7F-988A14DA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BF81-43B2-4210-B6CB-798F136E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69A0-18D0-40DB-96DE-D0CF0E6D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440B-ED2E-41ED-A1F7-8452C4BC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14A-80E8-4D27-9B71-6CA55B0D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6A1A-677E-4F73-A976-80E39A8B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99B3-90AA-4F17-A90D-6B1B0AE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05B2-2321-4FA3-BAA2-D98046C5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DAB9-A9B5-4808-B425-5361B28D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E06A-BC68-4F89-9E46-48F4532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D5A41-A15F-4568-BDB4-B114229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9ECC-8DA7-440F-BA1A-4654627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D7BF-75F7-40B4-8D99-6434554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3242A-E823-498E-9194-10B4688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DBC4-1B5A-487F-9425-EB5FBFE0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88A-F139-469F-A96D-289F4879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7E26-D3AC-42F6-A4BE-44191DA0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06C7-73D0-47C3-B593-FD8448C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39BC-0A78-4C5E-9CCF-AF57AA5C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A3650-6D09-41B0-A2CE-AD5E68A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7554-4F36-4E65-9E49-19D5880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581F-8933-431A-8255-C6903A2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E7F6-9D3D-47A9-B58A-4270987A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9BBD5-BD20-436A-9172-7199495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6022-9386-47AC-91C4-A2A552B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AAF3-70C4-4692-AC0E-6FAA806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B45-482A-4CCE-BF50-7C38109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0947-801B-4751-AF01-F06CAB4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002E3-C159-49F8-A106-B963AA00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BFAE0-517E-44E5-9934-17C02A96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EFA-2C68-4E18-9CE2-89F2DD2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84E-D3BA-4F12-B9BA-8DA3CEB6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0D38-28DD-4492-AC03-F3D78283E7F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6E3F-527C-4FD3-9872-237E95C3480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D1D-EB06-485D-A054-C56283E8793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BBF-2EEE-45ED-A394-344CAE683F3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8C2-A97F-41D0-9903-9D193258B23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ECA-3190-4093-8EF8-224775D1FB0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508960" cy="1272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42640" y="1643040"/>
            <a:ext cx="671508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ь детей анализировать текст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учать сравнивать текст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создать условия для развития внимания, памяти, воображения,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8"/>
          <p:cNvSpPr/>
          <p:nvPr/>
        </p:nvSpPr>
        <p:spPr>
          <a:xfrm>
            <a:off x="5715000" y="4357800"/>
            <a:ext cx="2786040" cy="500040"/>
          </a:xfrm>
          <a:prstGeom prst="rect">
            <a:avLst/>
          </a:prstGeom>
          <a:solidFill>
            <a:srgbClr val="92d050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7"/>
          <p:cNvSpPr/>
          <p:nvPr/>
        </p:nvSpPr>
        <p:spPr>
          <a:xfrm>
            <a:off x="3143160" y="507204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e5c6d5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6"/>
          <p:cNvSpPr/>
          <p:nvPr/>
        </p:nvSpPr>
        <p:spPr>
          <a:xfrm>
            <a:off x="785880" y="442908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de6c36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2000160" y="3429000"/>
            <a:ext cx="4357800" cy="714240"/>
          </a:xfrm>
          <a:prstGeom prst="rect">
            <a:avLst/>
          </a:prstGeom>
          <a:solidFill>
            <a:srgbClr val="92d050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2428920" y="2857680"/>
            <a:ext cx="3286080" cy="357120"/>
          </a:xfrm>
          <a:prstGeom prst="rect">
            <a:avLst/>
          </a:prstGeom>
          <a:solidFill>
            <a:srgbClr val="e5c6d5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2571840" y="2143080"/>
            <a:ext cx="2857320" cy="428760"/>
          </a:xfrm>
          <a:prstGeom prst="rect">
            <a:avLst/>
          </a:prstGeom>
          <a:solidFill>
            <a:srgbClr val="de6c36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рево предсказан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Что будет дальше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Чем закончится рассказ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Что может произой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ассказе с таким названием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ряд-1 вопрос                                              3 ряд– 3 вопро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ряд-2 вопро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9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робел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 испугалс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арля – тонкая ткан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позаранку – рано утр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ение учителем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мальчик вёл себя в классе?  ( 1 остановк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сматривание  иллюстрации на с. 141. Беседа 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ней изображён?  Где находятся герои? Что вы скажете о мальчике? Об учительнице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ение учениками по «цепочке»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ница приводит Артёма к себе домой. ( 2 остановк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е «жужжащее» чтение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рагмент текст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Апполинария Николаевна заставила Артёма учить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учился ли Артём чему- нибудь в первый школьный день? Какие первые слова написал мальчик? Почему учительница дала для написания именно эти слова – «мама» и «Родина». Чем закончился рассказ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3" name="Заголовок 2" descr=""/>
          <p:cNvPicPr/>
          <p:nvPr/>
        </p:nvPicPr>
        <p:blipFill>
          <a:blip r:embed="rId1"/>
          <a:stretch/>
        </p:blipFill>
        <p:spPr>
          <a:xfrm>
            <a:off x="96840" y="281160"/>
            <a:ext cx="84978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457200" y="2286000"/>
            <a:ext cx="78296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Раз, два, прыгай, мячи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Раз, два, и мы поскаче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Мальчики и девоч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ыгают, как мячи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4"/>
          <p:cNvSpPr txBox="1"/>
          <p:nvPr/>
        </p:nvSpPr>
        <p:spPr>
          <a:xfrm>
            <a:off x="1619280" y="341280"/>
            <a:ext cx="57546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а.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4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G:\SDC10309.JPG"/>
          <p:cNvPicPr/>
          <p:nvPr/>
        </p:nvPicPr>
        <p:blipFill>
          <a:blip r:embed="rId3"/>
          <a:stretch/>
        </p:blipFill>
        <p:spPr>
          <a:xfrm>
            <a:off x="0" y="-666720"/>
            <a:ext cx="9144000" cy="87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в парах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кластер – описание Артём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2" name="Заголовок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23" name="Овал 3"/>
          <p:cNvSpPr/>
          <p:nvPr/>
        </p:nvSpPr>
        <p:spPr>
          <a:xfrm>
            <a:off x="4143240" y="3571920"/>
            <a:ext cx="1357560" cy="1000080"/>
          </a:xfrm>
          <a:prstGeom prst="ellipse">
            <a:avLst/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4"/>
          <p:cNvSpPr/>
          <p:nvPr/>
        </p:nvSpPr>
        <p:spPr>
          <a:xfrm>
            <a:off x="5786280" y="3214800"/>
            <a:ext cx="2143440" cy="714240"/>
          </a:xfrm>
          <a:prstGeom prst="ellipse">
            <a:avLst/>
          </a:prstGeom>
          <a:solidFill>
            <a:srgbClr val="ac66bb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5"/>
          <p:cNvSpPr/>
          <p:nvPr/>
        </p:nvSpPr>
        <p:spPr>
          <a:xfrm>
            <a:off x="4357800" y="5072040"/>
            <a:ext cx="2500200" cy="714240"/>
          </a:xfrm>
          <a:prstGeom prst="ellipse">
            <a:avLst/>
          </a:prstGeom>
          <a:solidFill>
            <a:srgbClr val="0070c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6"/>
          <p:cNvSpPr/>
          <p:nvPr/>
        </p:nvSpPr>
        <p:spPr>
          <a:xfrm>
            <a:off x="5572080" y="4357800"/>
            <a:ext cx="2357640" cy="714240"/>
          </a:xfrm>
          <a:prstGeom prst="ellipse">
            <a:avLst/>
          </a:prstGeom>
          <a:solidFill>
            <a:srgbClr val="92d05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7"/>
          <p:cNvSpPr/>
          <p:nvPr/>
        </p:nvSpPr>
        <p:spPr>
          <a:xfrm>
            <a:off x="1500120" y="4714920"/>
            <a:ext cx="2286000" cy="714240"/>
          </a:xfrm>
          <a:prstGeom prst="ellipse">
            <a:avLst/>
          </a:prstGeom>
          <a:solidFill>
            <a:srgbClr val="5a2c64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9"/>
          <p:cNvSpPr/>
          <p:nvPr/>
        </p:nvSpPr>
        <p:spPr>
          <a:xfrm>
            <a:off x="1500120" y="3429000"/>
            <a:ext cx="2071800" cy="714240"/>
          </a:xfrm>
          <a:prstGeom prst="ellipse">
            <a:avLst/>
          </a:prstGeom>
          <a:solidFill>
            <a:srgbClr val="cda3d6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10"/>
          <p:cNvSpPr/>
          <p:nvPr/>
        </p:nvSpPr>
        <p:spPr>
          <a:xfrm>
            <a:off x="3857760" y="2428920"/>
            <a:ext cx="2500200" cy="714240"/>
          </a:xfrm>
          <a:prstGeom prst="ellipse">
            <a:avLst/>
          </a:prstGeom>
          <a:solidFill>
            <a:srgbClr val="595959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2"/>
          <p:cNvSpPr/>
          <p:nvPr/>
        </p:nvSpPr>
        <p:spPr>
          <a:xfrm flipV="1">
            <a:off x="5286240" y="3571920"/>
            <a:ext cx="500040" cy="285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4"/>
          <p:cNvSpPr/>
          <p:nvPr/>
        </p:nvSpPr>
        <p:spPr>
          <a:xfrm flipH="1" flipV="1">
            <a:off x="5071680" y="4429080"/>
            <a:ext cx="500040" cy="285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6"/>
          <p:cNvSpPr/>
          <p:nvPr/>
        </p:nvSpPr>
        <p:spPr>
          <a:xfrm flipH="1" flipV="1">
            <a:off x="4785840" y="4571640"/>
            <a:ext cx="82260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8"/>
          <p:cNvSpPr/>
          <p:nvPr/>
        </p:nvSpPr>
        <p:spPr>
          <a:xfrm flipV="1">
            <a:off x="3451320" y="4425840"/>
            <a:ext cx="890640" cy="393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20"/>
          <p:cNvSpPr/>
          <p:nvPr/>
        </p:nvSpPr>
        <p:spPr>
          <a:xfrm>
            <a:off x="3571920" y="3786120"/>
            <a:ext cx="714240" cy="285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22"/>
          <p:cNvSpPr/>
          <p:nvPr/>
        </p:nvSpPr>
        <p:spPr>
          <a:xfrm flipH="1">
            <a:off x="4500720" y="3143160"/>
            <a:ext cx="60768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8" name="Содержимое 1"/>
          <p:cNvSpPr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4"/>
          <p:cNvSpPr/>
          <p:nvPr/>
        </p:nvSpPr>
        <p:spPr>
          <a:xfrm>
            <a:off x="4143240" y="3571920"/>
            <a:ext cx="1357560" cy="1000080"/>
          </a:xfrm>
          <a:prstGeom prst="ellipse">
            <a:avLst/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5"/>
          <p:cNvSpPr/>
          <p:nvPr/>
        </p:nvSpPr>
        <p:spPr>
          <a:xfrm>
            <a:off x="5643720" y="3214800"/>
            <a:ext cx="2286000" cy="714240"/>
          </a:xfrm>
          <a:prstGeom prst="ellipse">
            <a:avLst/>
          </a:prstGeom>
          <a:solidFill>
            <a:srgbClr val="ac66bb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ня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6"/>
          <p:cNvSpPr/>
          <p:nvPr/>
        </p:nvSpPr>
        <p:spPr>
          <a:xfrm>
            <a:off x="4357800" y="5072040"/>
            <a:ext cx="2571480" cy="714240"/>
          </a:xfrm>
          <a:prstGeom prst="ellipse">
            <a:avLst/>
          </a:prstGeom>
          <a:solidFill>
            <a:srgbClr val="0070c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7"/>
          <p:cNvSpPr/>
          <p:nvPr/>
        </p:nvSpPr>
        <p:spPr>
          <a:xfrm>
            <a:off x="5572080" y="4357800"/>
            <a:ext cx="2571840" cy="714240"/>
          </a:xfrm>
          <a:prstGeom prst="ellipse">
            <a:avLst/>
          </a:prstGeom>
          <a:solidFill>
            <a:srgbClr val="92d05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кой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8"/>
          <p:cNvSpPr/>
          <p:nvPr/>
        </p:nvSpPr>
        <p:spPr>
          <a:xfrm>
            <a:off x="1143000" y="4786200"/>
            <a:ext cx="2643120" cy="714600"/>
          </a:xfrm>
          <a:prstGeom prst="ellipse">
            <a:avLst/>
          </a:prstGeom>
          <a:solidFill>
            <a:srgbClr val="5a2c64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дум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9"/>
          <p:cNvSpPr/>
          <p:nvPr/>
        </p:nvSpPr>
        <p:spPr>
          <a:xfrm>
            <a:off x="785880" y="3429000"/>
            <a:ext cx="2786040" cy="714240"/>
          </a:xfrm>
          <a:prstGeom prst="ellipse">
            <a:avLst/>
          </a:prstGeom>
          <a:solidFill>
            <a:srgbClr val="cda3d6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бо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10"/>
          <p:cNvSpPr/>
          <p:nvPr/>
        </p:nvSpPr>
        <p:spPr>
          <a:xfrm>
            <a:off x="3929040" y="2428920"/>
            <a:ext cx="2357640" cy="714240"/>
          </a:xfrm>
          <a:prstGeom prst="ellipse">
            <a:avLst/>
          </a:prstGeom>
          <a:solidFill>
            <a:srgbClr val="40404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яз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1"/>
          <p:cNvSpPr/>
          <p:nvPr/>
        </p:nvSpPr>
        <p:spPr>
          <a:xfrm flipV="1">
            <a:off x="5143680" y="3571920"/>
            <a:ext cx="500040" cy="285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2"/>
          <p:cNvSpPr/>
          <p:nvPr/>
        </p:nvSpPr>
        <p:spPr>
          <a:xfrm flipH="1" flipV="1">
            <a:off x="5071680" y="4429080"/>
            <a:ext cx="500040" cy="285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 flipV="1">
            <a:off x="4786200" y="4571640"/>
            <a:ext cx="85752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4"/>
          <p:cNvSpPr/>
          <p:nvPr/>
        </p:nvSpPr>
        <p:spPr>
          <a:xfrm flipV="1">
            <a:off x="3398760" y="4425840"/>
            <a:ext cx="943200" cy="465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5"/>
          <p:cNvSpPr/>
          <p:nvPr/>
        </p:nvSpPr>
        <p:spPr>
          <a:xfrm>
            <a:off x="3571920" y="3786120"/>
            <a:ext cx="714240" cy="2858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6"/>
          <p:cNvSpPr/>
          <p:nvPr/>
        </p:nvSpPr>
        <p:spPr>
          <a:xfrm flipH="1">
            <a:off x="4572000" y="3143160"/>
            <a:ext cx="53640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 синквейн-описание ма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ама – её им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2 прилагательных - её описа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3 глагола- её действ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Фраза по тексту из 3-4 сл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лово-синоним, как выво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 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ама – Евдокия Алексеев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ботливая, добрая, любяща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ровожает, беспокоится, радует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_ Ну, иди, иди, Артёмушка! Учительницу там слушайся, она вместо меня будет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одная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ак вы думаете, почему автор именно так закончил эту историю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Что вам понравилось на уроке? Что не понравилос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сли бы тебя попросили определить основную мысль рассказа, что бы ты ответил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любовь и  уважение к матер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 учителю,  интерес к учёбе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 учить видеть позицию автора, прогнозировать события, отвечать на вопросы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п урока: работа с художественным текстом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96840" y="281160"/>
            <a:ext cx="84978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.139 – 143 выразительно чита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мини-сочин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(5-7 предложений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т лица Артёма или от лица других героев (автора, мамы, учительницы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е забудьте передать чувства и переживания герое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311040" y="291960"/>
            <a:ext cx="8425080" cy="1860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28760" y="242856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риёмы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чтение с остановками, обращение к личному опыту учащихся, прогнозирование по названию, дерево предсказаний, кластер, синквейн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тение без размышления –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ое занятие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а – ра – ра – идёт в школу детв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ок – рок - рок – начинается ур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ы – ры – ры – в классе много детво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у – ру – ру – мы затеяли игру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ир освещается солнцем, а человек знание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то много читает, тот много знает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т лучшего дружка, чем родная матуш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57120" y="1428480"/>
            <a:ext cx="4786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дился и провёл детские годы в Воронеж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ец работал на железной дороге машинистом, слесарем, мать – домохозяйка. Он  поступает в церковно-приходскую школу, затем учится в городской 4-классной школе, работает  помощником машиниста на локомобиле, литейщиком на трубочном заводе,  в воронежских мастерских. Участвовал в гражданской войне в качестве фронтового корреспондента. Во время Великой Отечественной войны писатель в звании капитана служит военным корреспондентом газеты «Красная звезда». Он пишет о суровой действительности  которой живёт простой человек. Для детей он написал рассказы «Неизвестный цветок», «Корова», «Сухой хлеб»и другие, вошедшие в сборник «Июльская гроза»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латонов умер  5 января 1951 в Москве. Имя писателя носят улица, библиотека, гимназия, литературная премия, электропоезд в Воронеже, установлен памятник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6" name="Заголовок 2" descr=""/>
          <p:cNvPicPr/>
          <p:nvPr/>
        </p:nvPicPr>
        <p:blipFill>
          <a:blip r:embed="rId1"/>
          <a:stretch/>
        </p:blipFill>
        <p:spPr>
          <a:xfrm>
            <a:off x="360360" y="139680"/>
            <a:ext cx="8332920" cy="1360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:\Картинки для пр\Платонов,_Андрей_Платонович.jpg"/>
          <p:cNvPicPr/>
          <p:nvPr/>
        </p:nvPicPr>
        <p:blipFill>
          <a:blip r:embed="rId2"/>
          <a:stretch/>
        </p:blipFill>
        <p:spPr>
          <a:xfrm>
            <a:off x="5286240" y="13572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произведение, с которым вы познакомились на прошлом уроке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какому литературному жанру оно относится? Почему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 ком этот рассказ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скажите как Артём собирался в школу. Почему он не хотел туда идти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о ролям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иалог « Мама провожает сына в школу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вы можете рассказать об отношениях мамы и сына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ой наказ дала мама Артёму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ие чувства испытал мальчик и его мама?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о заданию 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приключилось с Артёмом по дороге в школу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го он увидел в школе?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9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Как вы думаете, о ком или о чем пойдет речь дальше  в этом рассказе?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 Сегодня мы продолжим знакомиться с рассказом. 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- Мы прочитаем текст, делая остановки, и попытаемся понять, почему автор дал такое название рассказу, побеседуем и попробуем определить основную мысль рассказ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00:51Z</dcterms:created>
  <dc:creator>Дмитрий</dc:creator>
  <dc:description/>
  <dc:language>en-US</dc:language>
  <cp:lastModifiedBy>Admin</cp:lastModifiedBy>
  <dcterms:modified xsi:type="dcterms:W3CDTF">2013-09-29T18:43:45Z</dcterms:modified>
  <cp:revision>88</cp:revision>
  <dc:subject/>
  <dc:title>А. П. Платонов «Ещё мама».</dc:title>
</cp:coreProperties>
</file>