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9EB-AB06-478E-AEF7-7FEF380E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C2E-C2D6-46D1-A8BD-E8D13F2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74E-D908-4F0F-9467-FBFC4FAF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5B1-C4B1-4A52-900D-2499A5F3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B54-F89B-4AB9-A758-A5AEAC1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54A-6BEC-4BBC-9DF2-AA8DF1B2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D62-64AC-4C03-8E7E-4EFFE93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E25-8B00-48FE-9C92-E7532B5D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21A-41C9-46E6-AF53-8F25594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F47-339E-4129-9106-B6BF4A2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FFA-1E22-4ADA-B31B-B39C82F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B4D-7A6C-4C8D-8908-5AA7457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3E5D-F9AC-4E4D-811D-6FE0C6843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.А.Есенин – певец русской приро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ртынова Л.Б. ГБОУ Гимназия №642 «Земля и Вселенна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асилеостровского рай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5857920"/>
            <a:ext cx="8143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Город Ряза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вид Рязани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гей Александрович Есен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10.1895 г. – 28.12.1925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PINKI\Desktop\открытый урок\250px-Sergey_Yesenin.jpg"/>
          <p:cNvPicPr/>
          <p:nvPr/>
        </p:nvPicPr>
        <p:blipFill>
          <a:blip r:embed="rId1"/>
          <a:stretch/>
        </p:blipFill>
        <p:spPr>
          <a:xfrm>
            <a:off x="2428920" y="357120"/>
            <a:ext cx="4786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alibri"/>
              </a:rPr>
              <a:t>Дом Есениных </a:t>
            </a:r>
            <a:br>
              <a:rPr sz="4000"/>
            </a:br>
            <a:r>
              <a:rPr b="1" lang="ru-RU" sz="4000" spc="-1" strike="noStrike">
                <a:solidFill>
                  <a:srgbClr val="77933c"/>
                </a:solidFill>
                <a:latin typeface="Calibri"/>
              </a:rPr>
              <a:t>в селе Константин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дом есенина.jpg"/>
          <p:cNvPicPr/>
          <p:nvPr/>
        </p:nvPicPr>
        <p:blipFill>
          <a:blip r:embed="rId1"/>
          <a:stretch/>
        </p:blipFill>
        <p:spPr>
          <a:xfrm>
            <a:off x="571680" y="428760"/>
            <a:ext cx="8143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окно в избе.jpg"/>
          <p:cNvPicPr/>
          <p:nvPr/>
        </p:nvPicPr>
        <p:blipFill>
          <a:blip r:embed="rId1"/>
          <a:stretch/>
        </p:blipFill>
        <p:spPr>
          <a:xfrm>
            <a:off x="500040" y="428760"/>
            <a:ext cx="82152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вид из окна.jpg"/>
          <p:cNvPicPr/>
          <p:nvPr/>
        </p:nvPicPr>
        <p:blipFill>
          <a:blip r:embed="rId1"/>
          <a:stretch/>
        </p:blipFill>
        <p:spPr>
          <a:xfrm>
            <a:off x="357120" y="368280"/>
            <a:ext cx="8429760" cy="6121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запотевше окно.jpg"/>
          <p:cNvPicPr/>
          <p:nvPr/>
        </p:nvPicPr>
        <p:blipFill>
          <a:blip r:embed="rId2"/>
          <a:stretch/>
        </p:blipFill>
        <p:spPr>
          <a:xfrm>
            <a:off x="357120" y="365040"/>
            <a:ext cx="850104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рёза.jpg"/>
          <p:cNvPicPr/>
          <p:nvPr/>
        </p:nvPicPr>
        <p:blipFill>
          <a:blip r:embed="rId1"/>
          <a:stretch/>
        </p:blipFill>
        <p:spPr>
          <a:xfrm>
            <a:off x="1643040" y="214200"/>
            <a:ext cx="58579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Есенин Поет зима, аукает...(слайд - шоу)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Users\PINKI\Desktop\открытый урок\0_fb37_34e25e99_XL.jpg"/>
          <p:cNvPicPr/>
          <p:nvPr/>
        </p:nvPicPr>
        <p:blipFill>
          <a:blip r:embed="rId1"/>
          <a:stretch/>
        </p:blipFill>
        <p:spPr>
          <a:xfrm>
            <a:off x="1714680" y="95400"/>
            <a:ext cx="57150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0:54:20Z</dcterms:created>
  <dc:creator>PINKI</dc:creator>
  <dc:description/>
  <dc:language>en-US</dc:language>
  <cp:lastModifiedBy>PINKI</cp:lastModifiedBy>
  <dcterms:modified xsi:type="dcterms:W3CDTF">2013-09-22T13:05:50Z</dcterms:modified>
  <cp:revision>19</cp:revision>
  <dc:subject/>
  <dc:title>Город Рязань</dc:title>
</cp:coreProperties>
</file>