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BDFC1-B1FD-4213-AC02-C75970301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D32D6-9E55-4A18-B384-4303D3C8A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B8C1F-92DA-406B-B7F6-57A42FEA6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4DF25-D1C1-476C-8374-B335E84C7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7C655-B541-4302-9D85-4FE543C08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9E7C7-3B5C-4FDE-BE56-43F43BB4C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9B52E-CDD4-4D64-B89A-71E3DE812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5E944-0CB9-4DDB-A1B0-A0FC32C60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FE9B9-74B7-41C6-9A03-4095C3310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5D38C-2158-465D-A990-A7ACF6FD0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53BC4-5FE5-426B-A4FC-C7CD5817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B0864-5CAA-4241-AA47-E9B4C3711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6143E-3AFF-4FD6-A66F-AAC69B4A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B977A-A65E-4038-A125-3465FA75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FC7B4-4BCE-4984-9376-359ED6685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31C8C-7E14-429E-833C-D31902861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161F4-C4C4-4168-A57B-8051CBCF4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60EA8-F507-4822-979F-58776FB74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D21DD-F895-4A81-9502-B555D8B77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37952-FCF2-4C16-A505-7EE77DC5C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084E3-D9FB-4B3F-BEDD-8B48DF835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270D1-D18F-4040-B850-D4A12F26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BCBFC-B1D4-427F-836C-CD264BBA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F97BE-76E3-41BC-8499-AD2214D6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2C0D2-7D3E-4BC8-A727-961AAE35BFD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A5E44-D3A4-415B-9A7F-EB8E73E8ECC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4825800" cy="58341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858920" y="1600200"/>
            <a:ext cx="35989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                          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ПОЮЩИЙ НЕРВ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ЭПОХИ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                              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348000" y="260280"/>
            <a:ext cx="537840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62120" y="333360"/>
            <a:ext cx="791352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4321080" cy="45306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932360" y="3068640"/>
            <a:ext cx="399564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835280" y="260280"/>
            <a:ext cx="559908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031840" y="260280"/>
            <a:ext cx="592488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211640" y="260280"/>
            <a:ext cx="44640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031840" y="333360"/>
            <a:ext cx="606924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539892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95280" y="239760"/>
            <a:ext cx="6264360" cy="66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851280" y="404640"/>
            <a:ext cx="4805280" cy="55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9" name="Picture 7" descr="1966"/>
          <p:cNvPicPr/>
          <p:nvPr/>
        </p:nvPicPr>
        <p:blipFill>
          <a:blip r:embed="rId1"/>
          <a:stretch/>
        </p:blipFill>
        <p:spPr>
          <a:xfrm>
            <a:off x="611280" y="0"/>
            <a:ext cx="8064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692360" y="260280"/>
            <a:ext cx="597528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11280" y="47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512928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900000" y="54936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979640" y="333360"/>
            <a:ext cx="66960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987640" y="333360"/>
            <a:ext cx="58356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523880" y="189000"/>
            <a:ext cx="6793200" cy="62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5184720" cy="38102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4932360" y="3068640"/>
            <a:ext cx="40640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85840" y="260280"/>
            <a:ext cx="8572320" cy="602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4286160" cy="27050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1042920" y="3789360"/>
            <a:ext cx="7053480" cy="23763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5148360" y="333360"/>
            <a:ext cx="340812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11" name="Picture 2" descr="C:\Users\хозяйка\Desktop\Новая папка\05lit005.bmp"/>
          <p:cNvPicPr/>
          <p:nvPr/>
        </p:nvPicPr>
        <p:blipFill>
          <a:blip r:embed="rId1"/>
          <a:stretch/>
        </p:blipFill>
        <p:spPr>
          <a:xfrm>
            <a:off x="3048120" y="0"/>
            <a:ext cx="555624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548640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124000" y="260280"/>
            <a:ext cx="4969080" cy="60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238400" y="333360"/>
            <a:ext cx="666720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476360" y="260280"/>
            <a:ext cx="60483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776840" cy="42004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932360" y="2997360"/>
            <a:ext cx="376704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11640" cy="3745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0002"/>
          <p:cNvPicPr/>
          <p:nvPr/>
        </p:nvPicPr>
        <p:blipFill>
          <a:blip r:embed="rId2"/>
          <a:stretch/>
        </p:blipFill>
        <p:spPr>
          <a:xfrm>
            <a:off x="4140360" y="2133720"/>
            <a:ext cx="46908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7" name="Picture 3" descr="bild039[1]"/>
          <p:cNvPicPr/>
          <p:nvPr/>
        </p:nvPicPr>
        <p:blipFill>
          <a:blip r:embed="rId1"/>
          <a:stretch/>
        </p:blipFill>
        <p:spPr>
          <a:xfrm>
            <a:off x="4500720" y="836640"/>
            <a:ext cx="4319280" cy="59054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4888_x_b138ee9f00_2"/>
          <p:cNvPicPr/>
          <p:nvPr/>
        </p:nvPicPr>
        <p:blipFill>
          <a:blip r:embed="rId2"/>
          <a:stretch/>
        </p:blipFill>
        <p:spPr>
          <a:xfrm>
            <a:off x="250920" y="115920"/>
            <a:ext cx="3924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995640" y="260280"/>
            <a:ext cx="467532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0T08:08:48Z</dcterms:created>
  <dc:creator>Teacher</dc:creator>
  <dc:description/>
  <dc:language>en-US</dc:language>
  <cp:lastModifiedBy>Teacher</cp:lastModifiedBy>
  <dcterms:modified xsi:type="dcterms:W3CDTF">2012-01-25T07:30:02Z</dcterms:modified>
  <cp:revision>6</cp:revision>
  <dc:subject/>
  <dc:title>Слайд 1</dc:title>
</cp:coreProperties>
</file>