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B2C-A531-497C-8813-85425B33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B41-35FA-4BD7-AB9F-5FDF7404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926-A16B-45B6-B26C-919CFEDC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C12-0F22-4316-AB3F-D3D51EDE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3265-B4F6-4E6B-8953-F0D104AB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6A4A-F704-428F-95EE-7EC8D633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0B22-6569-49F7-9D4C-215056B7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DA8B-DFDE-430E-A30B-40E2A2D3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61F5-63F8-4AAB-9C1B-CC9A2D0A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8EAE-B942-45B3-9BB7-AFD3235F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9161-2F4F-4039-8C1F-1F847F72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2A1-05D0-4EE7-B703-DA69E436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82D0-DDD8-42C4-BA02-295CAE78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A56A-BA22-49DB-85F9-9DB24F20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899F-CC44-448F-B952-8D6B93AD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A1B7-25E2-41FA-BED1-13BF27C4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19E4-80F6-4B58-9EDD-631DD2A6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6AD-C987-4696-87A3-48C96F2E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FD1-74FC-43CC-B0BD-C928684B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0F3-891A-4FEC-AD8A-B77DBBBF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750-6599-45CD-86B7-E7120C4C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87A-250D-4841-A4AC-7E0D750B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0DD-67A3-4521-900C-FC1A2BE6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DD1-D7DE-4EE7-8135-FEFABA48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76A6-6850-43A2-BB11-CCB94CAC8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99DF-280F-4EC6-82D4-5D372EB31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роверочная работа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«Органоиды клетки»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372000" y="5516280"/>
            <a:ext cx="2771640" cy="9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икитенко О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читель биолог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БОУ СОШ №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. Татарс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41800" y="260280"/>
            <a:ext cx="3689280" cy="4824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4176720" cy="322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4000" y="260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4711" t="0" r="21100" b="0"/>
          <a:stretch/>
        </p:blipFill>
        <p:spPr>
          <a:xfrm>
            <a:off x="4643280" y="549360"/>
            <a:ext cx="4070520" cy="5622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23943" t="0" r="28170" b="0"/>
          <a:stretch/>
        </p:blipFill>
        <p:spPr>
          <a:xfrm>
            <a:off x="611280" y="1125360"/>
            <a:ext cx="3700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516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62200" y="571680"/>
            <a:ext cx="381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12987" t="12744" r="24791" b="3922"/>
          <a:stretch/>
        </p:blipFill>
        <p:spPr>
          <a:xfrm>
            <a:off x="1547640" y="620640"/>
            <a:ext cx="5689800" cy="547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189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16501" r="0" b="0"/>
          <a:stretch/>
        </p:blipFill>
        <p:spPr>
          <a:xfrm>
            <a:off x="1908000" y="2060640"/>
            <a:ext cx="4884840" cy="290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54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761080" cy="4110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4360" y="47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2960" y="619200"/>
            <a:ext cx="7858080" cy="5619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765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040360" cy="3552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404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03640" y="620640"/>
            <a:ext cx="3168720" cy="2408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9640" y="47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0" t="22003" r="0" b="0"/>
          <a:stretch/>
        </p:blipFill>
        <p:spPr>
          <a:xfrm>
            <a:off x="611280" y="3789360"/>
            <a:ext cx="5952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4473720" cy="2651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47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4000" y="3805200"/>
            <a:ext cx="41036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19767" t="0" r="21271" b="0"/>
          <a:stretch/>
        </p:blipFill>
        <p:spPr>
          <a:xfrm>
            <a:off x="2700360" y="620640"/>
            <a:ext cx="398160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9640" y="765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3:36:34Z</dcterms:created>
  <dc:creator>СеРгЕй</dc:creator>
  <dc:description/>
  <dc:language>en-US</dc:language>
  <cp:lastModifiedBy>СеРгЕй</cp:lastModifiedBy>
  <dcterms:modified xsi:type="dcterms:W3CDTF">2013-09-29T14:10:00Z</dcterms:modified>
  <cp:revision>8</cp:revision>
  <dc:subject/>
  <dc:title>Проверочная работа  «Органоиды клетки».</dc:title>
</cp:coreProperties>
</file>