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F74-772D-4B27-AECF-62499C11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C86-0CAB-46E0-9323-051D67BB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9BF-FEBE-4995-A00F-DF456157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F9A-E8AE-45AD-9024-B4821A70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6DA5-C436-48E6-8C1D-E43EBC9D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6893-92E2-4489-ACF2-1E6D23A6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77E7-6D7B-4F3B-8491-B89F40C9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1C0-59A4-42E8-AB4D-CB54CC3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544-2A30-4C7B-A574-590EE20D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A427-4A24-4E46-BC07-6C96DE6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454-8E27-4FBA-9487-EDC197B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E0A-BE4C-4E37-889C-69DE3194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9FC8-F820-46DB-AF8F-C3D84DD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516-1867-4C2B-94B4-B1EA6AB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3962-7592-417B-B61C-5378923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098-B521-4D53-8317-4476462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22C2-E1B3-4BC1-836B-0B4481F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079-3B18-49DB-8457-21AA1BC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C45-5F1E-454B-A4B8-750C7C7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10F-369F-4B30-99C2-F5C88C1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E12-C51E-481A-A6E5-DC41E82B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36-E00D-41D3-AAC2-834A9FC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7AE-CA96-44FD-A0C9-F486CE9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DF4-997F-4168-8182-82426FE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29B-00FB-4896-8D5F-FC451CD0A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6C24-0C2D-4355-9407-6A7109E8A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УТЕШЕСТВИЕ ПО ПРОИЗВЕДЕНИЯМ С.Я.МАРША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Рисунок 8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2763720" cy="353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19480" y="58053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0000"/>
                </a:solidFill>
                <a:latin typeface="Tahoma"/>
              </a:rPr>
              <a:t>С. Я. Маршак (1887 – 1964)</a:t>
            </a:r>
            <a:br>
              <a:rPr sz="1800"/>
            </a:br>
            <a:r>
              <a:rPr b="1" lang="en-US" sz="1800" spc="-1" strike="noStrike">
                <a:solidFill>
                  <a:srgbClr val="400000"/>
                </a:solidFill>
                <a:latin typeface="Tahoma"/>
              </a:rPr>
              <a:t>125 лет со дня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895640" cy="507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11940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4044960" cy="323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3228840" cy="360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346212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64960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429000" cy="4762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851280" y="2852640"/>
            <a:ext cx="25765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07656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3600720" cy="439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556000" y="3068640"/>
            <a:ext cx="28540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820960" cy="359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84720" y="189000"/>
            <a:ext cx="2749680" cy="359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348000" y="2637000"/>
            <a:ext cx="2735280" cy="35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738600" cy="2878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3019680" cy="428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771640" y="2997360"/>
            <a:ext cx="2760840" cy="35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14440" y="54612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2"/>
          <a:stretch/>
        </p:blipFill>
        <p:spPr>
          <a:xfrm>
            <a:off x="4041720" y="2852640"/>
            <a:ext cx="183852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 rot="571200">
            <a:off x="5609880" y="270504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4"/>
          <a:stretch/>
        </p:blipFill>
        <p:spPr>
          <a:xfrm rot="20790600">
            <a:off x="585720" y="2705040"/>
            <a:ext cx="3533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Горизонтальный свиток 5"/>
          <p:cNvSpPr/>
          <p:nvPr/>
        </p:nvSpPr>
        <p:spPr>
          <a:xfrm>
            <a:off x="4067280" y="4437000"/>
            <a:ext cx="4608360" cy="17528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12" descr="http://s-marshak.ru/autographs/nadpis/nadpis15_1.jpg"/>
          <p:cNvPicPr/>
          <p:nvPr/>
        </p:nvPicPr>
        <p:blipFill>
          <a:blip r:embed="rId2"/>
          <a:stretch/>
        </p:blipFill>
        <p:spPr>
          <a:xfrm>
            <a:off x="468360" y="33336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34545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64080" cy="540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31812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4081320" cy="468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3721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584520" cy="532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766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14" y="9773"/>
                </a:moveTo>
                <a:lnTo>
                  <a:pt x="7714" y="97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320040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3476880" cy="4677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34765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238560" cy="428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3803760" cy="285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39:48Z</dcterms:created>
  <dc:creator>user</dc:creator>
  <dc:description/>
  <dc:language>en-US</dc:language>
  <cp:lastModifiedBy>user</cp:lastModifiedBy>
  <dcterms:modified xsi:type="dcterms:W3CDTF">2013-03-25T12:24:00Z</dcterms:modified>
  <cp:revision>6</cp:revision>
  <dc:subject/>
  <dc:title>ПУТЕШЕСТВИЕ ПО ПРОИЗВЕДЕНИЯМ С.Я.МАРШАКА</dc:title>
</cp:coreProperties>
</file>