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jpeg" ContentType="image/jpeg"/>
  <Override PartName="/ppt/media/chimes.wav" ContentType="audio/x-wav"/>
  <Override PartName="/ppt/media/image3.wmf" ContentType="image/x-wmf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1106-0867-4CB1-82EE-209A81DD3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EA50-C859-4E7F-B6FE-DEFE32418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383E87-D299-4F55-87A1-448D64665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40C579-0C6F-403A-9D94-E7F0E611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1657A3-FF80-44E1-AA3F-E11266D50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EA3914-7AE0-4F81-9CD7-4E04485F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3C4968-B875-4B84-8E69-0487173D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DA7A7D-D6EC-4E8D-9894-72195FA1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EA6CD3-6CA9-458C-A819-525316F5F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FDB11A-36FB-49CD-9993-588312210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48047C-845B-4CEA-9D80-2C05F1A4E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F76ECC-46EF-4EFE-9945-AEC0ABF9F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7A6B-9FE9-4710-878D-2740C13D6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075C65-FE07-412E-8C7D-5E2E1B4AF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3CB811-856E-43B7-891F-43C4B8AB5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A24F68-C890-4DC6-8C17-2C8A2FE42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A36C87-24C0-4AB9-8AC4-88F1305B9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BA5426-F6F5-4A9C-B2B7-A1283500A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6A1899-8509-4567-8859-F5CF43E4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3A4229-E9B4-4E11-80F7-84E949EF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30B1BC-E667-4F4F-B6AB-04B5EF71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D512F0-D557-415A-B24B-0FF698EF9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FCD7C7-7164-44FD-935F-4EB4C459E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CEB2-6A81-4EBB-9E88-B1C2F183C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AE3231-3DF3-417D-9B1B-F3656FC63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617C74-9D36-4E38-8715-442F2CBDC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A16E7C-9BA0-4B0D-980E-93C84C80B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118A20-5EA4-4940-A293-F9DFAE56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22CA41-DB00-44B8-B0D7-013F059B3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D1B1ED-5E0E-4B0E-8943-D2B6679BA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5287C9-1F9F-4CC0-BF00-7DAA4B114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01C8FB-9EFD-4DC8-8659-8FB36F21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605735-FE06-4FF9-8135-11DB26B0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732372-A6AF-4957-A64B-33BC1267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7EFAD6-A115-4403-94F1-B246EF367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0ACB0E-3709-4B74-9525-CC97E83AA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943859-8AC3-4A60-93FA-AC55FE839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89F27E-E879-4554-8146-DAB81083A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038C37-709B-4E4E-A7AB-B62CD2FDA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DA8241-830C-4D42-9F45-D4BD4B905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DFD263-DC94-4DCF-BD27-2F1890812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216E6B-5E42-4AD5-93F5-6D2A6239C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F90A6A-4751-489C-94C8-142FF7A75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3132F5-A759-44F8-A04F-C670A8B6C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CCCD9C-6083-475B-B87D-7F32E199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F54537-0AB0-4287-B05D-471152480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AAF598-B07C-442B-BEBD-B5E9A4E1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7A4F59-65BF-480A-BB41-01DF065E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868F29-F77C-4DF5-AC22-9D2325876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33F0DF-6312-406A-AD6E-3431CE150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92AF32-AF38-4178-A010-04B7C706B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72D8A35-F718-4B3A-8436-F2C932706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92BEEDA-F41E-42B4-AAA3-B61AC14EF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9228D82-D108-4B04-908E-D850B3EE3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75FF373-6019-49BA-B961-F17A2594D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270D730-5B4D-4F26-91F0-78E9A83D1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43EF20-ADAB-4566-B9E2-A92EEE21D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DA017F8-46AE-4F6A-802B-74B912E4A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5246500-6F64-441A-B794-1686B3EC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807314B-D8AE-49DE-8FC9-DA6451F8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061EFB1-5581-440F-B528-AC74CBFB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8C04F7B-C0CD-4D1F-A86B-E1F6CDB89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FEB32CE-D3EF-4059-8BF3-86A81D2F9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ADB1B6B-0E93-43C2-A98B-65AC28C33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E72DD3-E632-4037-8D17-30AF3BBAB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8572E7-45D3-4051-A051-85EB77711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B2BE18-C67E-462C-9CFC-D77292A66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4391B9-B557-43B8-B593-5EBE639C5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568720-934F-4FCB-8F82-A1093C9DF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542B52-F9D4-4498-AD8B-D9BCD662D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21ABDE-EEB3-4B83-B941-3A722D8D5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4297D3-8F27-45F7-B271-BAC95439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7CD4EB-E247-45F4-9CCE-FAAD6140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B23C8A-012F-4C9E-9AB5-9D53D840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DBE0B2-01EF-4F16-8501-F9FBB34C9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82547B-BA15-4AA4-9813-1CED86356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011E92-3DE8-4E80-A3CE-C1E9C590E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540318-B7FE-4D3E-BA89-3FF4535A3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BD02E2-2ABE-4924-B00A-43CA09934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8D4169-8426-4C81-B38F-1F0F4440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399F-63B9-4BA5-8B9F-3AA88C83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8E4F69-7356-49C4-BEB1-46777450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6AA437-FD8E-430C-B735-C6DA2B59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EEBF61-77B6-495A-A0D1-ADAC02DA9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CF5DD0-50AE-494D-AAFB-46EF451A6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2C2779-49C2-4E9A-A12E-49C15CAA3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8C63A-9754-44BA-9A80-DCB7249FC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6F40B-03AB-41E5-B613-A8D0189BA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35C18-D570-4F1B-9A06-8012C2098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6FBBA-B3B6-4275-8362-76B2AA485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9385D-5138-42EC-94BB-2DD66F32F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80E8-D728-47F1-A6B0-3DEC7B87A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7F68A-885A-4389-9C32-7662C4710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F777D-247C-4C1E-B4CC-1E154CD7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F4D73-C580-4FED-8082-5B7F590C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A0702-067C-4ECD-90FC-7D073AC0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F51C2-DF7A-4C13-913D-5F2573221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D4343-6018-480F-ACF0-A39B84539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0DC2E-ACE7-430F-AF4F-CCA38F8F9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C1B73-2374-48E2-A112-1E00D9229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619CD-52AB-461B-A408-5164A5B3D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4E8FA-3492-495E-9EF9-3F81A3166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1EBF-BA78-42B7-BE44-15E512B50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6DB70-4816-42BD-B913-069446B8E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8E6CE-FACD-4098-9C41-F66405EF2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115F8-2673-4362-8712-F573D6199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A235E-21E8-4810-B243-3181202E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7B484-DC81-4CD1-8358-07C9D48A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957FA-1A1D-4B93-AD70-E1D6C32D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1500B-03AB-4DEA-9D8F-EA5B28AED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4CDE9-A575-47B1-862A-316569FFF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0F7B0-EE90-412C-A8AF-36F4BA4C2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1CA60-055B-42D7-8802-3279579CF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31DE-EFD8-41B8-918E-F087E3EC5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EDCB4-1611-4CBB-8BE3-FFEA4FAB4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742AB-EAA9-4A64-AFB2-87B0975AC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A2D8C-ED73-4F22-B161-4B78EEE00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6F99B-32AF-4A6E-84F1-5517746A7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911C7-0F17-4FF2-8B86-3A2DEA53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63D2B-FE7C-4CB0-889B-81C4265C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18B25-49BB-4C65-8AA5-44AE760E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D8095-14D6-4481-8224-BB395A87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B3428-46D9-4272-BAF4-B5BBF1159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5F3AB-D92A-46C0-920B-07E039CC3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B724-15A9-4031-A8EE-0AB194E1B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DA3FF-457D-4E16-8039-0834FC064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63367-EDD9-47FE-84DD-793D7BE5D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0EA97-54CC-434D-ABBE-1EAF7CD8A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C5EFB-6A40-42EF-BC11-DF76D9951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329E5-95BD-43F5-B1F3-C26CCDDF6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F7365-6DD2-4504-83CD-D4F7B4B82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D25AD-20A0-4103-9671-6667B47D9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E9734-FA94-43B2-8B7B-97D04A5B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DB4E1-7D19-49DE-A8AE-7AD34F39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28E5F-F2A6-4FDE-A848-729ED199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D67A-F6AF-4CE1-BDC9-7831F6F0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7A4EE-6B18-4F10-A194-23C8D183E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51CA9A-D413-4708-8163-5B5000B60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64029-C04B-4021-9E7A-22B5105AA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F9C3C-C403-4607-81FD-CB6475B83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0266B1-AB88-4340-B38F-3E645A228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E77408-95AA-4AA8-8076-723EAD6AF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6336B-BAED-43D6-90A8-801B6721C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AE7D5-E911-4BB5-B130-FD6E12273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2991F8-CA0F-4C11-948F-3F0D8BAD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E26E9-F3B4-4701-8EAF-51E52F53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FABB-3E37-42E5-A9B1-194E9706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A0151-53E2-4A12-90CC-31017AD0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FF40AC-1CF7-4178-8254-6E3D0DDE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B3489-5B8C-46CD-A0C8-BAC876C53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F7645F-5F92-42FC-BBD1-C7AF41227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A5D1B-F8B9-4C76-81BA-9A5169F43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D8C071-3AF3-4AC0-A93C-9F23D02B1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EE50C5-458E-4559-95DC-6F8A45E89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C2D3C0-1A75-4C73-A191-A1ED8F670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75770B-25D9-46FF-AE09-24BE1A408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E7455E-4AAB-4555-99FE-471215128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AAB5-7A56-4BED-A005-2AF2F31D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96C6E7-F63D-46CF-A400-B3B17DE56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07B715-90A5-436C-886D-0EFFDBC1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9E7BE6-A194-492E-A4C6-7E2B1001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D41791-243A-4A1D-AD8B-F8CD371F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A105E6-C910-4FB4-AC5D-B45DA1875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250D9A-C5EE-4194-B865-5AC7678E3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B6385A-B913-4819-8EA7-2EE32CA32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F9F52A-9970-4979-8B96-D1F550757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B96A0A-E18F-4785-BAF0-0B5FB4A17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75D0FE-3518-4F6B-A344-ADEA1F8EA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3BAFF-C167-4AF4-AF90-1EC3CA21449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9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0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51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3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6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557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dt" idx="28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ftr" idx="29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sldNum" idx="30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92BB6-913B-4631-9C81-C2E92891B9B2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3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604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7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608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21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2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633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38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6490D-B32B-49CE-B9E3-C6CCBBCC7819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1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682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5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686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99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0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711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16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DCB91-B631-461B-936E-C7EB0C17CCC0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dt" idx="3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sldNum" idx="3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F565C-142A-4C6C-B254-6B2764CA7C9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76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76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6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9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 type="ftr" idx="3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8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809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810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15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dt" idx="4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 type="ftr" idx="4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 type="sldNum" idx="4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35472-7100-4D25-974E-D99BA02DE5B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9A9B1-D5CD-45D0-8615-228398455B3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5EACB-113D-46E2-943A-4B4F843CF6C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100A3-636C-42BA-9812-DE659DC1C07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05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07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19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38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56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3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7DF0A-36ED-4CBA-9BAE-6893638A3F9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10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12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24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43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61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68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C89DB-8680-48F0-BB39-8C198D68B4A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A1259-FFE4-4024-B082-6F9B9D702DE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EDE7E-477A-47D0-8421-028FC0FA8F7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496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8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99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25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26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27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2256C-4C58-4C0E-9AAD-7F9B4DE35A80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9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5760" y="151920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Исследовательская работа по химии.</a:t>
            </a:r>
            <a:br>
              <a:rPr sz="2800"/>
            </a:br>
            <a:r>
              <a:rPr b="1" lang="en-US" sz="4000" spc="-1" strike="noStrike">
                <a:solidFill>
                  <a:srgbClr val="e3e3ff"/>
                </a:solidFill>
                <a:latin typeface="Comic Sans MS"/>
              </a:rPr>
              <a:t>«Работа Д.И.Менделеева по созданию бездымного пороха в России»</a:t>
            </a:r>
            <a:br>
              <a:rPr sz="4000"/>
            </a:br>
            <a:br>
              <a:rPr sz="28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subTitle"/>
          </p:nvPr>
        </p:nvSpPr>
        <p:spPr>
          <a:xfrm>
            <a:off x="3803400" y="3900240"/>
            <a:ext cx="39733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Выполнил: ученик 9-го клас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Соловьев   Иль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20000">
    <p:wedge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Технология производств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и разработке технологии производства бездымного пороха Дмитрий Иванович пошел своим оригинальным путем,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в  корне отличным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от методов получения порохов за границе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и выборе состава нитрующей смеси Менделеев опирался на свою теорию растворо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чрезвычайно короткий срок Дмитрию Ивановичу удалось создать удачную технологическую схему нитрования клетчатки, дающую возможность получить однородный продукт, выделяющий при взрыве минимальное количество твердых вещест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edge/>
    <p:sndAc>
      <p:stSnd>
        <p:snd r:embed="rId2" name="chimes.wav"/>
      </p:stSnd>
    </p:sndAc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8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8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8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8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«Введение бездымного пороха, -  писал адмирал Макаров, - есть крупный шаг, как в баллистическом отношении, так и по отношению к видимости цели.»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1892 году была произведена первая пробная стрельба пироколлодийным порохом. Руководил испытаниями инспектор морской артиллерии адмирал Степан Осипович Макаров. Результаты были блестящи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 лету 1893 года новый порох был применен уже в морских орудиях  всех калибров, включая самые крупные, 12-дюймовы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8" name="" descr=""/>
          <p:cNvPicPr/>
          <p:nvPr/>
        </p:nvPicPr>
        <p:blipFill>
          <a:blip r:embed="rId1"/>
          <a:stretch/>
        </p:blipFill>
        <p:spPr>
          <a:xfrm>
            <a:off x="4648320" y="2379600"/>
            <a:ext cx="4038480" cy="296712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wedge/>
    <p:sndAc>
      <p:stSnd>
        <p:snd r:embed="rId2" name="chimes.wav"/>
      </p:stSnd>
    </p:sndAc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8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323640" y="1052280"/>
            <a:ext cx="821844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«Мне кажется особо печальной та возможность, что пироколлодийный порох … так или иначе проникнет на Запад и его ученые проведут этот совершенный порох в жизнь, прибавляя новую славу к своим именам, и заставят нас принять то, что делается теперь в самой России. Страшусь такой возможности не за себя лично… а за судьбу того приложения науки к успеху русской практической жизни, которому отдаю остаток своей практической деятельности…».</a:t>
            </a:r>
            <a:br>
              <a:rPr sz="2400"/>
            </a:b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643280" y="4581360"/>
            <a:ext cx="40435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Д.И.Менделее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 advTm="20000">
    <p:wedge/>
    <p:sndAc>
      <p:stSnd>
        <p:snd r:embed="rId1" name="chimes.wav"/>
      </p:stSnd>
    </p:sndAc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Comic Sans MS"/>
              </a:rPr>
              <a:t>Судьба открыт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о в 1894 году Менделеев был вынужден уйти из морского ведомства из-за «несочувственного, враждебного отношения к его идеям некоторых крупных деятелей морской артиллерии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ход Дмитрия Ивановича тяжело сказался на развитии порохового дела в России. Чья – то сильная рука сумела свернуть производство пироколлодийного порох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о время войны с Германией в 1914 году русское военное ведомство вынуждено было заказывать в Америке несколько тысяч тонн бездымного… пироколлодийного пороха. Американцы не скрывали, кому принадлежал приоритет в изобретении этого пороха, который у них покупали русски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20000">
    <p:wedge/>
    <p:sndAc>
      <p:stSnd>
        <p:snd r:embed="rId1" name="chimes.wav"/>
      </p:stSnd>
    </p:sndAc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Информационные ресурсы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Журнал «Юный техник» № 3 1983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урбатов В. «Менделеев». Детгиз, Ленинград, 195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енделеев Д.И. в воспоминаниях современников, изд.2-е, М., Атомиздат, 197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стровский Б.Г. «Адмирал Макаров». Военное издательство министерства обороны союза СССР, М., 1954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исаржевский О. «Дмитрий Иванович Менделеев». Издательство ЦКВЛКСМ «Малая гвардия», 1951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исаржевский О.Н. «Дмитрий Иванович Менделеев. Его жизнь и деятельность». Государственное издательство технико-теоретической литературы, М., 1953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мирнов Г.В., Менделеев, М., «Молодая гвардия»,197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Энциклопедия для детей «Техника» издательство «Аванта +», 20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Энциклопедия для детей «Химия» издательство «Аванта +», 2004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20000">
    <p:wedge/>
    <p:sndAc>
      <p:stSnd>
        <p:snd r:embed="rId1" name="chimes.wav"/>
      </p:stSnd>
    </p:sndAc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5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5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5000" fill="hold"/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5000" fill="hold"/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5000" fill="hold"/>
                                        <p:tgtEl>
                                          <p:spTgt spid="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5000" fill="hold"/>
                                        <p:tgtEl>
                                          <p:spTgt spid="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5000" fill="hold"/>
                                        <p:tgtEl>
                                          <p:spTgt spid="8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5000" fill="hold"/>
                                        <p:tgtEl>
                                          <p:spTgt spid="8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5000" fill="hold"/>
                                        <p:tgtEl>
                                          <p:spTgt spid="8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5000" fill="hold"/>
                                        <p:tgtEl>
                                          <p:spTgt spid="8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5000" fill="hold"/>
                                        <p:tgtEl>
                                          <p:spTgt spid="8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5000" fill="hold"/>
                                        <p:tgtEl>
                                          <p:spTgt spid="8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5000" fill="hold"/>
                                        <p:tgtEl>
                                          <p:spTgt spid="8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5000" fill="hold"/>
                                        <p:tgtEl>
                                          <p:spTgt spid="8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5000" fill="hold"/>
                                        <p:tgtEl>
                                          <p:spTgt spid="8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5000" fill="hold"/>
                                        <p:tgtEl>
                                          <p:spTgt spid="8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5000" fill="hold"/>
                                        <p:tgtEl>
                                          <p:spTgt spid="8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5000" fill="hold"/>
                                        <p:tgtEl>
                                          <p:spTgt spid="8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5000" fill="hold"/>
                                        <p:tgtEl>
                                          <p:spTgt spid="8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5000" fill="hold"/>
                                        <p:tgtEl>
                                          <p:spTgt spid="8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Arial"/>
              </a:rPr>
              <a:t>Проблема и гипотеза исследования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проблемой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нашей исследовательской работы можно поставить вопрос: если порох был изобретен еще в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III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веке в Китае, зачем снова изобретать его в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XIX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веке?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тсюда мы выдвигаем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гипотезу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, что раз в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XIX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веке встала задача изобретения пороха, значит нужен был </a:t>
            </a: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качественно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овый порох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20000">
    <p:wedge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imes New Roman"/>
              </a:rPr>
              <a:t>Цели исследовани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Цел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нашей работы мы видим в том, чтоб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становить путь изобретения нового пороха российским ученым-химиком  Д.И. Менделеевы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знакомиться с новыми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качественным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изменениями в свойствах  порох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20000">
    <p:wedge/>
    <p:sndAc>
      <p:stSnd>
        <p:snd r:embed="rId1" name="chimes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324000" y="83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imes New Roman"/>
              </a:rPr>
              <a:t>Задачи исследовани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 целей работы вытекают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задач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равнить достижения химиков разных стран в области взрывчатых вещест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скрыть неоценимую важность открытия бездымного пороха для России и других стра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20000">
    <p:wedge/>
    <p:sndAc>
      <p:stSnd>
        <p:snd r:embed="rId1" name="chimes.wav"/>
      </p:stSnd>
    </p:sndAc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324000" y="1341360"/>
            <a:ext cx="85104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e7ff"/>
                </a:solidFill>
                <a:latin typeface="Comic Sans MS"/>
              </a:rPr>
              <a:t>          </a:t>
            </a:r>
            <a:r>
              <a:rPr b="1" lang="en-US" sz="4000" spc="-1" strike="noStrike">
                <a:solidFill>
                  <a:srgbClr val="ffcc00"/>
                </a:solidFill>
                <a:latin typeface="Comic Sans MS"/>
              </a:rPr>
              <a:t>Методы проведения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Comic Sans MS"/>
              </a:rPr>
              <a:t>                 исследования: 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Comic Sans MS"/>
              </a:rPr>
              <a:t>          </a:t>
            </a:r>
            <a:br>
              <a:rPr sz="4000"/>
            </a:br>
            <a:r>
              <a:rPr b="1" lang="en-US" sz="4000" spc="-1" strike="noStrike">
                <a:solidFill>
                  <a:srgbClr val="b7e7ff"/>
                </a:solidFill>
                <a:latin typeface="Comic Sans MS"/>
              </a:rPr>
              <a:t>                 </a:t>
            </a:r>
            <a:r>
              <a:rPr b="1" lang="en-US" sz="2800" spc="-1" strike="noStrike">
                <a:solidFill>
                  <a:srgbClr val="b7e7ff"/>
                </a:solidFill>
                <a:latin typeface="Arial"/>
              </a:rPr>
              <a:t>анализ литературных 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b7e7ff"/>
                </a:solidFill>
                <a:latin typeface="Arial"/>
              </a:rPr>
              <a:t>                   источников.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66" name="" descr=""/>
          <p:cNvPicPr/>
          <p:nvPr/>
        </p:nvPicPr>
        <p:blipFill>
          <a:blip r:embed="rId2"/>
          <a:stretch/>
        </p:blipFill>
        <p:spPr>
          <a:xfrm>
            <a:off x="468360" y="2205000"/>
            <a:ext cx="3975120" cy="30970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edge/>
    <p:sndAc>
      <p:stSnd>
        <p:snd r:embed="rId3" name="chimes.wav"/>
      </p:stSnd>
    </p:sndAc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cc00"/>
                </a:solidFill>
                <a:latin typeface="Bookman Old Style"/>
              </a:rPr>
              <a:t>Вехи истории порохов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орох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это взрывчатое вещество, применяемое в зарядах огнестрельного оружи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ыл изобретен в Китае в период династии Тан (618-907гг.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Европе порох появился в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XII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веке, а распространение получил лишь со времен Столетней войны (1337-1453гг.), когда стали использовать пуш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конце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XIX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века дымный порох, заволакивающий тучами дыма поля сражений, был заменен бездымным, который готовили из хлопка и азотной кислот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edge/>
    <p:sndAc>
      <p:stSnd>
        <p:snd r:embed="rId1" name="chimes.wav"/>
      </p:stSnd>
    </p:sndAc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18" dur="2000" fill="hold"/>
                                        <p:tgtEl>
                                          <p:spTgt spid="8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46306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Bookman Old Style"/>
              </a:rPr>
              <a:t>История создания бездымного пороха начинается, пожалуй, с опытов Гийома Леблона в середине XVIII века. Ему удалось получить метательную взрывчатку, дающую мало дыма и не содержащую серы.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870" name="" descr=""/>
          <p:cNvPicPr/>
          <p:nvPr/>
        </p:nvPicPr>
        <p:blipFill>
          <a:blip r:embed="rId1"/>
          <a:stretch/>
        </p:blipFill>
        <p:spPr>
          <a:xfrm>
            <a:off x="5148360" y="1557360"/>
            <a:ext cx="3529080" cy="352728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wedge/>
    <p:sndAc>
      <p:stSnd>
        <p:snd r:embed="rId2" name="chimes.wav"/>
      </p:stSnd>
    </p:sndAc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/>
          </p:nvPr>
        </p:nvSpPr>
        <p:spPr>
          <a:xfrm>
            <a:off x="826560" y="112536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ледующими важными вехами в истории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бездымного пороха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являются открытия коллоксилина, нитроглицерина и пироксилина. Но эти открытия были встречены в научном мире довольно прохладно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австрийский барон фон Ленк чрезвычайно много сделал для того, чтобы вдохнуть жизнь в казавшийся обреченным пироксилин.  Ленк разработал безопасный промышленный метод производства пироксилин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роха Ленк все же не выдумал. Понадобилось почти сорок лет упорного труда исследователей многих стран, поиски, находки, потери, успехи и разочарования, а главное – жертвы, жертвы и снова жертвы, чтобы пироксилин был взят на вооружени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edge/>
    <p:sndAc>
      <p:stSnd>
        <p:snd r:embed="rId2" name="chimes.wav"/>
      </p:stSnd>
    </p:sndAc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8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8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Bookman Old Style"/>
              </a:rPr>
              <a:t>Д.И. Менделеев и его изыскания.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в 1886 году морское и военное министерство предложило заняться работой по созданию отечественного пороха для вооружения армии и флота профессору Д.И. Менделееву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до начала лабораторных работ Дмитрий Иванович провел теоретическое исследование вопроса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разбор, состоящий перед ним задачи, Менделеев закончил обсуждением способов практического приближения к типу идеального бездымного пороха, состав которого им теоретически был выведен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В 1890-1891 годах Менделеевым был разработан новый бездымный порох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Менделеев назвал форму созданной им нитроклетчатки «пироколлодием», а изготавливаемый из неё порох – «пироколлодийным»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Казначейством страны было отпущено великому ученому полтора миллиона рублей на разработки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edge/>
    <p:sndAc>
      <p:stSnd>
        <p:snd r:embed="rId1" name="chimes.wav"/>
      </p:stSnd>
    </p:sndAc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8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8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8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8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9T18:26:11Z</dcterms:created>
  <dc:creator>Виктория Фомина</dc:creator>
  <dc:description/>
  <dc:language>en-US</dc:language>
  <cp:lastModifiedBy>Виктория Фомина</cp:lastModifiedBy>
  <dcterms:modified xsi:type="dcterms:W3CDTF">2005-11-20T09:39:54Z</dcterms:modified>
  <cp:revision>12</cp:revision>
  <dc:subject/>
  <dc:title> Исследовательская работа по химии. «Работа Д.И.Менделеева по созданию бездымного пороха в России»  </dc:title>
</cp:coreProperties>
</file>