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2ECD-4E93-4BAF-899E-D649E8D64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0A62-8BE9-4450-B549-00755D50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A038-3A01-4B5C-B222-72A2E87A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129C-DC62-4EAC-8E95-B4B0106A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54B8-E0E3-4B6A-AAEE-871107B5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C976-DB04-42A0-90DF-19AD4109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FCA8-7126-4108-86E5-0B786EA8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B1FF-1D98-4D9C-A2D5-C5FF4703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95B6-E97C-4F30-AF92-262245EA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AC62-6995-4DDE-B4B7-32554271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554A-C85B-43E0-B550-A233F350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A4EC-F15C-4B9A-813A-96B425CC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FF3C-B89B-43D8-AE3A-936C4E4F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885C-5691-4FAF-9083-B4532F4D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DE07-61A6-4617-AB39-1E1D5FAF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A980-4BDC-45AC-A991-3459A5E2F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05FC-BE05-46DD-8AE9-4B62BB6A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63D8-C909-4C8A-A9A0-14E0E0D4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C34F-8AC1-4B58-9843-F4A2CA43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A96F-BB7F-4CCF-BB2F-50D0434A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F73F-F683-4D50-B8B9-626E7EB4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82D2-CE59-4ED4-BEAD-3556139D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7C37-C597-4E48-A279-CCACC4A4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B9CB-0FEA-4811-9F56-416DE467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FF37-08B2-4D8F-AADE-777D66399D8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39D2-B2AC-4D37-9134-90AEBD2D65E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772400" cy="2590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актика совершенствования коммуникативных умений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9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рытый урок по дисциплин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«управленческая психология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руппа М-86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еподавател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техина М.В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9.02.2010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en-US" sz="2600" spc="-1" strike="noStrike">
                <a:solidFill>
                  <a:srgbClr val="ff0000"/>
                </a:solidFill>
                <a:latin typeface="Comic Sans MS"/>
              </a:rPr>
              <a:t>Правила осуществления конструктивной критики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7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990000"/>
                </a:solidFill>
                <a:uFillTx/>
                <a:latin typeface="Comic Sans MS"/>
              </a:rPr>
              <a:t>Критикуя, помним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б уважении критикуемого (замечать  достоинства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 конструктивности (отвергая – предлагай!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 совместном решении проблемы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 личности критикуемого (говорим о фактах, не переходим на личность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05480" y="1371600"/>
            <a:ext cx="377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990000"/>
                </a:solidFill>
                <a:uFillTx/>
                <a:latin typeface="Comic Sans MS"/>
              </a:rPr>
              <a:t>Воспринимая критику, помним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 позитивном отношении к критик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 решении проблемы (о исправлении недостатков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б извлечении смысла претензий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 единстве позиций в поиске проблем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 понимании мотивов критикующег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2514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Comic Sans MS"/>
              </a:rPr>
              <a:t>Практика совершенствования коммуникативных умен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Пример требований к соискателю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2172600"/>
            <a:ext cx="769644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неджер по туризм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от 35000 до 45000 руб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б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муникабельность ‚ креативность‚ знание отельной базы ‚ основных направлений ‚ инициативность ‚ желание обучаться‚ работать ‚ умение продавать‚ расчет индивидуальных и групповых туров‚ базовое знание английского языка‚ знание систем он-лайн бронирования‚ уверенный пользователь П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яза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ультации по телефону‚ работа в офисе‚ расчет и бронирование тур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Comic Sans MS"/>
              </a:rPr>
              <a:t>Практика совершенствования коммуникативных умен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Подводим итоги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 Директора: кого и почему пригласили на работу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 Соискатели отмечают, какие барьеры общения возникали, какие из них они сумели преодолеть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 Эксперты дают заключения, насколько правильно были проведены беседы, предлагают свои оцен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Благодарю за внимание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194760"/>
            <a:ext cx="86104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Практика совершенствования коммуникативных умен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686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Comic Sans MS"/>
              </a:rPr>
              <a:t>Коммуникаци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общение, передача и прием информации в человеческом обществе;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процесс 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двустороннего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обмена информацией, ведущий к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взаимному пониманию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99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Умение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спешный способ выполнения деятельности в новых условиях, сознательное применение имеющихся знаний и навыков для выполнения более сложных действий в различных условия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1532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Практика совершенствования коммуникативных умен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Comic Sans MS"/>
              </a:rPr>
              <a:t>Коммуникативные умения менеджера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мение выступать публично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сделать сообщение, доклад, провести презентацию)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вести деловую беседу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водить переговоры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водить совеща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Практика совершенствования коммуникативных умен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Деловое общени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бщение, в котором </a:t>
            </a:r>
            <a:r>
              <a:rPr b="0" i="1" lang="en-US" sz="3200" spc="-1" strike="noStrike">
                <a:solidFill>
                  <a:srgbClr val="990000"/>
                </a:solidFill>
                <a:latin typeface="Comic Sans MS"/>
              </a:rPr>
              <a:t>учитываются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собенности личности, характера, возраста, настроения собеседника, но </a:t>
            </a:r>
            <a:r>
              <a:rPr b="0" i="1" lang="en-US" sz="3200" spc="-1" strike="noStrike">
                <a:solidFill>
                  <a:srgbClr val="990000"/>
                </a:solidFill>
                <a:latin typeface="Comic Sans MS"/>
              </a:rPr>
              <a:t>интересы дела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олее значимы чем возможные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990000"/>
                </a:solidFill>
                <a:latin typeface="Comic Sans MS"/>
              </a:rPr>
              <a:t>личностные расхожден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79246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Comic Sans MS"/>
              </a:rPr>
              <a:t>Практика совершенствования коммуникативных умен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9076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990000"/>
                </a:solidFill>
                <a:uFillTx/>
                <a:latin typeface="Comic Sans MS"/>
              </a:rPr>
              <a:t>Барьеры общения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Личностные причин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тереотипы мышления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едвзятые представления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еконструктивные отношения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тсутствие интереса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енебрежение к факта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495320" y="990360"/>
            <a:ext cx="44197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990000"/>
                </a:solidFill>
                <a:uFillTx/>
                <a:latin typeface="Comic Sans MS"/>
              </a:rPr>
              <a:t>Способы их преодоления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Помните о них и старайтесь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исправлять стереотипы мышления, когда их обнаружите, формулировать сообщение так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чтобы оно прошло этот барьер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отказаться от идеи изменить другого человека, направить внимание на ослабление их в данном случае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 не усиливать отрицательные эмоции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еревести разговор в конструктивное русло, перенести разговор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выяснить интерес партнера, показать  ему его интерес в вашем  предложении, учесть его  потребности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передать инициативу разговора в руки собеседника, лишая его возможности оставаться оппонентом и говорить «нет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17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Comic Sans MS"/>
              </a:rPr>
              <a:t>Практика совершенствования коммуникативных умен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28240" y="1143000"/>
            <a:ext cx="44197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Comic Sans MS"/>
              </a:rPr>
              <a:t>Барьеры общения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omic Sans MS"/>
              </a:rPr>
              <a:t>Неудовлетворительное построение самого сообщения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Слабая память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Неудачное формирование средств обратной связи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47960" y="1066680"/>
            <a:ext cx="42670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Способы их преодол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Совершенствование устной и письменной речи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Пользуйтесь записями,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ведите ежедневник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Признавайте и исправляйте конкретную ошибку, проявляйте чувство юмора,  терпимость к себе и собеседнику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0769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Comic Sans MS"/>
              </a:rPr>
              <a:t>Практика совершенствования коммуникативных умен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ДЕЛОВАЯ ИГ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Comic Sans MS"/>
              </a:rPr>
              <a:t>«Беседа с кандидатом на работу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Участники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иректор туристического агентств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ндидаты на должность «менеджер по работе с клиентами»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Эксперт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5564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Comic Sans MS"/>
              </a:rPr>
              <a:t>Практика совершенствования коммуникативных умен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Comic Sans MS"/>
              </a:rPr>
              <a:t>Задача директора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з нескольких кандидатов на вакантную должность выбрать одного по результатам собеседова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Comic Sans MS"/>
              </a:rPr>
              <a:t>Задача соискателей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сли фирма Вам подходит, получить приглашение на работ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Comic Sans MS"/>
              </a:rPr>
              <a:t>Задача экспертов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ценить коммуникативные умения партнеров, осуществить конструктивную критик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327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Comic Sans MS"/>
              </a:rPr>
              <a:t>Практика совершенствования коммуникативных умен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Цели общен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сположить к себе, понравитьс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Заинтересовать собеседник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нять собеседника и его позицию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онести свою позицию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йти к согласию при противоречивых интересах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тказать, не обидев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тказать, не испытывая угрызений совест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будить к действию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гасить агрессию, раздражение, гнев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мерить свои отрицательные эмоци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отивостоять попыткам манипуляц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техина</cp:lastModifiedBy>
  <dcterms:modified xsi:type="dcterms:W3CDTF">2010-02-19T12:13:45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