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3D9-C4C2-44EE-B4B7-C64A2903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71F-3924-43FC-AB9A-D18690E1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EBC-53AF-478D-9942-2A7CE539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32E-892F-4CF7-A318-F0ED649D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862-3322-4F4C-90B6-261C99BA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7C5-706F-4583-B6EC-28A44411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5AB-6512-4131-AB37-5E04C55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D9B-82C7-425D-9E7A-B38816C3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989-43A8-4FC0-9EA8-B1F7E89F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237-E3EB-4EE6-869C-7BCD66BE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56F-386C-45A9-BF47-691F32CF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B5B-6788-43FC-85EC-BFDFA70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6315-AB4E-4982-919E-6E0477BFE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едения о результатах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БОУ ДЕТСКИЙ САД №6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СПИТАТЕЛЬ Чапанова Н.Ш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Диаграмма 3" descr=""/>
          <p:cNvPicPr/>
          <p:nvPr/>
        </p:nvPicPr>
        <p:blipFill>
          <a:blip r:embed="rId1"/>
          <a:stretch/>
        </p:blipFill>
        <p:spPr>
          <a:xfrm>
            <a:off x="-41400" y="-42840"/>
            <a:ext cx="924588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ЕСНЫЕ СОБЫТИЯ В ЖИЗНИ ГРУПП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Надежда\Desktop\ФОТО\ФОТО работа\DSC04533.JPG"/>
          <p:cNvPicPr/>
          <p:nvPr/>
        </p:nvPicPr>
        <p:blipFill>
          <a:blip r:embed="rId1"/>
          <a:stretch/>
        </p:blipFill>
        <p:spPr>
          <a:xfrm>
            <a:off x="2411280" y="1351080"/>
            <a:ext cx="484668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Надежда\Desktop\ФОТО\ФОТО работа\DSC04808.JPG"/>
          <p:cNvPicPr/>
          <p:nvPr/>
        </p:nvPicPr>
        <p:blipFill>
          <a:blip r:embed="rId1"/>
          <a:stretch/>
        </p:blipFill>
        <p:spPr>
          <a:xfrm>
            <a:off x="-612720" y="36360"/>
            <a:ext cx="102553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Надежда\Desktop\ФОТО\ФОТО работа\DSC04883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Надежда\Desktop\ФОТО\ФОТО работа\DSC04920.JPG"/>
          <p:cNvPicPr/>
          <p:nvPr/>
        </p:nvPicPr>
        <p:blipFill>
          <a:blip r:embed="rId1"/>
          <a:stretch/>
        </p:blipFill>
        <p:spPr>
          <a:xfrm>
            <a:off x="-111240" y="-100080"/>
            <a:ext cx="927756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Надежда\Desktop\ФОТО\ФОТО работа\фото воспитанник\11 028.JPG"/>
          <p:cNvPicPr/>
          <p:nvPr/>
        </p:nvPicPr>
        <p:blipFill>
          <a:blip r:embed="rId1"/>
          <a:stretch/>
        </p:blipFill>
        <p:spPr>
          <a:xfrm>
            <a:off x="1630440" y="-1971720"/>
            <a:ext cx="6192720" cy="92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692360" y="-426960"/>
            <a:ext cx="5472000" cy="72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АТКАЯ ХАРАКТЕРИСТИКА ГРУПП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-50760" y="2082960"/>
            <a:ext cx="4576680" cy="4178160"/>
          </a:xfrm>
          <a:prstGeom prst="rect">
            <a:avLst/>
          </a:prstGeom>
          <a:ln w="0">
            <a:noFill/>
          </a:ln>
        </p:spPr>
      </p:pic>
      <p:pic>
        <p:nvPicPr>
          <p:cNvPr id="45" name="Диаграмма 4" descr=""/>
          <p:cNvPicPr/>
          <p:nvPr/>
        </p:nvPicPr>
        <p:blipFill>
          <a:blip r:embed="rId2"/>
          <a:stretch/>
        </p:blipFill>
        <p:spPr>
          <a:xfrm>
            <a:off x="4521240" y="2082960"/>
            <a:ext cx="452916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ЗАИМОДЕСТВИЕ С РОДИТЕЛЯ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Диаграмма 4" descr=""/>
          <p:cNvPicPr/>
          <p:nvPr/>
        </p:nvPicPr>
        <p:blipFill>
          <a:blip r:embed="rId1"/>
          <a:stretch/>
        </p:blipFill>
        <p:spPr>
          <a:xfrm>
            <a:off x="-50760" y="1290600"/>
            <a:ext cx="913752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Надежда\Desktop\ФОТО\ФОТО работа\DSC04452.JPG"/>
          <p:cNvPicPr/>
          <p:nvPr/>
        </p:nvPicPr>
        <p:blipFill>
          <a:blip r:embed="rId1"/>
          <a:stretch/>
        </p:blipFill>
        <p:spPr>
          <a:xfrm rot="178200">
            <a:off x="-331560" y="2781360"/>
            <a:ext cx="564840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Надежда\Desktop\ФОТО\ФОТО работа\DSC04453.JPG"/>
          <p:cNvPicPr/>
          <p:nvPr/>
        </p:nvPicPr>
        <p:blipFill>
          <a:blip r:embed="rId2"/>
          <a:stretch/>
        </p:blipFill>
        <p:spPr>
          <a:xfrm rot="21352200">
            <a:off x="3548160" y="-44280"/>
            <a:ext cx="56466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Надежда\Desktop\ФОТО\ФОТО работа\DSC04451.JPG"/>
          <p:cNvPicPr/>
          <p:nvPr/>
        </p:nvPicPr>
        <p:blipFill>
          <a:blip r:embed="rId1"/>
          <a:stretch/>
        </p:blipFill>
        <p:spPr>
          <a:xfrm rot="20989800">
            <a:off x="-360360" y="-279000"/>
            <a:ext cx="5638680" cy="3759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Надежда\Desktop\ФОТО\ФОТО работа\DSC04461.JPG"/>
          <p:cNvPicPr/>
          <p:nvPr/>
        </p:nvPicPr>
        <p:blipFill>
          <a:blip r:embed="rId2"/>
          <a:stretch/>
        </p:blipFill>
        <p:spPr>
          <a:xfrm rot="241800">
            <a:off x="2806200" y="2341080"/>
            <a:ext cx="7489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Надежда\Desktop\ФОТО\ФОТО работа\DSC04443.JPG"/>
          <p:cNvPicPr/>
          <p:nvPr/>
        </p:nvPicPr>
        <p:blipFill>
          <a:blip r:embed="rId1"/>
          <a:stretch/>
        </p:blipFill>
        <p:spPr>
          <a:xfrm>
            <a:off x="-701640" y="-204840"/>
            <a:ext cx="5997600" cy="399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Надежда\Desktop\ФОТО\ФОТО работа\DSC04446.JPG"/>
          <p:cNvPicPr/>
          <p:nvPr/>
        </p:nvPicPr>
        <p:blipFill>
          <a:blip r:embed="rId2"/>
          <a:stretch/>
        </p:blipFill>
        <p:spPr>
          <a:xfrm>
            <a:off x="3635280" y="2708280"/>
            <a:ext cx="60613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7720" y="1730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S Gothic"/>
                <a:ea typeface="MS Gothic"/>
              </a:rPr>
              <a:t>ДОСТИЖЕНИЯ ДЕТЕ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Надежда\Desktop\i.jpg"/>
          <p:cNvPicPr/>
          <p:nvPr/>
        </p:nvPicPr>
        <p:blipFill>
          <a:blip r:embed="rId1"/>
          <a:stretch/>
        </p:blipFill>
        <p:spPr>
          <a:xfrm>
            <a:off x="1476360" y="3200400"/>
            <a:ext cx="6316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Диаграмма 5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245520" cy="698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48000" y="4076280"/>
            <a:ext cx="201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ЕНО: 94,3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16:33:07Z</dcterms:created>
  <dc:creator>Надежда</dc:creator>
  <dc:description/>
  <dc:language>en-US</dc:language>
  <cp:lastModifiedBy>Надежда</cp:lastModifiedBy>
  <dcterms:modified xsi:type="dcterms:W3CDTF">2013-09-29T05:55:56Z</dcterms:modified>
  <cp:revision>24</cp:revision>
  <dc:subject/>
  <dc:title>Презентация PowerPoint</dc:title>
</cp:coreProperties>
</file>