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1C1-138A-4DED-B883-D19B1FA7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80A-5812-4DCB-A199-9B6795B8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E82-BB74-4388-B0EE-6F10B4B9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140-384C-44F7-A95E-4C391EE3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A8A7-58AA-4452-90D9-96C7BA20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3368-C851-484E-80BA-D9B37A6A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5E64-DC57-42CA-B0A5-3D1DA133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F70C-DCE4-4448-8CFF-18F85987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A49C-70CD-4924-BA30-3DBE9711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5012-8EB6-4AD2-9259-F4ADBFA0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0F9C-BA67-45A8-8F0C-29B1E54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EA0-B5BE-42EE-9313-D5A0A050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E6EB-A2C8-404F-A870-112036B5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E182-822D-4DF6-99DD-26DEA8F8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E818-FB7C-4E70-A97A-6D15F0DA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C671-D434-49FF-8378-05EDF644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E71F-D3AD-441A-B51A-4F3F97AA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D17-E3D9-4A73-895E-57443B64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C3C-41A9-4C51-A27A-3E69617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271-B336-441B-A0B1-A30C69A9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396-8993-4DDB-93EC-4A964568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988-3920-4562-B873-F3897429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462-3B4B-4BEE-8D0E-9CF5127C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5C0-807A-448D-8A89-5B499331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EE9D-86CA-41A3-BFEA-7D328973EE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EDE3-7334-4DBA-B9BB-B2C1F28069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5319"/>
                </a:solidFill>
                <a:latin typeface="Rockwell Extra Bold"/>
                <a:ea typeface="Times New Roman"/>
              </a:rPr>
              <a:t>УРОК-</a:t>
            </a:r>
            <a:r>
              <a:rPr b="1" lang="en-US" sz="2400" spc="-1" strike="noStrike">
                <a:solidFill>
                  <a:srgbClr val="195319"/>
                </a:solidFill>
                <a:latin typeface="Arial"/>
                <a:ea typeface="Times New Roman"/>
              </a:rPr>
              <a:t>ПУТЕШЕСТВ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Овальная выноска 6"/>
          <p:cNvGrpSpPr/>
          <p:nvPr/>
        </p:nvGrpSpPr>
        <p:grpSpPr>
          <a:xfrm>
            <a:off x="1692360" y="1628640"/>
            <a:ext cx="6911640" cy="3854520"/>
            <a:chOff x="1692360" y="1628640"/>
            <a:chExt cx="6911640" cy="3854520"/>
          </a:xfrm>
        </p:grpSpPr>
        <p:pic>
          <p:nvPicPr>
            <p:cNvPr id="153" name="Овальная выноска 6" descr=""/>
            <p:cNvPicPr/>
            <p:nvPr/>
          </p:nvPicPr>
          <p:blipFill>
            <a:blip r:embed="rId2"/>
            <a:stretch/>
          </p:blipFill>
          <p:spPr>
            <a:xfrm>
              <a:off x="1692360" y="1628640"/>
              <a:ext cx="6911640" cy="38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015720" y="2105640"/>
              <a:ext cx="4615920" cy="22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Black"/>
                  <a:ea typeface="Times New Roman"/>
                </a:rPr>
                <a:t>Словосочетательное кольц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Содержимое 7" descr="MNYJBCCAV4JY38CA345CMNCAZ5GGNKCAL3MUQ8CA5GNT1ACA1FAZHHCA29H5ZZCAC4S7D1CA6TBNS6CAJ90IW1CALLZNAQCAXYKGKDCAZ09TIRCAIKB2K9CAWXYE6BCAUDUH2OCAV690T0CAL7WCP3CANJVV8E.jpg"/>
          <p:cNvPicPr/>
          <p:nvPr/>
        </p:nvPicPr>
        <p:blipFill>
          <a:blip r:embed="rId3"/>
          <a:stretch/>
        </p:blipFill>
        <p:spPr>
          <a:xfrm>
            <a:off x="250920" y="2492280"/>
            <a:ext cx="21034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Comic Sans MS"/>
              </a:rPr>
              <a:t>Станция «Конструкторская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96600" y="1828800"/>
            <a:ext cx="7684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ближаться к пристани; повернуть к дому (за дом);  участвовать в жюри; поражаться красотой; увлекаться спортом; лунная ноч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43657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ксимум – 6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Заголовок 1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Облако 2"/>
          <p:cNvGrpSpPr/>
          <p:nvPr/>
        </p:nvGrpSpPr>
        <p:grpSpPr>
          <a:xfrm>
            <a:off x="0" y="1413000"/>
            <a:ext cx="7961400" cy="4127400"/>
            <a:chOff x="0" y="1413000"/>
            <a:chExt cx="7961400" cy="4127400"/>
          </a:xfrm>
        </p:grpSpPr>
        <p:pic>
          <p:nvPicPr>
            <p:cNvPr id="187" name="Облако 2" descr=""/>
            <p:cNvPicPr/>
            <p:nvPr/>
          </p:nvPicPr>
          <p:blipFill>
            <a:blip r:embed="rId2"/>
            <a:stretch/>
          </p:blipFill>
          <p:spPr>
            <a:xfrm>
              <a:off x="0" y="1413000"/>
              <a:ext cx="7961400" cy="41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414440" y="1989000"/>
              <a:ext cx="494676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едлагаю вам высказать своё мнение о сегодняшнем уроке и составить словосочетания, характеризующие наше путешестви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00000" y="69228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189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танция “Итоговая”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рефлексив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39640" y="1341360"/>
            <a:ext cx="7848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000099"/>
                </a:solidFill>
                <a:latin typeface="Impact"/>
              </a:rPr>
              <a:t>Всем спасибо за урок!</a:t>
            </a:r>
            <a:endParaRPr b="0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9560" y="65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mic Sans MS"/>
              </a:rPr>
              <a:t>АЛГОРИТМ ОПРЕДЕЛЕНИЯ ВИДА</a:t>
            </a:r>
            <a:r>
              <a:rPr b="0" lang="en-US" sz="3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c00000"/>
                </a:solidFill>
                <a:latin typeface="Comic Sans MS"/>
              </a:rPr>
              <a:t>СЛОВОСОЧЕТАНИЯ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4" name="Стрелка вниз 3"/>
          <p:cNvGrpSpPr/>
          <p:nvPr/>
        </p:nvGrpSpPr>
        <p:grpSpPr>
          <a:xfrm>
            <a:off x="2568600" y="1881360"/>
            <a:ext cx="4559400" cy="1163520"/>
            <a:chOff x="2568600" y="1881360"/>
            <a:chExt cx="4559400" cy="1163520"/>
          </a:xfrm>
        </p:grpSpPr>
        <p:pic>
          <p:nvPicPr>
            <p:cNvPr id="195" name="Стрелка вниз 3" descr=""/>
            <p:cNvPicPr/>
            <p:nvPr/>
          </p:nvPicPr>
          <p:blipFill>
            <a:blip r:embed="rId2"/>
            <a:stretch/>
          </p:blipFill>
          <p:spPr>
            <a:xfrm>
              <a:off x="2568600" y="1881360"/>
              <a:ext cx="45594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651480" y="2035440"/>
              <a:ext cx="2073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ЛОВОСОЧЕТ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Вертикальный свиток 5"/>
          <p:cNvSpPr/>
          <p:nvPr/>
        </p:nvSpPr>
        <p:spPr>
          <a:xfrm>
            <a:off x="1330200" y="4106880"/>
            <a:ext cx="3143520" cy="7858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Я 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Прямоугольник 7"/>
          <p:cNvGrpSpPr/>
          <p:nvPr/>
        </p:nvGrpSpPr>
        <p:grpSpPr>
          <a:xfrm>
            <a:off x="684360" y="5300640"/>
            <a:ext cx="2584440" cy="768240"/>
            <a:chOff x="684360" y="5300640"/>
            <a:chExt cx="2584440" cy="768240"/>
          </a:xfrm>
        </p:grpSpPr>
        <p:pic>
          <p:nvPicPr>
            <p:cNvPr id="19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84360" y="5300640"/>
              <a:ext cx="25844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044720" y="5321160"/>
              <a:ext cx="22147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ИМ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Прямоугольник 8"/>
          <p:cNvGrpSpPr/>
          <p:nvPr/>
        </p:nvGrpSpPr>
        <p:grpSpPr>
          <a:xfrm>
            <a:off x="5683320" y="5300640"/>
            <a:ext cx="2444760" cy="768240"/>
            <a:chOff x="5683320" y="5300640"/>
            <a:chExt cx="2444760" cy="768240"/>
          </a:xfrm>
        </p:grpSpPr>
        <p:pic>
          <p:nvPicPr>
            <p:cNvPr id="202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683320" y="5300640"/>
              <a:ext cx="24447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045480" y="5321160"/>
              <a:ext cx="207144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ГЛАГО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Стрелка вниз 10"/>
          <p:cNvSpPr/>
          <p:nvPr/>
        </p:nvSpPr>
        <p:spPr>
          <a:xfrm>
            <a:off x="3259080" y="2820960"/>
            <a:ext cx="2786040" cy="1214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Вертикальный свиток 12"/>
          <p:cNvSpPr/>
          <p:nvPr/>
        </p:nvSpPr>
        <p:spPr>
          <a:xfrm>
            <a:off x="5259240" y="4178160"/>
            <a:ext cx="2786040" cy="714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52280"/>
            <a:ext cx="680076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000000"/>
                </a:solidFill>
                <a:uFillTx/>
                <a:latin typeface="Comic Sans MS"/>
              </a:rPr>
              <a:t>Разделы науки о языке: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1628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Звук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1628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492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2565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357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3429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232160" y="2276640"/>
            <a:ext cx="4911840" cy="301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00000" y="400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ловосоче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0000" y="765000"/>
            <a:ext cx="43927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и путешествен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в подгруппах, пар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обсуждении вопросов на равных правах; помощь в выборе правильного отве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под девизом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“Повторяем то,что знаем. Вспоминаем, ч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ыли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ить сво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75360" y="3213000"/>
            <a:ext cx="33289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танция “Теоретическая”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91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восочетание – это сочетание слов, связанных между собой грамматически и по _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мыслу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_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ловосочетании различаются __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главна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_ часть и зависима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__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главного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__ слова к ___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зависимом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__ ставится вопро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зависимости от того, какой частью речи выражено главное слово, словосочетания бывают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именные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и _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глагольны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д связи, при котором зависимое слово ставится в тех же формах, что и главное, называется___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огласовани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_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д связи, при котором зависимое слово ставится при главном слове в определённом падеже, называется _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управление_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д связи, при котором зависимое неизменяемое слово связывается с главным только по смыслу, называется__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мыкани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__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29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цениваем себ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1052640"/>
            <a:ext cx="61214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нция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оретическ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олько правильных слов вставили, столько бал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симальное количество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ждая орфографическая ошибка – минус 0,5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2781360"/>
            <a:ext cx="540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нция «Практическ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симум 4б ( 4 словосочет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симум 4б ( 3 словосочетания + предло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симум  4б (2-3-словосочетания + разбор словосоче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5084640"/>
            <a:ext cx="468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нция «Разделитель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симум -11б ( именные 6б + глагольные 5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4724280"/>
            <a:ext cx="352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нция «Фантазё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б группе, у которой больше всех словосоче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б группе, у которой меньше всех словосоче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б оста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танция “Практическая”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4 словосочетания: прыгаю с парашютом, новый парашют, в конце прыжка, прыжок из самолёт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Лисья нора, апельсиновый джем, солнечный лу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3 словосочетания + разбо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152280"/>
            <a:ext cx="680076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Станция « Разделительная»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( соревновательна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ряе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менные: безболезненный укол, Кощей Бессмертный, бесценный дар, бесчестный поступок, хороший рассказчик, безвкусно одетый.-----6б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лагольные: освещала комнату, сдружился с девочкой, сшибли с ног, воскликнул артист, иззябнуть на ветру--                              -                                                      5б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Станция «Фантазёры”.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(игровая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050920" y="1374840"/>
            <a:ext cx="54835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57520" y="-380880"/>
            <a:ext cx="56289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02:41:31Z</dcterms:created>
  <dc:creator>Хозяин</dc:creator>
  <dc:description/>
  <dc:language>en-US</dc:language>
  <cp:lastModifiedBy>Хозяин</cp:lastModifiedBy>
  <dcterms:modified xsi:type="dcterms:W3CDTF">2013-01-22T05:40:47Z</dcterms:modified>
  <cp:revision>4</cp:revision>
  <dc:subject/>
  <dc:title>УРОК-путешествие В 5-ОМ КЛАССЕ НА ТЕМУ:</dc:title>
</cp:coreProperties>
</file>