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06D-9D24-4709-991C-F78D41DF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ECE-A054-48E3-BB8D-9A4ECFA9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AC153-AAAF-49C5-A2F5-80650A4F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C6430-287B-4680-9072-E6C4C3DD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B3948-6277-43F3-8CFD-4A97D409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B7736-57EB-4A1C-80FD-4E053699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BBA6F-E3E6-466D-A108-F20AEE7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FE9EB-B7A7-4DF7-85DB-C15E61AE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55D98-A9E5-4F51-83EE-D29F3433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065DF-FA2F-4FD1-B5D8-A93C931B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1EB85-4C27-453B-B22A-E4E650EA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0621B-F10D-4383-AA39-0D55488A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16D-055C-4C0A-8FDC-49EBC0CB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D224B-98E1-44DB-AFB9-B25C6B68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B5856-13B6-4DDD-875E-CFB918C1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7D2B6-7F29-439C-B580-23E83A43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5E615-8BD9-4C78-8BD8-2A5CDEC0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21F3E-0E1B-4F0B-A4FD-7EDB22F6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8B56F-4550-4398-A120-1BE33C71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E86A1-BB65-4874-A9B6-C056E570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335E8-602D-4DF7-A48F-C895D0DA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5F087-5E9C-49B9-8493-E2875764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3B5F2-DBF6-472E-A089-D1778772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A4C-17F7-4FCB-8ED7-036E4DCF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CCA98-B5DA-4455-986A-E73BD273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916CA-A7A2-4F33-A5E7-C1A22536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60CCA-491C-4391-8B46-6079C68B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75E90-CD59-4A04-B8E3-F28F6366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17B42-58A3-4B54-A8E9-C036406A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005C3-326B-4060-B359-86B34905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ABFD5-CDA8-4CDB-8A34-4ED5E1BD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6B8A0-EB3E-4456-97D1-CAC8F35E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0113F-1C56-4D5A-942B-9B0225D9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0FDC3-C629-4975-8026-DC85A37B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1874-50E2-4A25-9174-97DCF9B5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0B7A0-1686-4AAD-827B-906FD93B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32AC6-0370-4527-B9B1-12621CA0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42CF5-6DD8-4649-9BE8-A0CE14A5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0089-BF5F-46D0-B50B-36FF02DC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DF85-1EC7-4DB3-B69A-088792AA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3E9C-861C-4AA5-858C-89AB9A35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FFEF-092B-448E-9037-391476F8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A7C6-1552-41F1-952C-6203D565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2B54-5212-421B-AFE0-A0FBEDAA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E8C-14C8-4EFE-B9E7-5186A8A5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3542-B1B6-4E09-B6D9-D262C12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8385-40EC-463A-A6E3-FB3962D3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60B0-502D-4AF6-9599-A478FE00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E66A-D31A-4D3E-8CFD-9855662A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8E46-8F83-4F36-AACF-8989D708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4289-CC34-4E34-A27E-5AD40AC7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9CA4F-6EDE-4BAC-89F0-A5D88B5B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56FB-3D38-44D4-B741-7B549BC2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807C-C03C-4B8A-8CC9-4E6E1106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1A19-160D-48A8-8F55-1CEF2B28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46A-E71A-4842-9234-D81EA8A2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AB0C-B429-44BF-815D-B1891B94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5F0D-5D63-4946-9F0A-16197F49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7EAB-CD77-4FAA-93FB-69ED655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3BCA-BBBE-47DF-A1E9-2D3AE935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71B0-B374-4273-901B-E413BE21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8D8D-2503-4A90-B679-9E615904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81A8-3DC9-4C38-9F3B-22696048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BC818-9961-47E1-B92C-22158BB3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20E3-1E12-4677-A490-92217285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73AE-002D-477D-9A70-917CE1F7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AB5-D81A-463F-B9DC-78FC5A53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F4A00-A12A-4ACD-9665-8D85FB5D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1EAC-602A-43AC-855E-8FDFB306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DFDC7-346B-45D4-8DA6-738AFEDE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79A8F-B395-47CF-8612-6942AF1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359F-B581-496A-BCA5-EFC86BB6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ACC41-70C7-4B63-8CFE-B740196F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BD84-79D6-4E72-A410-673E9618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9417-2FBC-440B-BD4B-0E19B8B1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2FAAD-D4D1-4085-8517-B69106AB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2CA71-B668-41C7-8F49-2DB27432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685-E851-4F65-8D48-6BF21C31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4E9C3-409B-450E-82B3-15F4E885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9A941-8630-4138-AD62-CB5155DF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C0548-8214-48B2-92FA-094C20F2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D37CE-68F5-46A1-A5EB-5FB82E55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75B8D-C965-4A2C-BA0C-D33A98C5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E7EEA-BD27-4950-83E1-3380D672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91EB0-C71D-4A17-A002-EFD7D711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9AC73-8A7B-4FC4-BE92-2A2A206E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BB4F5-9EFA-4F29-BA21-AD022ED1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9D4AD-7D30-4006-8F85-B52A8B38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C3B-EFFF-441C-9E86-CEA69C87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568A-EABF-4DE2-8CBF-BA3E965A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8ABC0-5AD6-4AB7-8DD6-3D94F484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ECC84-1A8A-4B79-8310-60198FA0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0F811-6371-44A3-82F5-BA3B8DE6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E27F4-EC67-4FAD-931A-957C1908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3669B-2B72-4F16-BD02-A187B2A5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BE8B3-C2FE-4FF3-924A-DDCAFAF4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3F4D4-29E2-4FFD-883C-7637F4D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21C89-6B95-4DA9-B534-8CB4EB5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6C4773-0E4F-426E-BF44-A3E855ED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8D1-8AB8-45C8-8944-7F67BAC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3763D-38D6-4EB2-A731-585B9BDE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37BCB-D879-44F7-A954-EC104C56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F2F6A-5048-4C58-8D64-E9BB9B24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C0E36-63C3-4CFB-9D31-A41A3F72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A00C8-9299-4715-AC92-CB753512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F0326-E2E7-47AF-9B14-4CEAA05D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60542-35A8-4D38-8BE5-E7624FCF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E0B13-EF06-4B19-AD27-5C23285B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74A8-4BD5-46C0-808C-7866BA47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E560C-6E49-4AAC-B893-58DC8D83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C97-9372-4DB3-A632-B197C476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BD66D-459A-424A-846D-D941DD2A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0A7BE-40E4-414E-9B30-8402DAB6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16E8B-2771-4835-BB26-3DBE501C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BF534-1EF3-4823-B8BD-04EDF227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5382D-E694-4A6E-B908-B55EDCB5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AEF7A-6A03-4C6F-A3B8-B73861BF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D1EBC-3C82-4FBC-AE97-1A776254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220BB-060B-4342-B0D4-D1AF48B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F2508-DFE7-4FB4-B8EC-96320D9D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984E6-2F68-4815-8A88-9CA4F020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EBF-74E1-4360-8C49-4171210C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41A0C-43F8-4E60-BE97-1BE3B7F1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3F0A4-D465-41FD-BE0D-8ABEB6A0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82017-B428-4777-A28C-864CCB1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9D601-2832-403F-BE4F-27141F34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F264A-0FE9-42E3-8FE4-62A6478E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DE8DE-D4F3-4026-B808-CB5D3F01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E5343-66CE-4D2B-94EF-0AF7B923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67869-B0ED-4209-9F84-F7952745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181D2-7E79-403C-94C3-0E0F9E24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2E1F4-F5B7-4C4B-85EE-1A319052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DBB8-DB52-4905-A834-A29AE466CF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3869-18C3-404F-AF75-07AE0228A3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4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A6FC-BA68-4471-AF02-00241308A9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C72A-5470-4269-83EE-811DDFDBBB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99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6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12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16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20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24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68DE-F9E1-47D9-8748-4D25D10131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2FC1-29D5-42FE-B190-FFF5FDDAAE7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B26E-6EDA-4A52-BDC3-FD162D5C2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36CB-13C6-415E-89A8-147EC983D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2D98-C9D9-4686-9DC2-79DAE7FB0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1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5811-7A2A-48A1-8A31-16E1F93007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23BD-DF2F-41E6-99A6-800C990480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Внимательный читатель- маленький исследователь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69236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99ff"/>
                </a:solidFill>
                <a:latin typeface="Verdana"/>
              </a:rPr>
              <a:t>Каким бывает слово в сказке?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4739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Автор: Брезина Наталья Николаевна, учитель начальных классов МОУ НШДС № 13,г. Байкальск, Слюдянский район, Иркутская область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ема проекта: «Путешествие в страну 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ЛИТЕРАТУРЫ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7612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едметные области:                                                             литературное чтение, факультатив « Внимательный читатель- маленький исследователь», изо «Чем и как работают художники», «О чём говорит искусство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ласс - 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Время проведения – по теме «Каким бывает слово в сказке?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нот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6083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оцессе работы со сказкой ученики не только познакомятся с новыми текстами, в которых слово обретает особый «сказочный» смысл, новое содержание, но и стараются самостоятельно «выстроить» понятие жанра во всей полн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7308720" y="4724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идактические цел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ладение приёмами понимания художественного произвед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речи, творческих способносте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центное вычитывание – «вычерпывание»  из текста определённых моментов для решения тех или иных читательски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учащихся через мысли- чувства рассказчика, его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Методические задачи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ивить учащимся основные знания, умения и навыки в успешном сборе, получении, обработке, передаче и хранении информаци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Учить вычитыванию- интерпретации, толкованию текста, в котором преобладает позиция читателя- критик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Учить вычитыванию развития образа- переживания  геро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Учить вычитыванию чувства- мысли рассказчика, его настро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Вопросы учебной тем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 рождается сказк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 помогает героям одерживать победы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чему добро всегда побеждае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 развивается настроение рассказчика-геро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ьими глазами видится мир, чьими устами передаются мысли и чув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Самостоятельные исследования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учащихся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411280" y="1700280"/>
            <a:ext cx="6400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ение и анализ кн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ение небольших рассказов, продолжений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атрализованное представлений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ение рассказа, сказки, используя данную конц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инения- отзы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едметная область- литерат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озраст- начальная шко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формление- презент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ритерии оценивания ответов и инсцениров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08:45:59Z</dcterms:created>
  <dc:creator>Админ</dc:creator>
  <dc:description/>
  <dc:language>en-US</dc:language>
  <cp:lastModifiedBy>Админ</cp:lastModifiedBy>
  <dcterms:modified xsi:type="dcterms:W3CDTF">2010-02-08T16:31:32Z</dcterms:modified>
  <cp:revision>5</cp:revision>
  <dc:subject/>
  <dc:title>Внимательный читатель- маленький исследователь</dc:title>
</cp:coreProperties>
</file>