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FCE-BE8A-41C1-997C-237BA62F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6CA-F6E8-481C-AFC7-28AFC8A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89A-50B0-4200-ACE9-0EF08ECD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651-0AB6-4F6E-A8D0-8B312570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B88-FD24-480C-ACCA-C14DEA77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CE3E-3F4E-4F71-B5AA-05307CE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1005-2AB4-47DF-BB3D-9D436AE4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C674-A420-4408-BAB5-96E5469B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0EC-ACDE-490E-8773-6351ABA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8F43-F7B4-4386-9AFE-1075033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57F-2F4B-4D18-AB88-3A7D51E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B0B-BEA6-4BAD-86CC-D851C15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B9A-8A5A-4F86-8DD6-4C446C1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865-4313-4C69-BCF4-F693480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BFFF-E0E9-453D-984C-1A7341CB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4C16-257E-4F56-B9CD-2052DC5D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30A-DE86-4408-84FD-EF7ED16C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4D0-B708-4074-8D2A-F37C937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72F-CDF4-44FB-A469-E311399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36F-985D-4B18-B5DC-4DA5165B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B24-F2EC-40B0-8D5A-E694D1C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411-E332-4192-8EFF-3098C2A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44F-00A9-4B88-9654-770DADC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181-6143-42D0-BB66-3A53440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6BB0-A073-4892-8088-AA2DFD2A0D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15AD-4E49-4E8A-8CA5-A01053F628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akprosto.ru/kak-18710-stavit-detyam-gorchichniki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ы есть то, что мы едим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(Ли Бо)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Однажды известного древнегреческого философа Сократа спросили: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 "В чем причина вашего крепкого здоровья в столь зрелые годы, тогда как многие люди намного моложе вас имеют множество заболеваний?"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На что, Сократ ответил: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 "Дело в том, что я ем для того, чтобы жить, а упомянутые вами люди живут для того, чтобы есть"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 миллионы лет эволюции организм человека научился получать всё необходимое для полноценной жизнедеятельности из пищи, которая состояла из различных натуральных продуктов питания. С развитием пищевой промышленности и появлением современных технологий человек научился изменять не только структуру, но и состав, и даже сами природные свойства натурального продукта, созданного природ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сновную причину столь стремительного роста количества тяжелых хронических заболеваний в наиболее развитых странах диетологи видят в кардинально изменившихся за последние несколько десятилетий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(особенно, за прошедшие 30-50 лет) 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химико-биологическом составе и структуре продуктов, употребляемых в пищу в странах с развитой пищевой промышленностью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Продукты, повышающие иммунитет   легкий путь к здоровью"/>
          <p:cNvPicPr/>
          <p:nvPr/>
        </p:nvPicPr>
        <p:blipFill>
          <a:blip r:embed="rId3"/>
          <a:stretch/>
        </p:blipFill>
        <p:spPr>
          <a:xfrm>
            <a:off x="3203640" y="0"/>
            <a:ext cx="253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Что мы едим?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Натуральный продук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в своей естественной природной форме, оказался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недостаточно "хорош"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для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промышленных технологи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 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"технологий продаж"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Небольшие сроки хранения, недостаточная "нежность", не такой, как бы хотелось технологу, яркий цвет и вкус и т.д., и т.п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 итог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из исходного натурального продукта удаляются практически все его биологически активные компоненты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("балластные вещества"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мешающие его длительному хранению, либо придающие ему не самые лучшие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"продающие качества"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запах, цвет, вкус, консистенцию и пр. Полученная таким образом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"пищевая пустышка"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- отличная основа для придания конечному продукту требуемых качеств. Необходимые вкус, цвет, запах, структуру и консистенцию таким "современным продуктам питания" производители придают при помощи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"пищевой химии"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 результат,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 большинство "продуктов питания" промышленного производства представляют собой "жиро- и (или) углеводные пустышки" с большим количеством пищевой химии, легкоусвояемых (простых) углеводов и модифицированных жиров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Кока-кола с успехом заменяет бытовую химию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тобы почистить туалет, вылейте банку Колы в раковину и не смывайте в течение час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истрибьюторы кока колы уже 20 лет используют ее для очистки моторов своих грузовик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Все еще хотите бутылочку Колы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Известны коды пищевых добавок, которым по воздействию на организм человека можно дать следующие характеристики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Запрещенные –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Е103, Е105, Е111, Е121, Е123, Е125, Е126, Е130, Е152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Опасные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102, Е110, Е120, Е124, Е127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Подозрительные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104, Е122, Е141, Е150, Е171, Е173, Е180, Е241, Е477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Ракообразующие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131, Е210-217, Е240, Е330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Вызывающие расстройство кишечника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221-226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Вредные для кож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230-232, Е239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Вызывающие нарушение давления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250, Е251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Провоцирующие появление сып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311, Е312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Повышающие холестерин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320, Е321. </a:t>
            </a:r>
            <a:br>
              <a:rPr sz="2400"/>
            </a:br>
            <a:r>
              <a:rPr b="0" i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Вызывающие расстройство желудка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– Е338-341, Е407, Е450, Е461-466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амый первый сове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который дают своим пациентам сегодня врачи-диетологи звучит так: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о возможности, готовьте себе пищу сами! Из натуральных нерафинированных и не подвергнутых иной высокотехнологичной переработке продуктов!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авильное или рациональное питание еще не значит, что нужно есть только полезные продукты, но и необходимо соблюдать правильный режим питания, то есть нужно потреблять пищу дробно, мелкими частями. Лучше есть 4-5 раз в день понемногу, чем 1-2 раза, но очень в большом количестве. Неправильный режим питания приводит к нарушению обмена веществ, и следовательно приводит к развитию ряда заболеваний. Поэтому очень важно есть вовремя и знать, сколько ты ешь. Кроме этого, большое значение имеет то, что именно вы едите на завтрак, обед и ужин. Известна пословица: «Съешь завтрак сам, обедом поделись с другом, а ужин отдай врагу!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Курение родителей повышает риск того, что ребёнок заболеет астмой, сердечно-сосудистыми заболеваниями, заболеваниями органов дых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Курение родителей повышает риск того, что их ребёнок начнет курить в раннем возрас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одолжительность жизни у курящих сокращается примерно на 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095200" cy="2181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904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«Здоровье – не все,</a:t>
            </a:r>
            <a:br>
              <a:rPr sz="28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о все без здоровья –  ничто»</a:t>
            </a:r>
            <a:br>
              <a:rPr sz="28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крат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Здоровье -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это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состояние полного физического, психического и социального благополучия, а не просто отсутствие болезней или физических дефект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по определению Всемирной организации здравоохранен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уществует несколько критериев здорового образа жизни: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 Режим дня. У каждого школьника должен быть четкий распорядок дня, чтобы он имел возможность не только все успевать, но и приучать свой организм к правильной работе и восстановлению. Для каждого школьника этот режим индивидуален и зависит от особенностей организма и общей загружен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Питание. В школьный период у подростков происходит гормональная перестройка организма и ускоряется процесс роста. Поэтому рацион питания школьника должен покрывать все энергетические потребности организма. У школьника не должно возникать проблем по причине неправильного питания. Важно употреблять пищу, которая содержит и жиры, и белки, и углеводы. Кроме того, нельзя забывать и о приеме витаминов для укрепления иммунит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Физическая активность. Школьник должен вести подвижный образ жизни в сочетании с физическими упражнениями. Необходимо следить только за тем, чтобы организм не был перегруже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 Отсутствие вредных привычек. Полный запрет на курение и употребление алкоголя позволит школьнику сохранить здоровье на много лет. Именно вредные привычки оказывают наиболее негативное влияние на здоровье современных школьников и в будущем могут привести к большим проблем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По результатам опроса НИИ школьных технологий . Подростки от 10 до 17 лет на вопрос  «Чем ты обычно занимаешься в свободное время?» ответили: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    12, 2 % - общаюсь в се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   18, 1 % - читаю книг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   30,1 % - посещаю кружки, се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   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44, 9 % - играют в компьютерные игр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   43, 7 % - общаюсь по телефон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   71,1 % провожу время с друзья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7.   74, 2 % - смотрю телевиз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539640" y="2133720"/>
            <a:ext cx="367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.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· Сидячее положение в течение длительного времен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· Воздействие электромагнитного излучения монитор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· Утомление глаз, нагрузка на зр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· Перегрузка суставов кис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· Стресс при потере информации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доровьесберегающие технологии при работе с компьютер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Основные правила гигиены зр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Комфортное рабочее место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но должно быть достаточно освещено, световое поле равномерно распределено по всей площади рабочего пространства, лучи света не должны попадать прямо в глаза. Укомплектуйте компьютер хорошим монитором, правильно его настройте, используйте качественные программ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Специальное питание для глаз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Людям с ослабленным зрением нужно употреблять продукты, укрепляющие сосуды сетчатки глаза: чернику, черную смородину, морковь. В рационе близоруких должна присутствовать печень трески, зелень: петрушка, салат, укроп, зеленый лук. При дистрофии сетчатки помогает шиповник (настой, отвар), клюк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Гимнастика для глаз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уществуют компьютерные программы, имитирующие отдых для глаз. Трудно сказать, насколько они действенны. Наверное, лучше те же 10 минут отдохнуть по-настоящему, чем разглядывать экран с имитацией отдых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ибольшую пользу гимнастика для глаз приносит для профилактики и на первых стадиях ослабления зрения. Желательно выполнять "глазной" комплекс упражнений и тем, кто работает за компьютером, и тем, чьи глаза склонны к переутомлению. Гимнастика для глаз обычно занимает не более пяти мину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рылатые выражения, фразы, пословицы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ть и пить надо столько, чтобы наши силы восстанавливались, а не подавлялись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Марк Тулий Цицерон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жора роет себе могилу зубами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английская пословица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подумаешь, что мы едим, удивишься, какие мы всеЯДные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Илья Герчиков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еловек есть то, что он ест, а личность есть то, что его питает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Константин Кушнер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и да каша – пища наша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русская народная пословица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еедание приводит к болезни, так показывает практика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Гиппократ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ппетит приходит во время еды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Франсуа Рабле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 подаю вам горькие пилюли в сладкой оболочке. Пилюли безвредны, весь яд в сладости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Станислав Ежи Лец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 тех пор как люди научились варить пищу, они едят вдвое больше, чем требует природа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Бенджамин Франклин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ы живем не для того, чтобы есть, а для того, чтобы жить 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(Сократ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ословицы и поговорки о здоровье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Кто курит табак, тот сам себе вра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Лучше знаться с дураком, чем с табак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Если хочешь долго жить, брось кури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Пьянство - это добровольное безум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Хватил винца - не стало молодц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С пьянством водиться - что в крапиву сади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7. Кто чарку допивает, тот век не доживае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8. Был Иван, а стал болван, а всё вино виноват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9. Пропойное рыло вконец разорил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0. Вино входит - ум выходи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В стакане тонет больше людей, чем в мор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. Вино с разумом не лади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3. За чужое здоровье выпиваешь - своё пропиваеш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4. Здоровье сгубишь - новое не купиш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5. Было бы здоровье, а счастье найдёт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6. Не рад больной и золотой крова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7. Здоров будешь - всё добудеш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8. Деньги - медь, одежда - тлен, а здоровье - всего дорож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9. Лучше средства от хвори нет: делай зарядку до старости ле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. Двигайся больше - проживёшь дольш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1. Кто много лежит, у того бок боли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2. Бег не красив, да здор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3. По яблоку в день - и доктор не нужен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4. Чисто жить - здоровым бы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5. Слабеет тело без дел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оложительные эмоции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доровье – царство смех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ам смех – тропа к успеху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все нам удаетс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гда душа смеё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льше улыбайтесь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ждым днем вы наслаждайтесь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ословицы о здоровь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здоровом те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ржи голову в холод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болел живот, держ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емлю сушит зной, а человека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 слабому и болезн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сякое дело поправимо, если чело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оровый ду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 ноги – в теп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ым ро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олез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истаё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о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Здоровый образ жизни 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это поведение человека, которое отражает определённую жизненную позицию, направлено на сохранение и укрепление здоровья и основано на выполнение норм, правил и требований личной и общей гигие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    </a:t>
            </a:r>
            <a:r>
              <a:rPr b="1" i="1" lang="en-US" sz="2400" spc="-1" strike="noStrike">
                <a:solidFill>
                  <a:srgbClr val="009900"/>
                </a:solidFill>
                <a:latin typeface="Verdana"/>
              </a:rPr>
              <a:t>Один из главных показателей здоровья - продолжительность жизни. Там, где нет здоровья, не может быть долголетия. В конце XX века средняя продолжительность жизни в России составила 71 год у женщин и 57 лет у мужчи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Основные составляющие </a:t>
            </a: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здорового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 образа жизни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каз от вредных пристраст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тимальный двигательный реж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циональное пит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ичная гигие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ложительные эмо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ежим дня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дицинские исследования показали, что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полноценный ночной сон полезен и взрослым, однако 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детям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Verdana"/>
              </a:rPr>
              <a:t> он просто необходим. Школьник должен спать не менее девяти часов. Именно крепкий сон поможет сделать иммунитет стойким к вирусам и микробам. Поздно ложась ко сну и рано просыпаясь, школьник сокращает продолжительность ночного отдыха в течение всей недели. А это приводит к вредной привычке отсыпаться по выходным дням, т. е. к нарушению естественных биологических часов орган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43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Не менее важен                                 полноценный и здоровый со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для улучшения умственной деятельности человека. При его недостатке снижется внимание и работоспособность, появляется раздражительность, вспыльчивость, депрессия, а в отдельных случаях – склонность к насилию и тяга к алкоголю и сигаретам.Таким образом, недостаток сна негативно отражается не только на учпеваемости в школе, но и на здор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656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4:27:37Z</dcterms:created>
  <dc:creator>Master</dc:creator>
  <dc:description/>
  <dc:language>en-US</dc:language>
  <cp:lastModifiedBy>Master</cp:lastModifiedBy>
  <dcterms:modified xsi:type="dcterms:W3CDTF">2013-09-01T17:13:34Z</dcterms:modified>
  <cp:revision>3</cp:revision>
  <dc:subject/>
  <dc:title>Слайд 1</dc:title>
</cp:coreProperties>
</file>