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64E9-1C7C-45A7-B2B1-7879184DD7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79CB-5F45-4632-A7D5-7A66999323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4D08-EA10-4048-A983-45FD249DA0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637A-1562-44AC-A5E7-90E1B06190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C8AC-4AB8-4C9F-BBB5-E8165585A4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5ECE-2821-4488-A4BC-B773BA1E5C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8187-AA8E-4402-8FD7-B4A6B40EB3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3572-F528-478B-918C-BCDB802DEF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6EA1-3AF6-46B0-9529-2A56F37052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FD66-A434-4456-8C70-970BCC755D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68D4-4868-4F59-B6A2-B9E6B69DD6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9106-F9F4-4C18-9C39-9CAC2B636B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5310-599E-4BED-87FB-AED1D0F3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AEC-659A-47FF-A157-C6E8960C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459-E541-464E-B940-A0AB7ACA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1E1-095C-4E10-AE92-BDFE697E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12E1-0102-497F-BB3B-1B19ECE4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3CCF-655D-4F16-A1A0-7BD8FDC7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D43C-8059-4A94-BA2C-82C34D4B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7A58-6F39-41F1-A837-4794A37C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5718-9D37-4894-B22E-27942297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A8AC-1E3C-4EF3-9313-F078989C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F06A-B9DF-4398-BABB-D6F53560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5C7B-E33D-4C51-8726-72C4A5AD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3C18-2274-4A71-AFE2-4A7781F2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E1BF-9337-439D-8B89-7548247B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E799-95BC-4DAF-9341-8A6BD8D4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29C0-11D1-4458-9D46-D40E33E8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AB03-2198-4929-978A-83EEE961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5FB15-9D70-46FD-818A-3C08861C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7BB24-5BC9-43F1-A56D-6CFABA83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AD548-B2A1-4D47-89EE-649AE350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76E20-99BD-4774-9E7E-B5724F5C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27F48-7D22-42A9-9353-469548B0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6DD-D2E3-46E6-9FA4-76427BA4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AF46E-6B74-44F4-83C0-0608627D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3E31F-90C4-49F5-BE9B-862F5137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0D885-591A-4310-A6CE-4BE9CA93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C5ED2-7C91-4929-97F0-8A9EDD48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D983C-2B39-4663-9F10-8B1910E7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9237B-82AF-4B09-AABF-84D979AF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C64D1-8D85-4348-B54C-1EDE6454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597BA-46F5-4AFD-B6A7-1EDECAC4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0E640-978C-46FF-9B68-FE43D068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42AFA-241C-4F80-9A4E-20245EB0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BA6-DE29-4F0F-9E2C-3AAA28E6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B522E-84DF-4067-8E1D-B8CCC380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39592-E2AE-4BD5-A6AB-FD76E8B3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7762B-5E73-471D-9F92-83623F70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E0103-21BD-47F1-931D-F333FEBE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D09CE-2051-42B7-B834-F3479F52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07FE5-F6AD-4172-A741-DE0F18E2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C92A2-3702-4E1E-97F0-E2354811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08DA4-6616-40F1-8EB8-831E655F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FD06D-A1D0-499C-B712-C54F769A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2B96-D28A-48E6-A78E-4099FE3E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E501-B00B-4CEA-A137-F01E7DD6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5D1-AADC-4AD9-A07E-757E72DD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04CD-50C3-4EE1-98F4-C8AAE81E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246-40F7-49C0-86D1-5A006AFB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0B49-4C9D-4616-8361-5CA5741D3DD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E4BC-7D49-490C-AA23-31EC408768F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E29C-E876-4741-8800-248DE9935E5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CA2C-8022-4412-98DD-74B52D9150D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201600" y="1427040"/>
            <a:ext cx="8777160" cy="3711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071360" y="45720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ыполнил: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алинин Александр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ченик 3В класс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ОУ СОШ №134 г. Волгоград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Содержимое 3" descr="710-2-f.jpg"/>
          <p:cNvPicPr/>
          <p:nvPr/>
        </p:nvPicPr>
        <p:blipFill>
          <a:blip r:embed="rId1"/>
          <a:stretch/>
        </p:blipFill>
        <p:spPr>
          <a:xfrm>
            <a:off x="1000080" y="714240"/>
            <a:ext cx="2333520" cy="34149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7a2f9e4469a4t.jpg"/>
          <p:cNvPicPr/>
          <p:nvPr/>
        </p:nvPicPr>
        <p:blipFill>
          <a:blip r:embed="rId2"/>
          <a:stretch/>
        </p:blipFill>
        <p:spPr>
          <a:xfrm>
            <a:off x="4357800" y="857160"/>
            <a:ext cx="3786120" cy="293364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800px-Lynx-canadensis.jpg"/>
          <p:cNvPicPr/>
          <p:nvPr/>
        </p:nvPicPr>
        <p:blipFill>
          <a:blip r:embed="rId3"/>
          <a:stretch/>
        </p:blipFill>
        <p:spPr>
          <a:xfrm>
            <a:off x="4500720" y="4071960"/>
            <a:ext cx="3714480" cy="25398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6" descr="36450448_5.jpg"/>
          <p:cNvPicPr/>
          <p:nvPr/>
        </p:nvPicPr>
        <p:blipFill>
          <a:blip r:embed="rId4"/>
          <a:stretch/>
        </p:blipFill>
        <p:spPr>
          <a:xfrm>
            <a:off x="1071720" y="4500720"/>
            <a:ext cx="264312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ПАСИБО ЗА ВНИМАНИЕ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Содержимое 3" descr="risik10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ысь – единственный хищник семейства кошачьих, способный жить в областях с суровым климатом и глубоким снежным покровом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Содержимое 4" descr="1691.jpg"/>
          <p:cNvPicPr/>
          <p:nvPr/>
        </p:nvPicPr>
        <p:blipFill>
          <a:blip r:embed="rId1"/>
          <a:stretch/>
        </p:blipFill>
        <p:spPr>
          <a:xfrm>
            <a:off x="357120" y="257184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206" name="Содержимое 5" descr="rysi.jpg"/>
          <p:cNvPicPr/>
          <p:nvPr/>
        </p:nvPicPr>
        <p:blipFill>
          <a:blip r:embed="rId2"/>
          <a:stretch/>
        </p:blipFill>
        <p:spPr>
          <a:xfrm>
            <a:off x="4643280" y="2571840"/>
            <a:ext cx="40388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4240" y="164304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onstantia"/>
              </a:rPr>
              <a:t>Длина тела взрослого зверя около 120 см, хвост не превышает 25 с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onstantia"/>
              </a:rPr>
              <a:t>Вес зверя может достигать 20, а порой и 30 к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Содержимое 4" descr="177071.jpg"/>
          <p:cNvPicPr/>
          <p:nvPr/>
        </p:nvPicPr>
        <p:blipFill>
          <a:blip r:embed="rId1"/>
          <a:stretch/>
        </p:blipFill>
        <p:spPr>
          <a:xfrm>
            <a:off x="3929040" y="1357200"/>
            <a:ext cx="47149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6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3763"/>
                </a:solidFill>
                <a:latin typeface="Constantia"/>
              </a:rPr>
              <a:t>Голова большая, на щеках волосы сильно удлинены и образуют пышные свисающие баки, идущие от ушей к горл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3763"/>
                </a:solidFill>
                <a:latin typeface="Constantia"/>
              </a:rPr>
              <a:t>Пучки волос на концах стоящих ушей образуют торчащие кисточки в пять сантиметров и более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3763"/>
                </a:solidFill>
                <a:latin typeface="Constantia"/>
              </a:rPr>
              <a:t>Ноги у рыси сильные и довольно толстые. Широкие округлые лапы приспособлены для хождения по снегу и снабжены острыми круто загнутыми когтям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Содержимое 4" descr="risik5.jpg"/>
          <p:cNvPicPr/>
          <p:nvPr/>
        </p:nvPicPr>
        <p:blipFill>
          <a:blip r:embed="rId1"/>
          <a:stretch/>
        </p:blipFill>
        <p:spPr>
          <a:xfrm>
            <a:off x="4357800" y="1500120"/>
            <a:ext cx="41432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3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Несмотря на свой сравнительно небольшой рост, лесная кошка обладает неимоверной сило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Объектами её нападений становятся не только мелкие млекопитающие, например зайцы или мыши, за которыми рысь особенно часто охотится, но и более крупные – косули, молодые кабаны, бобры и лис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На человека рысь тоже может напасть, но бывает это исключительно редко – лишь раненая или преследуемая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Содержимое 5" descr="1.jpg"/>
          <p:cNvPicPr/>
          <p:nvPr/>
        </p:nvPicPr>
        <p:blipFill>
          <a:blip r:embed="rId1"/>
          <a:stretch/>
        </p:blipFill>
        <p:spPr>
          <a:xfrm>
            <a:off x="3575160" y="1500120"/>
            <a:ext cx="511164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4" descr="1857814.jpg"/>
          <p:cNvPicPr/>
          <p:nvPr/>
        </p:nvPicPr>
        <p:blipFill>
          <a:blip r:embed="rId1"/>
          <a:stretch/>
        </p:blipFill>
        <p:spPr>
          <a:xfrm>
            <a:off x="714240" y="1000080"/>
            <a:ext cx="3857760" cy="35956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5" descr="untitled.bmp"/>
          <p:cNvPicPr/>
          <p:nvPr/>
        </p:nvPicPr>
        <p:blipFill>
          <a:blip r:embed="rId2"/>
          <a:stretch/>
        </p:blipFill>
        <p:spPr>
          <a:xfrm>
            <a:off x="5000760" y="2571840"/>
            <a:ext cx="2867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Constantia"/>
              </a:rPr>
              <a:t>В мае, после 63 дней беременности, рысь приносит от одного до четырёх котят (чаще – двух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Constantia"/>
              </a:rPr>
              <a:t>Растёт молодёжь быстро и к октябрю ростом сравнивается с родителями, но живёт с ними до будущей весн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Содержимое 4" descr="1222703347_lynx85_1600kh1200.jpg"/>
          <p:cNvPicPr/>
          <p:nvPr/>
        </p:nvPicPr>
        <p:blipFill>
          <a:blip r:embed="rId1"/>
          <a:stretch/>
        </p:blipFill>
        <p:spPr>
          <a:xfrm>
            <a:off x="3643200" y="1285920"/>
            <a:ext cx="51120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Содержимое 3" descr="49331625_LYNX3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53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nstantia"/>
              </a:rPr>
              <a:t>Этот красивый, независимый зверь занесён в Красную книгу строго охраняется законом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Содержимое 4" descr="2249358db2a9.jpg"/>
          <p:cNvPicPr/>
          <p:nvPr/>
        </p:nvPicPr>
        <p:blipFill>
          <a:blip r:embed="rId1"/>
          <a:stretch/>
        </p:blipFill>
        <p:spPr>
          <a:xfrm>
            <a:off x="3714840" y="571680"/>
            <a:ext cx="2971800" cy="26287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1db131f9c57b.jpg"/>
          <p:cNvPicPr/>
          <p:nvPr/>
        </p:nvPicPr>
        <p:blipFill>
          <a:blip r:embed="rId2"/>
          <a:stretch/>
        </p:blipFill>
        <p:spPr>
          <a:xfrm>
            <a:off x="4714920" y="3500280"/>
            <a:ext cx="411948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2:10:49Z</dcterms:created>
  <dc:creator>Бойкова Оксана Владимировна</dc:creator>
  <dc:description/>
  <dc:language>en-US</dc:language>
  <cp:lastModifiedBy>ОЛЬГА</cp:lastModifiedBy>
  <dcterms:modified xsi:type="dcterms:W3CDTF">2012-01-08T11:58:34Z</dcterms:modified>
  <cp:revision>15</cp:revision>
  <dc:subject/>
  <dc:title>РЫСЬ</dc:title>
</cp:coreProperties>
</file>