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3B19-774E-4293-816E-B79EDF129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53FC-1EDD-47BD-964B-74755AB6D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E9A0-8954-4CA7-9F35-9B4238225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4C99-95FC-4B37-9945-2720A3ADC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D702-4BE1-4019-9680-491AFF55A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64B0-58CE-4B2C-88AE-65DF185C7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EC28-C6DD-41BF-81CC-4FF1416E7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DE46-39AC-4F14-A508-FB9F7D4BD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C831-BFD8-471C-9271-2A997F249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082F-1CA5-4F6C-99FF-16F208B8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F4CB-3842-453F-B97F-9C13EF12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21AD-E5EC-4B83-9C9E-FCFB25CF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CDE7B-9835-4FFD-9899-B48157A0E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87280" y="549360"/>
            <a:ext cx="72723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Михаил Михайлович Зощен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1894-1958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771640" y="1916280"/>
            <a:ext cx="3708360" cy="442908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Arial"/>
              </a:rPr>
              <a:t>Я пишу о мещанстве. Да, у нас нет мещанства как класса, но я по большей части делаю собирательный тип. В каждом из нас имеются те или иные черты и мещанина, и и собственника, и стяжателя. Я соединяю эти характерные, часто затушеванные черты в одном герое, и тогда этот герой становится нам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6600"/>
                </a:solidFill>
                <a:latin typeface="Arial"/>
              </a:rPr>
              <a:t>знакомым и где-то виденным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96600"/>
                </a:solidFill>
                <a:latin typeface="Arial"/>
              </a:rPr>
              <a:t>                                 М.М. Зощен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600360" y="0"/>
            <a:ext cx="52657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144720" y="2673000"/>
            <a:ext cx="39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Герои Зощенк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Шаржи на Зощенк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628640"/>
            <a:ext cx="2808360" cy="4137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708360" y="1417680"/>
            <a:ext cx="2349720" cy="4916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483240" y="2122560"/>
            <a:ext cx="220356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99"/>
                </a:solidFill>
                <a:latin typeface="Arial"/>
              </a:rPr>
              <a:t>Шаржи на Зощенк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Михаил Зощенко. Дружеский шарж И.Игина"/>
          <p:cNvPicPr/>
          <p:nvPr/>
        </p:nvPicPr>
        <p:blipFill>
          <a:blip r:embed="rId1"/>
          <a:stretch/>
        </p:blipFill>
        <p:spPr>
          <a:xfrm>
            <a:off x="5327640" y="1860480"/>
            <a:ext cx="2400480" cy="4473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008000" y="1417680"/>
            <a:ext cx="3436920" cy="47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60093"/>
                </a:solidFill>
                <a:latin typeface="Arial"/>
              </a:rPr>
              <a:t>Аристократ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Б. Маркевич. Иллюстрация к “Рассказам” М. Зощенко, 1971"/>
          <p:cNvPicPr/>
          <p:nvPr/>
        </p:nvPicPr>
        <p:blipFill>
          <a:blip r:embed="rId1"/>
          <a:stretch/>
        </p:blipFill>
        <p:spPr>
          <a:xfrm>
            <a:off x="358920" y="441360"/>
            <a:ext cx="1368360" cy="1474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58920" y="1916280"/>
            <a:ext cx="3781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1 группа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Композиция рассказа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Характер композиции. С чего начинается рассказ и чем заканчиваетс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Что представляет собой начало рассказа по отношению ко всему рассказ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Найдите кульминацию рассказ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Финал. Неожиданный или прогнозируемы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35640" y="1916280"/>
            <a:ext cx="41511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2 груп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Герои рассказа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о каким признакам герой распознал в героине аристократк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Чем привлек Григорий Иванович героиню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огда герои прозревают истину в отношении друг друг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ого они винят в своей неудаче? (Обратите внимание на последние слов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3882960"/>
            <a:ext cx="353844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3 группа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Язык «уважаемых граждан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.И. Чуковский отмечал в речах героев М. Зощенко «канцелярские штампы, фразеологию нового времени, дурно понятые иностранные слова, идиотические повторы одного и того же слова, вывихи синтаксиса, опухоли словаря, косноязычие, неуклюжесть, бедность мещанского жаргона». Подтвердите эти наблюдения примерами из текс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ак язык характеризует героев: Григория Ивановича, его даму, буфетчика, собравшуюся толп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427640" y="3882960"/>
            <a:ext cx="425916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4 группа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Культурные вызовы герою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Рассказ представляет собой цепочку культурных вызовов, которые жизнь бросает Григорию Ивановичу и к которым он не готов. Это знакомство с дамой, «закрепление» знакомства, ухаживание, посещение театра, развлечение дамы в антракте. Перечитайте 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ак ведет себя герой в каждой из этих ситуаци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 какими ситуациями ему удалось справиться, а с каким – не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6009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Arial"/>
              </a:rPr>
              <a:t>Приоритет материального над духовным, инстинктивного над разум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6009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Arial"/>
              </a:rPr>
              <a:t>Удовлетворений личных желаний и влеч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6009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Arial"/>
              </a:rPr>
              <a:t>Жадный интерес к вещ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6009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Arial"/>
              </a:rPr>
              <a:t>Стремление уклониться от полезного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6009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Arial"/>
              </a:rPr>
              <a:t>Содержание предпочитается «оболочк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8T11:23:29Z</dcterms:created>
  <dc:creator>Uchitel</dc:creator>
  <dc:description/>
  <dc:language>en-US</dc:language>
  <cp:lastModifiedBy>Ступак</cp:lastModifiedBy>
  <dcterms:modified xsi:type="dcterms:W3CDTF">2013-09-23T10:56:41Z</dcterms:modified>
  <cp:revision>49</cp:revision>
  <dc:subject/>
  <dc:title>Слайд 1</dc:title>
</cp:coreProperties>
</file>