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72C24-8B1D-4309-8170-319D79EF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A723-E288-4BB4-9E96-21050BAB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E8E2-5974-4DA5-9249-2C0C9C6B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5B3D-739F-4D25-8F1C-3E1FA9A5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5F2C-CC81-4CAA-AA82-73FF00E0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4340-1203-4510-8A06-6EDB5215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09E8-6C6D-4534-9AE1-AC3EC35E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6486-15D2-49F5-965A-2371439F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87C4-6F02-4E00-8008-5753E73A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B276-4C55-47CD-B141-246FD348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4C8C-A1FA-4F73-93B0-8B77A52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7812-3776-48FA-9C87-FEACF76D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680B-00C9-4CFB-9D81-F66F6D8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4E12-8201-4956-B9AD-71C89FE1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25C0-8DC7-4E90-A026-70582EA9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92D8-ECE0-46C1-802E-3706A8B7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DB13-B532-4A7E-B804-4FF37F22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A0B5-F140-48B0-905B-75DC8C2A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CDCE-0C4B-45F1-A08C-701EE145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3584-EFBE-4CE2-BFDC-0994427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7C76-DBBD-4154-8C52-F9529BF0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9DE3A-DFAE-44E7-B613-71BEEDB3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A1E4-B145-48DD-A1BA-E3B7BEA7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733E-5982-4B20-88A1-8BD4389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A5C0-4CF4-44BE-90A8-8F37A1817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0FBF-AFD2-4304-A344-B3F24B985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ru.wikipedia.org/wiki/&#1052;&#1088;&#1072;&#1084;&#1086;&#1088;" TargetMode="External"/><Relationship Id="rId3" Type="http://schemas.openxmlformats.org/officeDocument/2006/relationships/hyperlink" Target="http://ru.wikipedia.org/wiki/&#1057;&#1090;&#1072;&#1090;&#1091;&#1103;" TargetMode="External"/><Relationship Id="rId4" Type="http://schemas.openxmlformats.org/officeDocument/2006/relationships/hyperlink" Target="http://ru.wikipedia.org/wiki/&#1052;&#1080;&#1082;&#1077;&#1083;&#1072;&#1085;&#1076;&#1078;&#1077;&#1083;&#1086;" TargetMode="External"/><Relationship Id="rId5" Type="http://schemas.openxmlformats.org/officeDocument/2006/relationships/hyperlink" Target="http://ru.wikipedia.org/wiki/&#1060;&#1083;&#1086;&#1088;&#1077;&#1085;&#1094;&#1080;&#1103;" TargetMode="External"/><Relationship Id="rId6" Type="http://schemas.openxmlformats.org/officeDocument/2006/relationships/hyperlink" Target="http://ru.wikipedia.org/wiki/&#1055;&#1083;&#1086;&#1097;&#1072;&#1076;&#1100;_&#1057;&#1080;&#1085;&#1100;&#1086;&#1088;&#1080;&#1080;_(&#1060;&#1083;&#1086;&#1088;&#1077;&#1085;&#1094;&#1080;&#1103;)" TargetMode="External"/><Relationship Id="rId7" Type="http://schemas.openxmlformats.org/officeDocument/2006/relationships/hyperlink" Target="http://ru.wikipedia.org/wiki/8_&#1089;&#1077;&#1085;&#1090;&#1103;&#1073;&#1088;&#1103;" TargetMode="External"/><Relationship Id="rId8" Type="http://schemas.openxmlformats.org/officeDocument/2006/relationships/hyperlink" Target="http://ru.wikipedia.org/wiki/1504_&#1075;&#1086;&#1076;" TargetMode="External"/><Relationship Id="rId9" Type="http://schemas.openxmlformats.org/officeDocument/2006/relationships/hyperlink" Target="http://ru.wikipedia.org/wiki/&#1060;&#1083;&#1086;&#1088;&#1077;&#1085;&#1090;&#1080;&#1081;&#1089;&#1082;&#1072;&#1103;_&#1088;&#1077;&#1089;&#1087;&#1091;&#1073;&#1083;&#1080;&#1082;&#1072;" TargetMode="External"/><Relationship Id="rId10" Type="http://schemas.openxmlformats.org/officeDocument/2006/relationships/hyperlink" Target="http://ru.wikipedia.org/wiki/&#1056;&#1077;&#1085;&#1077;&#1089;&#1089;&#1072;&#1085;&#1089;" TargetMode="External"/><Relationship Id="rId11" Type="http://schemas.openxmlformats.org/officeDocument/2006/relationships/hyperlink" Target="http://ru.wikipedia.org/wiki/&#1040;&#1082;&#1072;&#1076;&#1077;&#1084;&#1080;&#1103;_&#1080;&#1079;&#1103;&#1097;&#1085;&#1099;&#1093;_&#1080;&#1089;&#1082;&#1091;&#1089;&#1089;&#1090;&#1074;_(&#1060;&#1083;&#1086;&#1088;&#1077;&#1085;&#1094;&#1080;&#1103;)" TargetMode="External"/><Relationship Id="rId12" Type="http://schemas.openxmlformats.org/officeDocument/2006/relationships/hyperlink" Target="http://ru.wikipedia.org/wiki/&#1060;&#1083;&#1086;&#1088;&#1077;&#1085;&#1094;&#1080;&#1103;" TargetMode="External"/><Relationship Id="rId13" Type="http://schemas.openxmlformats.org/officeDocument/2006/relationships/hyperlink" Target="http://ru.wikipedia.org/wiki/&#1044;&#1072;&#1074;&#1080;&#1076;" TargetMode="External"/><Relationship Id="rId14" Type="http://schemas.openxmlformats.org/officeDocument/2006/relationships/hyperlink" Target="http://ru.wikipedia.org/wiki/&#1043;&#1086;&#1083;&#1080;&#1072;&#1092;" TargetMode="External"/><Relationship Id="rId15" Type="http://schemas.openxmlformats.org/officeDocument/2006/relationships/hyperlink" Target="http://ru.wikipedia.org/wiki/&#1042;&#1077;&#1088;&#1086;&#1082;&#1082;&#1100;&#1086;" TargetMode="External"/><Relationship Id="rId16" Type="http://schemas.openxmlformats.org/officeDocument/2006/relationships/hyperlink" Target="http://ru.wikipedia.org/wiki/&#1044;&#1086;&#1085;&#1072;&#1090;&#1077;&#1083;&#1083;&#1086;" TargetMode="External"/><Relationship Id="rId17" Type="http://schemas.openxmlformats.org/officeDocument/2006/relationships/hyperlink" Target="http://ru.wikipedia.org/wiki/&#1055;&#1088;&#1072;&#1097;&#1072;" TargetMode="External"/><Relationship Id="rId18" Type="http://schemas.openxmlformats.org/officeDocument/2006/relationships/hyperlink" Target="http://ru.wikipedia.org/wiki/&#1050;&#1086;&#1085;&#1090;&#1088;&#1072;&#1087;&#1086;&#1089;&#1090;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4;&#1072;&#1090;&#1088;&#1086;&#1095;&#1077;&#1085;&#1090;&#1086;" TargetMode="External"/><Relationship Id="rId2" Type="http://schemas.openxmlformats.org/officeDocument/2006/relationships/hyperlink" Target="http://ru.wikipedia.org/w/index.php?title=&#1040;&#1088;&#1090;&#1077;_&#1076;&#1077;&#1083;&#1083;&#1072;_&#1051;&#1072;&#1085;&#1072;&amp;action=edit&amp;redlink=1" TargetMode="External"/><Relationship Id="rId3" Type="http://schemas.openxmlformats.org/officeDocument/2006/relationships/hyperlink" Target="http://ru.wikipedia.org/wiki/&#1057;&#1072;&#1085;&#1090;&#1072;-&#1052;&#1072;&#1088;&#1080;&#1103;-&#1076;&#1077;&#1083;&#1100;-&#1060;&#1100;&#1086;&#1088;&#1077;" TargetMode="External"/><Relationship Id="rId4" Type="http://schemas.openxmlformats.org/officeDocument/2006/relationships/hyperlink" Target="http://ru.wikipedia.org/wiki/1464_&#1075;&#1086;&#1076;" TargetMode="External"/><Relationship Id="rId5" Type="http://schemas.openxmlformats.org/officeDocument/2006/relationships/hyperlink" Target="http://ru.wikipedia.org/w/index.php?title=&#1040;&#1075;&#1086;&#1089;&#1090;&#1080;&#1085;&#1086;_&#1076;&#1080;_&#1044;&#1091;&#1095;&#1095;&#1086;&amp;action=edit&amp;redlink=1" TargetMode="External"/><Relationship Id="rId6" Type="http://schemas.openxmlformats.org/officeDocument/2006/relationships/hyperlink" Target="http://ru.wikipedia.org/w/index.php?title=&#1040;&#1075;&#1086;&#1089;&#1090;&#1080;&#1085;&#1086;_&#1076;&#1080;_&#1044;&#1091;&#1095;&#1095;&#1086;&amp;action=edit&amp;redlink=1" TargetMode="External"/><Relationship Id="rId7" Type="http://schemas.openxmlformats.org/officeDocument/2006/relationships/hyperlink" Target="http://ru.wikipedia.org/w/index.php?title=&#1040;&#1075;&#1086;&#1089;&#1090;&#1080;&#1085;&#1086;_&#1076;&#1080;_&#1044;&#1091;&#1095;&#1095;&#1086;&amp;action=edit&amp;redlink=1" TargetMode="External"/><Relationship Id="rId8" Type="http://schemas.openxmlformats.org/officeDocument/2006/relationships/hyperlink" Target="http://ru.wikipedia.org/w/index.php?title=&#1040;&#1075;&#1086;&#1089;&#1090;&#1080;&#1085;&#1086;_&#1076;&#1080;_&#1044;&#1091;&#1095;&#1095;&#1086;&amp;action=edit&amp;redlink=1" TargetMode="External"/><Relationship Id="rId9" Type="http://schemas.openxmlformats.org/officeDocument/2006/relationships/hyperlink" Target="http://ru.wikipedia.org/w/index.php?title=&#1040;&#1075;&#1086;&#1089;&#1090;&#1080;&#1085;&#1086;_&#1076;&#1080;_&#1044;&#1091;&#1095;&#1095;&#1086;&amp;action=edit&amp;redlink=1" TargetMode="External"/><Relationship Id="rId10" Type="http://schemas.openxmlformats.org/officeDocument/2006/relationships/hyperlink" Target="http://ru.wikipedia.org/wiki/&#1050;&#1072;&#1088;&#1088;&#1072;&#1088;&#1072;" TargetMode="External"/><Relationship Id="rId11" Type="http://schemas.openxmlformats.org/officeDocument/2006/relationships/hyperlink" Target="http://ru.wikipedia.org/wiki/1466_&#1075;&#1086;&#1076;" TargetMode="External"/><Relationship Id="rId12" Type="http://schemas.openxmlformats.org/officeDocument/2006/relationships/hyperlink" Target="http://ru.wikipedia.org/w/index.php?title=&#1040;&#1085;&#1090;&#1086;&#1085;&#1080;&#1086;_&#1056;&#1086;&#1089;&#1089;&#1077;&#1083;&#1083;&#1080;&#1085;&#1086;&amp;action=edit&amp;redlink=1" TargetMode="External"/><Relationship Id="rId13" Type="http://schemas.openxmlformats.org/officeDocument/2006/relationships/hyperlink" Target="http://ru.wikipedia.org/w/index.php?title=&#1040;&#1085;&#1090;&#1086;&#1085;&#1080;&#1086;_&#1056;&#1086;&#1089;&#1089;&#1077;&#1083;&#1083;&#1080;&#1085;&#1086;&amp;action=edit&amp;redlink=1" TargetMode="External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_&#1074;&#1077;&#1082;" TargetMode="External"/><Relationship Id="rId2" Type="http://schemas.openxmlformats.org/officeDocument/2006/relationships/hyperlink" Target="http://ru.wikipedia.org/wiki/&#1051;&#1077;&#1086;&#1085;&#1072;&#1088;&#1076;&#1086;_&#1076;&#1072;_&#1042;&#1080;&#1085;&#1095;&#1080;" TargetMode="External"/><Relationship Id="rId3" Type="http://schemas.openxmlformats.org/officeDocument/2006/relationships/hyperlink" Target="http://ru.wikipedia.org/wiki/16_&#1072;&#1074;&#1075;&#1091;&#1089;&#1090;&#1072;" TargetMode="External"/><Relationship Id="rId4" Type="http://schemas.openxmlformats.org/officeDocument/2006/relationships/hyperlink" Target="http://ru.wikipedia.org/wiki/1501_&#1075;&#1086;&#1076;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ichelangelo%27s_David_-_63_grijswaarden.png" TargetMode="External"/><Relationship Id="rId2" Type="http://schemas.openxmlformats.org/officeDocument/2006/relationships/hyperlink" Target="http://ru.wikipedia.org/wiki/25_&#1103;&#1085;&#1074;&#1072;&#1088;&#1103;" TargetMode="External"/><Relationship Id="rId3" Type="http://schemas.openxmlformats.org/officeDocument/2006/relationships/hyperlink" Target="http://ru.wikipedia.org/wiki/1504_&#1075;&#1086;&#1076;" TargetMode="External"/><Relationship Id="rId4" Type="http://schemas.openxmlformats.org/officeDocument/2006/relationships/hyperlink" Target="http://ru.wikipedia.org/wiki/&#1041;&#1086;&#1090;&#1090;&#1080;&#1095;&#1077;&#1083;&#1083;&#1080;" TargetMode="External"/><Relationship Id="rId5" Type="http://schemas.openxmlformats.org/officeDocument/2006/relationships/hyperlink" Target="http://ru.wikipedia.org/wiki/&#1044;&#1078;&#1091;&#1083;&#1080;&#1072;&#1085;&#1086;_&#1076;&#1072;_&#1057;&#1072;&#1085;&#1075;&#1072;&#1083;&#1083;&#1086;" TargetMode="External"/><Relationship Id="rId6" Type="http://schemas.openxmlformats.org/officeDocument/2006/relationships/hyperlink" Target="http://ru.wikipedia.org/wiki/&#1044;&#1078;&#1091;&#1083;&#1080;&#1072;&#1085;&#1086;_&#1076;&#1072;_&#1057;&#1072;&#1085;&#1075;&#1072;&#1083;&#1083;&#1086;" TargetMode="External"/><Relationship Id="rId7" Type="http://schemas.openxmlformats.org/officeDocument/2006/relationships/hyperlink" Target="http://ru.wikipedia.org/wiki/&#1044;&#1078;&#1091;&#1083;&#1080;&#1072;&#1085;&#1086;_&#1076;&#1072;_&#1057;&#1072;&#1085;&#1075;&#1072;&#1083;&#1083;&#1086;" TargetMode="External"/><Relationship Id="rId8" Type="http://schemas.openxmlformats.org/officeDocument/2006/relationships/hyperlink" Target="http://ru.wikipedia.org/wiki/&#1055;&#1100;&#1077;&#1088;&#1086;_&#1076;&#1080;_&#1050;&#1086;&#1079;&#1080;&#1084;&#1086;" TargetMode="External"/><Relationship Id="rId9" Type="http://schemas.openxmlformats.org/officeDocument/2006/relationships/hyperlink" Target="http://ru.wikipedia.org/wiki/&#1055;&#1100;&#1077;&#1088;&#1086;_&#1076;&#1080;_&#1050;&#1086;&#1079;&#1080;&#1084;&#1086;" TargetMode="External"/><Relationship Id="rId10" Type="http://schemas.openxmlformats.org/officeDocument/2006/relationships/hyperlink" Target="http://ru.wikipedia.org/wiki/&#1055;&#1100;&#1077;&#1088;&#1086;_&#1076;&#1080;_&#1050;&#1086;&#1079;&#1080;&#1084;&#1086;" TargetMode="External"/><Relationship Id="rId11" Type="http://schemas.openxmlformats.org/officeDocument/2006/relationships/hyperlink" Target="http://ru.wikipedia.org/wiki/&#1055;&#1100;&#1077;&#1088;&#1086;_&#1076;&#1080;_&#1050;&#1086;&#1079;&#1080;&#1084;&#1086;" TargetMode="External"/><Relationship Id="rId12" Type="http://schemas.openxmlformats.org/officeDocument/2006/relationships/hyperlink" Target="http://ru.wikipedia.org/wiki/&#1051;&#1086;&#1076;&#1078;&#1080;&#1103;_&#1051;&#1072;&#1085;&#1094;&#1080;" TargetMode="External"/><Relationship Id="rId13" Type="http://schemas.openxmlformats.org/officeDocument/2006/relationships/hyperlink" Target="http://ru.wikipedia.org/wiki/&#1051;&#1086;&#1076;&#1078;&#1080;&#1103;_&#1051;&#1072;&#1085;&#1094;&#1080;" TargetMode="External"/><Relationship Id="rId14" Type="http://schemas.openxmlformats.org/officeDocument/2006/relationships/hyperlink" Target="http://ru.wikipedia.org/wiki/&#1055;&#1072;&#1083;&#1072;&#1094;&#1094;&#1086;_&#1042;&#1077;&#1082;&#1082;&#1100;&#1086;" TargetMode="External"/><Relationship Id="rId15" Type="http://schemas.openxmlformats.org/officeDocument/2006/relationships/hyperlink" Target="http://ru.wikipedia.org/wiki/&#1055;&#1072;&#1083;&#1072;&#1094;&#1094;&#1086;_&#1042;&#1077;&#1082;&#1082;&#1100;&#1086;" TargetMode="External"/><Relationship Id="rId16" Type="http://schemas.openxmlformats.org/officeDocument/2006/relationships/hyperlink" Target="http://ru.wikipedia.org/w/index.php?title=&#1070;&#1076;&#1080;&#1092;&#1100;_&#1080;_&#1054;&#1083;&#1086;&#1092;&#1077;&#1088;&#1085;&amp;action=edit&amp;redlink=1" TargetMode="External"/><Relationship Id="rId17" Type="http://schemas.openxmlformats.org/officeDocument/2006/relationships/hyperlink" Target="http://ru.wikipedia.org/w/index.php?title=&#1070;&#1076;&#1080;&#1092;&#1100;_&#1080;_&#1054;&#1083;&#1086;&#1092;&#1077;&#1088;&#1085;&amp;action=edit&amp;redlink=1" TargetMode="External"/><Relationship Id="rId18" Type="http://schemas.openxmlformats.org/officeDocument/2006/relationships/hyperlink" Target="http://ru.wikipedia.org/wiki/1873_&#1075;&#1086;&#1076;" TargetMode="External"/><Relationship Id="rId19" Type="http://schemas.openxmlformats.org/officeDocument/2006/relationships/hyperlink" Target="http://ru.wikipedia.org/wiki/&#1040;&#1082;&#1072;&#1076;&#1077;&#1084;&#1080;&#1103;_&#1080;&#1079;&#1103;&#1097;&#1085;&#1099;&#1093;_&#1080;&#1089;&#1082;&#1091;&#1089;&#1089;&#1090;&#1074;_(&#1060;&#1083;&#1086;&#1088;&#1077;&#1085;&#1094;&#1080;&#1103;)" TargetMode="External"/><Relationship Id="rId20" Type="http://schemas.openxmlformats.org/officeDocument/2006/relationships/hyperlink" Target="http://ru.wikipedia.org/wiki/&#1055;&#1083;&#1086;&#1097;&#1072;&#1076;&#1100;_&#1057;&#1080;&#1085;&#1100;&#1086;&#1088;&#1080;&#1080;_(&#1060;&#1083;&#1086;&#1088;&#1077;&#1085;&#1094;&#1080;&#1103;)" TargetMode="External"/><Relationship Id="rId21" Type="http://schemas.openxmlformats.org/officeDocument/2006/relationships/hyperlink" Target="http://ru.wikipedia.org/wiki/1910_&#1075;&#1086;&#1076;" TargetMode="External"/><Relationship Id="rId2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5klass.net/istorija-9-klass/Arkhitektura-Drevnej-Gretsii/008-Miron-Diskobola.html" TargetMode="External"/><Relationship Id="rId2" Type="http://schemas.openxmlformats.org/officeDocument/2006/relationships/hyperlink" Target="http://uadream.com/tourism/europe/Greece/element.php?ID=50762" TargetMode="External"/><Relationship Id="rId3" Type="http://schemas.openxmlformats.org/officeDocument/2006/relationships/hyperlink" Target="http://go.mail.ru/search_images" TargetMode="External"/><Relationship Id="rId4" Type="http://schemas.openxmlformats.org/officeDocument/2006/relationships/hyperlink" Target="http://upload.wikimedia.org/wikipedia/commons/0/0a/Skopas_menade_pushkin.jpg" TargetMode="External"/><Relationship Id="rId5" Type="http://schemas.openxmlformats.org/officeDocument/2006/relationships/hyperlink" Target="http://ancientrome.ru/art/artwork/img.htm?id=2099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2;&#1091;&#1083;&#1100;&#1087;&#1090;&#1091;&#1088;&#1072;" TargetMode="External"/><Relationship Id="rId2" Type="http://schemas.openxmlformats.org/officeDocument/2006/relationships/hyperlink" Target="http://ru.wikipedia.org/wiki/&#1057;&#1082;&#1086;&#1087;&#1072;&#1089;" TargetMode="External"/><Relationship Id="rId3" Type="http://schemas.openxmlformats.org/officeDocument/2006/relationships/hyperlink" Target="http://ru.wikipedia.org/wiki/&#1055;&#1088;&#1072;&#1082;&#1089;&#1080;&#1090;&#1077;&#1083;&#1100;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еликие вкульптор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читель: Морозова Ю.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е творение этого автора вам известн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«Давид».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Michelangelos David.jpg"/>
          <p:cNvPicPr/>
          <p:nvPr/>
        </p:nvPicPr>
        <p:blipFill>
          <a:blip r:embed="rId1"/>
          <a:stretch/>
        </p:blipFill>
        <p:spPr>
          <a:xfrm>
            <a:off x="4729320" y="1523880"/>
            <a:ext cx="3886200" cy="5181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3508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348840"/>
            <a:ext cx="8458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мрамор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тату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работы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Микеландже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первые представленная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флорентий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ублике на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площади Синьо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8 сентябр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1504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 тех пор пятиметровое изваяние стало восприниматься как символ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Флорентийской республ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одна из вершин не только искусства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Возрож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и человеческого гения в целом. В настоящее время оригинал статуи находится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Академии изящных искус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о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Флорен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уя, предназначенная для кругового обзора, изображает обнажённого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Дави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средоточенного на предстоящей схватке с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Голиаф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этом сюжете состояло иконографическое новшество, поскольку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Вероккь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Донател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прочие предшественники Микеланджело предпочитали изображать Давида в момент торжества после победы над гига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ноша готовится к бою с превосходящим его по силе врагом. Он спокоен и сосредоточен, но мышцы его напряжены. Брови грозно сдвинуты, в них читается нечто устрашающее. Через левое плечо он перекинул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пра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ижний кончик которой подхватывает его правая рука. Свободная поза героя — классический пример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контрапо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уже подготавлив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ртоносное дви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ь о создании статуи ветхозаветного царя впервые зашла в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середине XV 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гильдия торговцев шер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на которую народ Флоренции возложил надзор за украшением соборного храма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анта-Мария-дель-Фьо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выступила с предложением окружить собор двенадцатью крупногабаритными скульптурами ветхозаветных персона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464 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было готово только два изваяния, одно из которых выполнил Донателло, а другое — его подмастерье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Агостино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ди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Дучч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ля статуи Давида во Флоренцию была доставлена огромная глыба мрамора из копей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Карра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 смерти Донателло в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1466 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Агостино отошёл от работы над этим проектом, едва принявшись за обтёсывание ног фигуры. Вскоре был расторгнут контракт и с пришедшим ему на смену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Антонио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Росселли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ор «Дави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 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XVI ве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заброшенная глыба мрамора, которую флорентийцы прозвали «Гигантом», представляла собой жалкое зрелище. С каждым десятилетием она неумолимо таяла в размерах из-за губительного воздействия осадков. Наконец кураторы собора, проконсультировавшись с 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Леонардо да Вин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другими знатоками скульптуры, признали статую годной к дод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некоторых колебаний завершение «Давида» было поручено известному своей амбициозностью 26-летнему скульптору Микеланджело Буонарроти. Контракт с ним был подписан 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16 авгу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501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уже 13 сентября молодой человек приступил к работе. Борьба Микеланджело за извлечение из бесформенной глыбы идеального человеческого тела продолжалась два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25 январ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1504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работа над «Давидом» уже близилась к завершению, его пришли оценить ведущие флорентийские художники. Только немногие из них, во главе с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Боттичел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-прежнему настаивали на размещении статуи близ собора. Для прочих консультантов, включая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Джулиано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да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Сангал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Пьеро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ди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Коз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Леонардо да Винчи, общегражданский посыл скульптуры перевесил её религиозное значение. Для защиты от негативного действия сил природы статую было предложено перенести туда, где заседал городской совет, — в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лоджию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Ланц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ировка статуи к стенам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палаццо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Веккь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заняла четыре дня. На этом месте «Давид» сменил двухметровую бронзовую группу «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Юдифь 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Олофер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работы Донателло. Подобно своей предшественнице, произведение Микеланджело воспринималось как наглядный образ героической борьбы флорентийского народа за свободу от тир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1873 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о избежание порчи от воздействия осадков и выветривания статуя была перенесена в один из залов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Академии изящных искус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ё место на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площади Синьо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заняла в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1910 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копия. В 2003—2004 годах оригинал Микеланджело был очищен реставраторами от накопившихся за многие годы загряз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поисковой работы учащимся предлагается ряд имен скульп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. Роден, В. Мухина, И. Шадр, С. Коненков, И. Мартос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5klass.net/istorija-9-klass/Arkhitektura-Drevnej-Gretsii/008-Miron-Diskobol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uadream.com/tourism/europe/Greece/element.php?ID=507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go.mail.ru/search_im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upload.wikimedia.org/wikipedia/commons/0/0a/Skopas_menade_pushk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ancientrome.ru/art/artwork/img.htm?id=20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upload.wikimedia.org/wikipedia/co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mmons.wikimedia.org/wiki/File:Michelangelo%27s_David_-_63_grijswaarden.png?uselang=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mmons.wikimedia.org/wiki/File:Michelangelos_David.jpg?uselang=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ь сам Бог – скульп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создал человека не колдовств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кусок за куском – как вая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. Берн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ульптура – одно из самых древних искусс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знаем произведения, созданные тысячелетия тому назад мастерами Египта, Индии и Греции. Само слово произошло от латинского «sculpere», что значит «высека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сих пор сохранилась и прекрасная легенда о замечательном скульпторе Пигмали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им из первых скульпторов, чье имя сохранило время, был Мирон (V в. до н. э.). Какое творение этого автора вам извес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87960" y="228600"/>
            <a:ext cx="4613040" cy="66294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2436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Фид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0920" y="228600"/>
            <a:ext cx="3962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ендарный автор скульптур Зевса Олимпийского и Афродиты Эфесской, вошедших в «семь чудес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2827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коп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62320" y="380880"/>
            <a:ext cx="4038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нил мифологические образы с драматизмом и сложной гаммой человеческих чувств («Менада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Skopas menade pushkin.jpg"/>
          <p:cNvPicPr/>
          <p:nvPr/>
        </p:nvPicPr>
        <p:blipFill>
          <a:blip r:embed="rId1"/>
          <a:stretch/>
        </p:blipFill>
        <p:spPr>
          <a:xfrm>
            <a:off x="4987800" y="1523880"/>
            <a:ext cx="2622600" cy="533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178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43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акс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5840" y="228240"/>
            <a:ext cx="47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ажал олимпийских богов и богинь («Отдыхающий Сатир», «Аполлон»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Отдыхающий сатир. Мрамор. Римская работа по оригиналу Праксителя первой половины IV в. до н. э. Инв. № А 198. Санкт-Петербург, Государственный Эрмитаж."/>
          <p:cNvPicPr/>
          <p:nvPr/>
        </p:nvPicPr>
        <p:blipFill>
          <a:blip r:embed="rId1"/>
          <a:stretch/>
        </p:blipFill>
        <p:spPr>
          <a:xfrm>
            <a:off x="228600" y="1447920"/>
            <a:ext cx="3940200" cy="52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Пракситель. Гермес"/>
          <p:cNvPicPr/>
          <p:nvPr/>
        </p:nvPicPr>
        <p:blipFill>
          <a:blip r:embed="rId2"/>
          <a:stretch/>
        </p:blipFill>
        <p:spPr>
          <a:xfrm>
            <a:off x="5105520" y="1752480"/>
            <a:ext cx="2589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205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иси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90920" y="22824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ился передать многообразие характера («Александр Македонский» и др.).  греческий 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скульпто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месте со 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Скопас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Праксител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вошел в триаду величайших скульпторов классической греческой скульптуры. Завершает эпоху поздней классики (IV в. до н. э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File:0617 - Archaeological Museum, Athens - The Atalante Hermes - Photo by Giovanni Dall'Orto, Nov 10 2009.jpg"/>
          <p:cNvPicPr/>
          <p:nvPr/>
        </p:nvPicPr>
        <p:blipFill>
          <a:blip r:embed="rId4"/>
          <a:stretch/>
        </p:blipFill>
        <p:spPr>
          <a:xfrm>
            <a:off x="152280" y="1295280"/>
            <a:ext cx="3606840" cy="540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ЛИСИПП. Отдыхающий Гермес (Неаполь, Национальный археологический музей)."/>
          <p:cNvPicPr/>
          <p:nvPr/>
        </p:nvPicPr>
        <p:blipFill>
          <a:blip r:embed="rId5"/>
          <a:stretch/>
        </p:blipFill>
        <p:spPr>
          <a:xfrm>
            <a:off x="4114800" y="1447920"/>
            <a:ext cx="3873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на яркая страница истории развития скульптуры связана с эпохой Воз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авда ли – примерам нет ко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му, как образ, в камне воплоще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еняет взор потомка восхищ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мыслом, и почерком резц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енье может пережить творц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ец уйдет, природой побежде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образ, им запечатле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ми будет согревать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я портретом в камне или цве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м, к счастью, годы не опас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век могу продлить, любовь моя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кай за гранью будущих столе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ят все, как были вы прекрас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рядом с вами был ничтожен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тихи великого художника этой эпохи Микеланджело Буонарр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9-30T19:25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