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3.gif" ContentType="image/gif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454-48C7-4A1C-B066-3B2318B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E30-4C1E-4D78-917B-CFB1875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80C-AC4D-4B1D-A0B5-921A0B4E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AA2-1397-472A-99C1-2E3CEEC4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224-44B6-499D-98BC-AAB4AD6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48E-C247-440A-8C4C-9C1E4BD6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88C-7DB3-4F7C-AFE3-5F83256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92A-654E-4517-BDD1-8E2B536D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CE2-3799-4F8C-957C-6264C31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FEA-4639-4D97-9CBD-EB4091D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9D1-278E-45C5-AF62-AD24F1D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198-FECE-466E-9E7A-F2F246E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E76-9800-4765-86CF-CAF3D1B26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354816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0" y="3651120"/>
            <a:ext cx="9144000" cy="160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Мои документы\Ирина\анимашки\911a78d7c5d88589c7b5a195265f2979[1].gif"/>
          <p:cNvPicPr/>
          <p:nvPr/>
        </p:nvPicPr>
        <p:blipFill>
          <a:blip r:embed="rId3"/>
          <a:stretch/>
        </p:blipFill>
        <p:spPr>
          <a:xfrm>
            <a:off x="857160" y="4000680"/>
            <a:ext cx="1328760" cy="180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2062080" cy="197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фенола с бро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o2544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3313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-32400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фено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зотной кисло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MD917MCAAHO497CAJ2O1T9CAZOIQ1VCA5JPDN5CAFLS8P9CABF41GLCAWIH48SCAC3SCMWCA7GE489CAV8UYGWCAIC7FRICAKDJ180CAB0WJP6CA6V1LC4CAT8GHH9CAC5NCX4CAYUNQ1WCAOVNLLHCA89U9AR"/>
          <p:cNvPicPr/>
          <p:nvPr/>
        </p:nvPicPr>
        <p:blipFill>
          <a:blip r:embed="rId1"/>
          <a:stretch/>
        </p:blipFill>
        <p:spPr>
          <a:xfrm>
            <a:off x="179280" y="1484280"/>
            <a:ext cx="7993080" cy="31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AP8GQQBCA13Y1S4CA915DTHCALWK64PCAGS8OBPCA3RI2H5CAXF5GWTCAAVT9UYCAML3CEPCA37RZ2TCA8ZWGSICA610DMFCA5ZEJPACA6LWTE0CA5JINBBCAFB8BL1CA1537OQCA0HDOFXCAITJTSCCAW89OWS"/>
          <p:cNvPicPr/>
          <p:nvPr/>
        </p:nvPicPr>
        <p:blipFill>
          <a:blip r:embed="rId2"/>
          <a:stretch/>
        </p:blipFill>
        <p:spPr>
          <a:xfrm>
            <a:off x="5219640" y="4724280"/>
            <a:ext cx="3210120" cy="201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116000" y="5229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пикриновой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0" y="1857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фенол – взаимодействие с хлоридом железа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o25112"/>
          <p:cNvPicPr/>
          <p:nvPr/>
        </p:nvPicPr>
        <p:blipFill>
          <a:blip r:embed="rId3"/>
          <a:stretch/>
        </p:blipFill>
        <p:spPr>
          <a:xfrm>
            <a:off x="2340000" y="3284640"/>
            <a:ext cx="5529240" cy="287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0" y="16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формальдеги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 rot="16200000">
            <a:off x="178560" y="3821760"/>
            <a:ext cx="2071440" cy="1143000"/>
          </a:xfrm>
          <a:prstGeom prst="hexagon">
            <a:avLst>
              <a:gd name="adj" fmla="val 54989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узел 6"/>
          <p:cNvSpPr/>
          <p:nvPr/>
        </p:nvSpPr>
        <p:spPr>
          <a:xfrm>
            <a:off x="785880" y="3929040"/>
            <a:ext cx="785880" cy="100008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50920" y="4076640"/>
            <a:ext cx="4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43000" y="3000240"/>
            <a:ext cx="100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071800" y="4000680"/>
            <a:ext cx="2857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 H – C – H  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3286080" y="4357800"/>
            <a:ext cx="3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 rot="16200000">
            <a:off x="4821840" y="3821760"/>
            <a:ext cx="2071440" cy="1143000"/>
          </a:xfrm>
          <a:prstGeom prst="hexagon">
            <a:avLst>
              <a:gd name="adj" fmla="val 54989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12"/>
          <p:cNvSpPr/>
          <p:nvPr/>
        </p:nvSpPr>
        <p:spPr>
          <a:xfrm>
            <a:off x="5435640" y="3860640"/>
            <a:ext cx="785880" cy="100044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786280" y="3000240"/>
            <a:ext cx="10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6357960" y="3643200"/>
            <a:ext cx="12859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5000760" y="3714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авая круглая скобка 17"/>
          <p:cNvSpPr/>
          <p:nvPr/>
        </p:nvSpPr>
        <p:spPr>
          <a:xfrm>
            <a:off x="7429680" y="3286080"/>
            <a:ext cx="214200" cy="214308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2143080"/>
              <a:gd name="textAreaBottom" fmla="*/ 2134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"/>
                  <a:pt x="21600" y="180"/>
                </a:cubicBezTo>
                <a:lnTo>
                  <a:pt x="21600" y="21420"/>
                </a:lnTo>
                <a:cubicBezTo>
                  <a:pt x="21600" y="2151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Левая круглая скобка 18"/>
          <p:cNvSpPr/>
          <p:nvPr/>
        </p:nvSpPr>
        <p:spPr>
          <a:xfrm>
            <a:off x="5000760" y="3357720"/>
            <a:ext cx="285480" cy="207144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2071440"/>
              <a:gd name="textAreaBottom" fmla="*/ 2059560 h 207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4"/>
                  <a:pt x="0" y="248"/>
                </a:cubicBezTo>
                <a:lnTo>
                  <a:pt x="0" y="21352"/>
                </a:lnTo>
                <a:cubicBezTo>
                  <a:pt x="0" y="2147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715160" y="500076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4143240" y="55008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формальдегидная см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7715160" y="3929040"/>
            <a:ext cx="1428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формальдегидом – реакция поликонденс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504504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7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136" name="Схема 3" descr=""/>
          <p:cNvPicPr/>
          <p:nvPr/>
        </p:nvPicPr>
        <p:blipFill>
          <a:blip r:embed="rId3"/>
          <a:stretch/>
        </p:blipFill>
        <p:spPr>
          <a:xfrm>
            <a:off x="-390600" y="1146240"/>
            <a:ext cx="10071000" cy="5718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Фенолы в приро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20-1"/>
          <p:cNvPicPr/>
          <p:nvPr/>
        </p:nvPicPr>
        <p:blipFill>
          <a:blip r:embed="rId1"/>
          <a:stretch/>
        </p:blipFill>
        <p:spPr>
          <a:xfrm>
            <a:off x="395280" y="907920"/>
            <a:ext cx="8380440" cy="352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timyan"/>
          <p:cNvPicPr/>
          <p:nvPr/>
        </p:nvPicPr>
        <p:blipFill>
          <a:blip r:embed="rId2"/>
          <a:stretch/>
        </p:blipFill>
        <p:spPr>
          <a:xfrm>
            <a:off x="755640" y="4508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8LQOWQCAUSYQ59CAJK32RACA6ZXI76CAX476Y1CAEZBSHACAVXAA3ZCAE1JNAVCA6YXRRFCALBE5SRCAB5MWFOCAAXPIU1CA0ZVPXYCATLZ40TCA9QLS0ECAK1DWV0CAJVXREPCARP8HXNCAV94NM0CADEVYU3"/>
          <p:cNvPicPr/>
          <p:nvPr/>
        </p:nvPicPr>
        <p:blipFill>
          <a:blip r:embed="rId3"/>
          <a:stretch/>
        </p:blipFill>
        <p:spPr>
          <a:xfrm>
            <a:off x="3851280" y="4508640"/>
            <a:ext cx="183996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121W9WCAT8AJFDCALN0R0ECA2XN6D9CAR22ETYCA8LSS9ECAGFFB6MCAINK77LCAQE9237CA3QSI2RCASDKQOGCA32TKORCA4CT2ZECA93S3VJCAZ105KSCASOZD6GCAYFE9IXCA8RAZ2KCA8TVMZHCAJI3WLG"/>
          <p:cNvPicPr/>
          <p:nvPr/>
        </p:nvPicPr>
        <p:blipFill>
          <a:blip r:embed="rId4"/>
          <a:stretch/>
        </p:blipFill>
        <p:spPr>
          <a:xfrm>
            <a:off x="6659640" y="4508640"/>
            <a:ext cx="1803240" cy="207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400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а 2006 год мировое потребление фенола имеет следующую структур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 % фенола расходуется на производство бисфенола А, который используется для производства поликарбона и эпоксидных см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 % фенола расходуется на производство фенолформальдегидных см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 % фенола гидрированием превращается в циклогексанол, используемый для получения искусственных волокон — нейлона и капр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е 14 % расходуются на другие нужды, в том числе на производство антиоксидантов, неионогенных ПАВ, других фенолов (крезолов), лекарственных препаратов (аспирин), антисептиков и пестици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TextBox 4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 7" descr=""/>
          <p:cNvPicPr/>
          <p:nvPr/>
        </p:nvPicPr>
        <p:blipFill>
          <a:blip r:embed="rId2"/>
          <a:stretch/>
        </p:blipFill>
        <p:spPr>
          <a:xfrm>
            <a:off x="0" y="689040"/>
            <a:ext cx="9144000" cy="131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50920" y="1214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содержащие органические вещества, в молекулах которых ароматический радикал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фен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ан с функциональной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гидроксильной групп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929200" y="3429000"/>
            <a:ext cx="2500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L98EMXCAHHHCY8CA7SQNFXCASK23ACCAYSGCILCAM3GPXOCAD4JE40CAKV6GKVCABWXSDKCA7U7HUNCAON36JTCA5JVDDZCAQXRW3SCA2M49DPCAUC0P3TCA187D8FCA3MXJK1CA4CDM5QCABCPS91CAG73F74"/>
          <p:cNvPicPr/>
          <p:nvPr/>
        </p:nvPicPr>
        <p:blipFill>
          <a:blip r:embed="rId2"/>
          <a:stretch/>
        </p:blipFill>
        <p:spPr>
          <a:xfrm>
            <a:off x="324000" y="2924280"/>
            <a:ext cx="5688000" cy="2452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7" descr=""/>
          <p:cNvPicPr/>
          <p:nvPr/>
        </p:nvPicPr>
        <p:blipFill>
          <a:blip r:embed="rId1"/>
          <a:stretch/>
        </p:blipFill>
        <p:spPr>
          <a:xfrm>
            <a:off x="6480" y="11592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24000" y="9810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Коксование каменного уг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79280" y="1557360"/>
            <a:ext cx="82155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 бензола (устаревший спосо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+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→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95280" y="30686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мольный спос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A4MEUDYCAGDZJPPCANJ6L58CAMWTOLNCAZK1KYRCA2WQ2BRCAG0PH3ACABLYODCCANMUTG9CA8T344BCA3JJDI9CAEULCVWCA3AVJB4CAF43340CAIXJ7BNCA11HYCMCAC21OOWCALVBT47CAHRS92DCADWKOH0"/>
          <p:cNvPicPr/>
          <p:nvPr/>
        </p:nvPicPr>
        <p:blipFill>
          <a:blip r:embed="rId3"/>
          <a:stretch/>
        </p:blipFill>
        <p:spPr>
          <a:xfrm>
            <a:off x="468360" y="3716280"/>
            <a:ext cx="777564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990720" y="20574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950920" cy="306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04920" y="530532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ксование каменного угля проводят в коксовых п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951280" cy="3059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572000" y="525780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кс сортируют и направляют на металлургические за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extBox 7" descr=""/>
          <p:cNvPicPr/>
          <p:nvPr/>
        </p:nvPicPr>
        <p:blipFill>
          <a:blip r:embed="rId3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7" descr=""/>
          <p:cNvPicPr/>
          <p:nvPr/>
        </p:nvPicPr>
        <p:blipFill>
          <a:blip r:embed="rId4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857240"/>
            <a:ext cx="8713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коксовании, то есть при нагревании без доступа воздуха, из каменного угля получают четыре основных продукта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2999880"/>
            <a:ext cx="85010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кс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ердый остаток, практически чистый углерод (производство чугу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менноугольная смол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щая несколько сотен орг. соед. (бензол, фен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ммиачная вод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щая аммиак, фенол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ксовый газ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щий из мет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extBox 7" descr=""/>
          <p:cNvPicPr/>
          <p:nvPr/>
        </p:nvPicPr>
        <p:blipFill>
          <a:blip r:embed="rId1"/>
          <a:stretch/>
        </p:blipFill>
        <p:spPr>
          <a:xfrm>
            <a:off x="0" y="71280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2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5572080" y="2428920"/>
            <a:ext cx="3235320" cy="2519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57120" y="228600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льчатые кристаллы с характерным запахом (розовеют на воздухе в результате окисления), мало растворим в холодной воде, неограниченно – в горя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cxnSp>
        <p:nvCxnSpPr>
          <p:cNvPr id="71" name="Прямая со стрелкой 5"/>
          <p:cNvCxnSpPr/>
          <p:nvPr/>
        </p:nvCxnSpPr>
        <p:spPr>
          <a:xfrm flipH="1">
            <a:off x="2428560" y="1714320"/>
            <a:ext cx="1072080" cy="15721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6"/>
          <p:cNvCxnSpPr/>
          <p:nvPr/>
        </p:nvCxnSpPr>
        <p:spPr>
          <a:xfrm>
            <a:off x="5786280" y="1643040"/>
            <a:ext cx="929520" cy="1643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10"/>
          <p:cNvSpPr/>
          <p:nvPr/>
        </p:nvSpPr>
        <p:spPr>
          <a:xfrm>
            <a:off x="2142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ароматическому радик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4857840" y="35719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гидроксильной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0" y="185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фенола с натр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 rot="16200000">
            <a:off x="362520" y="3461400"/>
            <a:ext cx="1928880" cy="1143000"/>
          </a:xfrm>
          <a:prstGeom prst="hexagon">
            <a:avLst>
              <a:gd name="adj" fmla="val 55001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6"/>
          <p:cNvSpPr/>
          <p:nvPr/>
        </p:nvSpPr>
        <p:spPr>
          <a:xfrm>
            <a:off x="900000" y="3573360"/>
            <a:ext cx="785880" cy="100008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258920" y="2708280"/>
            <a:ext cx="100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071800" y="3929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 rot="16200000">
            <a:off x="3821760" y="3535920"/>
            <a:ext cx="1928880" cy="1143000"/>
          </a:xfrm>
          <a:prstGeom prst="hexagon">
            <a:avLst>
              <a:gd name="adj" fmla="val 55001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10"/>
          <p:cNvSpPr/>
          <p:nvPr/>
        </p:nvSpPr>
        <p:spPr>
          <a:xfrm>
            <a:off x="4357800" y="3571920"/>
            <a:ext cx="785880" cy="100008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714920" y="278604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5929200" y="3929040"/>
            <a:ext cx="1500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250920" y="3933720"/>
            <a:ext cx="64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08360" y="3933720"/>
            <a:ext cx="64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643200" y="5143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ят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" descr="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7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заимодействие фено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 гидроксидом натр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 rot="16200000">
            <a:off x="2160" y="3605760"/>
            <a:ext cx="1928880" cy="1143000"/>
          </a:xfrm>
          <a:prstGeom prst="hexagon">
            <a:avLst>
              <a:gd name="adj" fmla="val 55001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узел 6"/>
          <p:cNvSpPr/>
          <p:nvPr/>
        </p:nvSpPr>
        <p:spPr>
          <a:xfrm>
            <a:off x="539640" y="3645000"/>
            <a:ext cx="785880" cy="100008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900000" y="2852640"/>
            <a:ext cx="100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785960" y="392904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aOH   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rot="16200000">
            <a:off x="4321800" y="3678840"/>
            <a:ext cx="1928880" cy="1143000"/>
          </a:xfrm>
          <a:prstGeom prst="hexagon">
            <a:avLst>
              <a:gd name="adj" fmla="val 55001"/>
              <a:gd name="vf" fmla="val 115470"/>
            </a:avLst>
          </a:prstGeom>
          <a:solidFill>
            <a:srgbClr val="b7de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узел 10"/>
          <p:cNvSpPr/>
          <p:nvPr/>
        </p:nvSpPr>
        <p:spPr>
          <a:xfrm>
            <a:off x="4857840" y="3714840"/>
            <a:ext cx="785880" cy="1000080"/>
          </a:xfrm>
          <a:prstGeom prst="flowChartConnector">
            <a:avLst/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5214960" y="29289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500880" y="3929040"/>
            <a:ext cx="1500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2000160" y="5643720"/>
            <a:ext cx="67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нол – карболовая кисл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1:02:36Z</dcterms:created>
  <dc:creator>Ирина</dc:creator>
  <dc:description/>
  <dc:language>en-US</dc:language>
  <cp:lastModifiedBy>D-MAX</cp:lastModifiedBy>
  <dcterms:modified xsi:type="dcterms:W3CDTF">2013-09-30T11:21:38Z</dcterms:modified>
  <cp:revision>46</cp:revision>
  <dc:subject/>
  <dc:title>Слайд 1</dc:title>
</cp:coreProperties>
</file>