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9DF-8F04-4BB3-B158-A4C867BD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59A-0671-4362-A887-F7BA256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84A-ED54-4D1A-918F-68CEF9E5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DB8-12D6-4427-8FCC-27883E6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EF43-B78F-4EA8-A9DE-ABA801F2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152E-6D35-466A-8ACD-A7B312B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4D9-C6E7-4004-B0A9-43CF7EE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DA0-6854-42AA-B466-703089D3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B56D-27BA-433E-B68B-9F03CA5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2C07-A5C3-420D-A2AD-07255A82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6267-19D6-4DDB-A791-7829EFDA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653-88B5-4896-96E6-D64C2C0C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7A17-7ABF-4753-9A06-636D273B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ACA0-8DC3-4D6E-85BD-0044CB5E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60C-1827-4B4A-9F10-AEE12ABE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5F87-AB41-4E43-85D4-51007CAF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B4C-4D57-4F14-8F3C-BE92F46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CAA-544A-4443-86A5-DD310DD6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616-A51D-4B7D-A596-62A21844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DD5-BC9A-4FCC-91C0-A436B97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2C5-6430-4C7D-86A6-F7BCC6A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714-0E49-470A-9966-D8333295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03C-79FF-4584-9550-017BA7C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E28-B21C-4130-A650-DFDCBD12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CDEA-EBAD-48D6-AFC6-176F6C2EB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B03D-4874-486F-8957-F1004AB5E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оловоломки на тему «Животны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м тебе четыре вида головоломок. Все они про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адай головоломки, выполнив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запиши на листке и сдай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й сетке из букв спрятались пять животных. Найди их! Можно искать по горизонтали, по вертикали и диагон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гадочные животны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гадай анаграммы, и прочтёшь названия живо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го из этих животных четыре н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cc66"/>
                </a:solidFill>
                <a:latin typeface="Arial"/>
              </a:rPr>
              <a:t>кар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ак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5400" spc="-1" strike="noStrike">
                <a:solidFill>
                  <a:srgbClr val="996633"/>
                </a:solidFill>
                <a:latin typeface="Arial"/>
              </a:rPr>
              <a:t>дюлвер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Не пахарь, не столяр,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Не кузнец, не плотник,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А первый на селе раб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ер, да не волк, длинноух, да не заяц,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 копытами, да не лош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Стоит копна посреди двора, спереди - вилы, сзади - ме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86400" cy="2422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2"/>
          <a:stretch/>
        </p:blipFill>
        <p:spPr>
          <a:xfrm>
            <a:off x="5715000" y="2793960"/>
            <a:ext cx="30114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</dc:creator>
  <dc:description/>
  <dc:language>en-US</dc:language>
  <cp:lastModifiedBy>Екатерина</cp:lastModifiedBy>
  <dcterms:modified xsi:type="dcterms:W3CDTF">2013-09-30T18:43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