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8C8-3DFB-4772-A4C6-6524DEE9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111-8D5A-4DF8-8BDC-4DEF21F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B2A-389C-46E8-B434-C40D4270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CEF-7D79-463D-9F9F-C9560F1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2A6D-A5E6-4746-A996-6671CA87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EAD0-B4C2-4FC1-86C3-5B204ED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EA59-D826-4306-98DE-86A205DD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ADE-B54F-49CF-A4F2-F654265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C71-0CA3-4B1D-A44C-DE001F6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8FF3-2AB1-4E45-A493-C7080BE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89FF-AF20-467E-B4D4-B1E1921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F2A-653A-462A-9136-6973B46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03C-FD63-471F-8F60-129CCA3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78E-D4BC-4D54-B4BA-5F1D035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82FC-BFDB-41B8-BCD4-8D53B2C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93E3-CD78-4396-99AE-0E1E6F1B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DD52-26F6-4EDC-8028-61CE21AD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397-6AD7-4CBD-A9AC-A15836F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C34-F67D-43D0-BF73-D359887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5BE-ACD1-4C5C-8ABE-17370670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C42-E7BC-43CF-A92F-B33CB42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7FF-C0ED-4F98-9BEC-A65B0684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B7B-BB34-4D24-860D-2303DB47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472-5329-484C-9B48-C3AE0DC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31F-10D9-4C09-9430-FD52A5287C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7FA-0A2A-4842-A6A9-9804885100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ahoma"/>
              </a:rPr>
              <a:t>Профессии родителей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следование уче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4006" t="3900" r="57608" b="44953"/>
          <a:stretch/>
        </p:blipFill>
        <p:spPr>
          <a:xfrm>
            <a:off x="5715000" y="838080"/>
            <a:ext cx="2181240" cy="2362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rcRect l="2786" t="0" r="2786" b="48379"/>
          <a:stretch/>
        </p:blipFill>
        <p:spPr>
          <a:xfrm>
            <a:off x="4952880" y="3786120"/>
            <a:ext cx="3583080" cy="2406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>
            <a:lum bright="12000"/>
          </a:blip>
          <a:srcRect l="3125" t="33638" r="2098" b="34016"/>
          <a:stretch/>
        </p:blipFill>
        <p:spPr>
          <a:xfrm>
            <a:off x="990720" y="3809880"/>
            <a:ext cx="3504960" cy="2354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rcRect l="2232" t="0" r="2083" b="67586"/>
          <a:stretch/>
        </p:blipFill>
        <p:spPr>
          <a:xfrm>
            <a:off x="990720" y="812880"/>
            <a:ext cx="3504960" cy="2336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581640" cy="262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rcRect l="20301" t="5761" r="9989" b="36592"/>
          <a:stretch/>
        </p:blipFill>
        <p:spPr>
          <a:xfrm>
            <a:off x="685800" y="3733920"/>
            <a:ext cx="3732120" cy="2631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2157480" cy="304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rcRect l="3334" t="59862" r="23815" b="0"/>
          <a:stretch/>
        </p:blipFill>
        <p:spPr>
          <a:xfrm>
            <a:off x="4805280" y="3735360"/>
            <a:ext cx="3959280" cy="2639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1458" t="1042" r="1311" b="51194"/>
          <a:stretch/>
        </p:blipFill>
        <p:spPr>
          <a:xfrm>
            <a:off x="1219320" y="304920"/>
            <a:ext cx="2361960" cy="350208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820" r="50599" b="1748"/>
          <a:stretch/>
        </p:blipFill>
        <p:spPr>
          <a:xfrm>
            <a:off x="4876920" y="3886200"/>
            <a:ext cx="3884400" cy="259560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rcRect l="48813" t="1420" r="0" b="51458"/>
          <a:stretch/>
        </p:blipFill>
        <p:spPr>
          <a:xfrm>
            <a:off x="455760" y="3962520"/>
            <a:ext cx="4039920" cy="253368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rcRect l="48813" t="48618" r="0" b="1344"/>
          <a:stretch/>
        </p:blipFill>
        <p:spPr>
          <a:xfrm>
            <a:off x="4570560" y="536400"/>
            <a:ext cx="4002120" cy="266400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7569" t="1599" r="1247" b="48895"/>
          <a:stretch/>
        </p:blipFill>
        <p:spPr>
          <a:xfrm>
            <a:off x="4800600" y="914400"/>
            <a:ext cx="3809880" cy="2362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480" t="62439" r="30393" b="930"/>
          <a:stretch/>
        </p:blipFill>
        <p:spPr>
          <a:xfrm>
            <a:off x="382680" y="2225520"/>
            <a:ext cx="3884400" cy="2727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38854" t="53345" r="1179" b="0"/>
          <a:stretch/>
        </p:blipFill>
        <p:spPr>
          <a:xfrm>
            <a:off x="4724280" y="3809880"/>
            <a:ext cx="3884760" cy="2319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200400" cy="2400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3124080" cy="2342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3124080" cy="207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2441" t="0" r="0" b="0"/>
          <a:stretch/>
        </p:blipFill>
        <p:spPr>
          <a:xfrm>
            <a:off x="1219320" y="4572000"/>
            <a:ext cx="3200400" cy="201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895480" y="1981080"/>
            <a:ext cx="3200400" cy="2400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1928880" cy="264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07080" y="3657600"/>
            <a:ext cx="2003400" cy="2724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3657600" cy="2590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52880" y="533520"/>
            <a:ext cx="3581640" cy="261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0" t="3486" r="0" b="3945"/>
          <a:stretch/>
        </p:blipFill>
        <p:spPr>
          <a:xfrm>
            <a:off x="3124080" y="3886200"/>
            <a:ext cx="2895840" cy="2209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3-09-30T00:07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