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E5E-1F08-4AD9-9F84-E5CD6EC4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7DF-439C-4219-A1A2-C208A9A2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002-51AC-4ECC-91F9-CBCE7635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2F5-6145-4F76-999D-FB786835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BFC-6734-4994-B5ED-50E55AF6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45E-F430-4911-97A7-CAE8B05E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537-F4D3-49BD-8E4A-A80462EA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1EA-0ECC-4CCD-9873-40E7651E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BAB-5705-4BE2-BB8E-3AF04554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A1D-015F-4F78-9AF6-6994252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D41-28D3-4E7F-A139-F9361F16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ACC-B3DF-4B20-857A-2763EE7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E62B-C086-4841-83D3-8AC253262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2"/>
          <a:stretch/>
        </p:blipFill>
        <p:spPr>
          <a:xfrm>
            <a:off x="311040" y="1859040"/>
            <a:ext cx="8472600" cy="2011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1116000" y="765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имия</a:t>
            </a:r>
            <a:r>
              <a:rPr b="1" lang="ru-RU" sz="4400" spc="-1" strike="noStrike">
                <a:solidFill>
                  <a:srgbClr val="3939f5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3939f5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224f4"/>
                </a:solidFill>
                <a:latin typeface="Calibri"/>
              </a:rPr>
              <a:t>физика</a:t>
            </a:r>
            <a:r>
              <a:rPr b="1" lang="ru-RU" sz="4400" spc="-1" strike="noStrike">
                <a:solidFill>
                  <a:srgbClr val="3939f5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центре естествоз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им из общих вопросов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химии</a:t>
            </a:r>
            <a:r>
              <a:rPr b="0" lang="ru-RU" sz="2400" spc="-1" strike="noStrike">
                <a:solidFill>
                  <a:srgbClr val="260acc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260acc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224f4"/>
                </a:solidFill>
                <a:latin typeface="Calibri"/>
              </a:rPr>
              <a:t>физики</a:t>
            </a:r>
            <a:r>
              <a:rPr b="0" lang="ru-RU" sz="2400" spc="-1" strike="noStrike">
                <a:solidFill>
                  <a:srgbClr val="260acc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ется рассмотрение </a:t>
            </a:r>
            <a:r>
              <a:rPr b="0" lang="ru-RU" sz="2400" spc="-1" strike="noStrike">
                <a:solidFill>
                  <a:srgbClr val="af26e6"/>
                </a:solidFill>
                <a:latin typeface="Calibri"/>
              </a:rPr>
              <a:t>строения вещест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400" spc="-1" strike="noStrike">
                <a:solidFill>
                  <a:srgbClr val="af26e6"/>
                </a:solidFill>
                <a:latin typeface="Calibri"/>
              </a:rPr>
              <a:t>дви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ех </a:t>
            </a:r>
            <a:r>
              <a:rPr b="0" lang="ru-RU" sz="2400" spc="-1" strike="noStrike">
                <a:solidFill>
                  <a:srgbClr val="af26e6"/>
                </a:solidFill>
                <a:latin typeface="Calibri"/>
              </a:rPr>
              <a:t>части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з которых вещества состоят. Основное положение заключается в том, что все вещества состоят из мельчайших частиц: </a:t>
            </a:r>
            <a:r>
              <a:rPr b="0" lang="ru-RU" sz="2400" spc="-1" strike="noStrike">
                <a:solidFill>
                  <a:srgbClr val="af26e6"/>
                </a:solidFill>
                <a:latin typeface="Calibri"/>
              </a:rPr>
              <a:t>молекул; атомов; ион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8880" y="1857240"/>
            <a:ext cx="612144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f26e6"/>
                </a:solidFill>
                <a:latin typeface="Calibri"/>
              </a:rPr>
              <a:t>Молеку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мельчайшая частица вещества, определяющая его свойств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ru-RU" sz="2000" spc="-1" strike="noStrike">
                <a:solidFill>
                  <a:srgbClr val="af26e6"/>
                </a:solidFill>
                <a:latin typeface="Calibri"/>
              </a:rPr>
              <a:t> молеку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т  такие хорошо знакомые вам вещества как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Вода – Н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Уксусная кислота ( уксус ) – СН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Сахар – 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Углекислый газ – С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619280" y="40464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acc"/>
                </a:solidFill>
                <a:latin typeface="Calibri"/>
              </a:rPr>
              <a:t>Молек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913760" y="476280"/>
            <a:ext cx="14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24f4"/>
                </a:solidFill>
                <a:latin typeface="Calibri"/>
              </a:rPr>
              <a:t>А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179280" y="1557360"/>
            <a:ext cx="3684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f26e6"/>
                </a:solidFill>
                <a:latin typeface="Calibri"/>
              </a:rPr>
              <a:t>Ато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мельчайшие электронейтральные частицы, из которых состоят молекулы веще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вещества состоят не из молекул, а из атомов. Например алмаз, графит и кварц, кремний.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5368680" y="476280"/>
            <a:ext cx="11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24f4"/>
                </a:solidFill>
                <a:latin typeface="Calibri"/>
              </a:rPr>
              <a:t>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211640" y="1484280"/>
            <a:ext cx="4753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f26e6"/>
                </a:solidFill>
                <a:latin typeface="Calibri"/>
              </a:rPr>
              <a:t>Ио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положительно или отрицательно заряженные частицы, образовавшиеся из ато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тоит путать между собой</a:t>
            </a:r>
            <a:r>
              <a:rPr b="0" lang="ru-RU" sz="2000" spc="-1" strike="noStrike">
                <a:solidFill>
                  <a:srgbClr val="260acc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он</a:t>
            </a:r>
            <a:r>
              <a:rPr b="0" lang="ru-RU" sz="2000" spc="-1" strike="noStrike">
                <a:solidFill>
                  <a:srgbClr val="260acc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олекул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так как молекула всегда электронейтраль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ионов состоят не без известные вам вещества, такие как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аренная соль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манганат калия ( марганцовка)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Сод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кий натр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700" spc="-1" strike="noStrike">
                <a:solidFill>
                  <a:srgbClr val="260acc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8" descr=""/>
          <p:cNvPicPr/>
          <p:nvPr/>
        </p:nvPicPr>
        <p:blipFill>
          <a:blip r:embed="rId1"/>
          <a:stretch/>
        </p:blipFill>
        <p:spPr>
          <a:xfrm>
            <a:off x="-19080" y="633240"/>
            <a:ext cx="9169560" cy="4091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174840" y="260280"/>
            <a:ext cx="2721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24f4"/>
                </a:solidFill>
                <a:latin typeface="Calibri"/>
              </a:rPr>
              <a:t>Опыт №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24f4"/>
                </a:solidFill>
                <a:latin typeface="Calibri"/>
              </a:rPr>
              <a:t>Диффу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50920" y="1844640"/>
            <a:ext cx="70578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f26e6"/>
                </a:solidFill>
                <a:latin typeface="Calibri"/>
              </a:rPr>
              <a:t>Диффуз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 от лат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iffusio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остранение ) – это явление, при котором происходит взаимное проникновение молекул одного вещества между молекулами друг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доказательства существования процесса диффузии проделаем следующие опы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ворим й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в воде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 этиловом спирте (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ворим перманганат кал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марганцовк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в воде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MOV00076.MPG" descr=""/>
          <p:cNvPicPr/>
          <p:nvPr/>
        </p:nvPicPr>
        <p:blipFill>
          <a:blip r:embed="rId1"/>
          <a:stretch/>
        </p:blipFill>
        <p:spPr>
          <a:xfrm>
            <a:off x="4572000" y="364320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54" name="MOV00079.MPG" descr=""/>
          <p:cNvPicPr/>
          <p:nvPr/>
        </p:nvPicPr>
        <p:blipFill>
          <a:blip r:embed="rId2"/>
          <a:stretch/>
        </p:blipFill>
        <p:spPr>
          <a:xfrm>
            <a:off x="4572000" y="3643200"/>
            <a:ext cx="3833640" cy="2874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2014 0.07685 C 0.07153 -0.06898 0.12292 -0.21459 0.08316 -0.26505 C 0.0434 -0.31551 -0.0875 -0.27107 -0.2184 -0.22639 E">
                                      <p:cBhvr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225000" y="2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366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9113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1113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29 -0.30324 C -0.11215 -0.36181 0.00799 -0.42037 0.0467 -0.36991 C 0.08542 -0.31945 0.00452 -0.05972 -3.05556E-006 1.85185E-006 E">
                                      <p:cBhvr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3113"/>
                            </p:stCondLst>
                            <p:childTnLst>
                              <p:par>
                                <p:cTn id="106" nodeType="afterEffect" fill="hold" presetClass="exit" presetID="1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7113"/>
                            </p:stCondLst>
                            <p:childTnLst>
                              <p:par>
                                <p:cTn id="1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9113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1823 0.07477 C 0.06684 -0.06505 0.11545 -0.20463 0.07621 -0.25417 C 0.03698 -0.3037 -0.09028 -0.26296 -0.21736 -0.22199 E">
                                      <p:cBhvr>
                                        <p:cTn id="1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4113"/>
                            </p:stCondLst>
                            <p:childTnLst>
                              <p:par>
                                <p:cTn id="1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225000" y="2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6113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102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7138"/>
                            </p:stCondLst>
                            <p:childTnLst>
                              <p:par>
                                <p:cTn id="1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9138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3 -0.2882 C -0.12344 -0.35301 -0.01459 -0.41783 0.02413 -0.36991 C 0.06284 -0.32199 0.03142 -0.16111 -6.11111E-006 2.22222E-006 E">
                                      <p:cBhvr>
                                        <p:cTn id="13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547640" y="26028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24f4"/>
                </a:solidFill>
                <a:latin typeface="Calibri"/>
              </a:rPr>
              <a:t>Опыт №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24f4"/>
                </a:solidFill>
                <a:latin typeface="Calibri"/>
              </a:rPr>
              <a:t>Броуновское дви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250920" y="2565360"/>
            <a:ext cx="4608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f26e6"/>
                </a:solidFill>
                <a:latin typeface="Calibri"/>
              </a:rPr>
              <a:t>Броуновским движени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ют беспорядочное движение мельчайших част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бнаружения Броуновского движения проделаем следующий опы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несем на предметное стеклу несколько капель воды и добавим в неё небольшое количество черной туши, следом накроем полученный раствор покровным стеклом и поместим под микроскоп.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MOV00078.MPG" descr=""/>
          <p:cNvPicPr/>
          <p:nvPr/>
        </p:nvPicPr>
        <p:blipFill>
          <a:blip r:embed="rId1"/>
          <a:stretch/>
        </p:blipFill>
        <p:spPr>
          <a:xfrm>
            <a:off x="4857840" y="3500280"/>
            <a:ext cx="3432240" cy="257364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1"/>
          <p:cNvSpPr/>
          <p:nvPr/>
        </p:nvSpPr>
        <p:spPr>
          <a:xfrm>
            <a:off x="4788000" y="1197000"/>
            <a:ext cx="4608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5651640" y="2421000"/>
            <a:ext cx="374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зображение из-под микроскоп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Броуновское дви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6493 0.0287 C 0.07882 -0.12014 0.09271 -0.26898 0.04549 -0.30695 C -0.00173 -0.34491 -0.17482 -0.21736 -0.21892 -0.19931 E">
                                      <p:cBhvr>
                                        <p:cTn id="16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112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625"/>
                            </p:stCondLst>
                            <p:childTnLst>
                              <p:par>
                                <p:cTn id="1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625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892 -0.1993 C -0.12135 -0.27569 -0.02361 -0.35185 0.02292 -0.31342 C 0.06945 -0.275 0.05521 -0.02407 0.06007 0.03079 E">
                                      <p:cBhvr>
                                        <p:cTn id="18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191680" y="333360"/>
            <a:ext cx="46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acc"/>
                </a:solidFill>
                <a:latin typeface="Calibri"/>
              </a:rPr>
              <a:t>Строение веще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хема 2" descr=""/>
          <p:cNvPicPr/>
          <p:nvPr/>
        </p:nvPicPr>
        <p:blipFill>
          <a:blip r:embed="rId1"/>
          <a:stretch/>
        </p:blipFill>
        <p:spPr>
          <a:xfrm>
            <a:off x="171360" y="1122480"/>
            <a:ext cx="8728200" cy="5467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2"/>
          <a:stretch/>
        </p:blipFill>
        <p:spPr>
          <a:xfrm>
            <a:off x="311040" y="1859040"/>
            <a:ext cx="8472600" cy="2011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КРЕТАРЬ</cp:lastModifiedBy>
  <dcterms:modified xsi:type="dcterms:W3CDTF">2013-09-29T10:19:30Z</dcterms:modified>
  <cp:revision>44</cp:revision>
  <dc:subject/>
  <dc:title>Слайд 1</dc:title>
</cp:coreProperties>
</file>