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gif" ContentType="image/gif"/>
  <Override PartName="/ppt/media/image15.gif" ContentType="image/gif"/>
  <Override PartName="/ppt/media/image28.gif" ContentType="image/gi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44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31.wmf" ContentType="image/x-wmf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46.jpeg" ContentType="image/jpeg"/>
  <Override PartName="/ppt/media/image47.gif" ContentType="image/gif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BDF-8DB6-4541-B331-D583B9C3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06D-8653-428C-8BB5-32F2FEB5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F5F-AF46-4CF4-9992-6EFBAF5D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768-99FD-42D4-A79E-5B02DA3D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143-DF97-4BFD-AD15-11566992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B1C-717C-4134-920D-13E78D1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A38-859C-431C-8CA9-FA97CFF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536-0B0A-4E01-9E55-E3541F76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0C7-719E-422D-8283-F3A98F84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BAF-DD2F-487D-816B-AF4CC7E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390-50E9-45B2-A1D5-8A0910E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127-EDB4-448C-B95A-679FD507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539640" y="549360"/>
            <a:ext cx="8064720" cy="575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" name="Рисунок 8" descr="flovin438.png"/>
          <p:cNvPicPr/>
          <p:nvPr/>
        </p:nvPicPr>
        <p:blipFill>
          <a:blip r:embed="rId3"/>
          <a:stretch/>
        </p:blipFill>
        <p:spPr>
          <a:xfrm>
            <a:off x="179280" y="189000"/>
            <a:ext cx="2075040" cy="167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6E99-8A77-43E3-A4AF-EFBCC29927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9" descr="flovin438.png"/>
          <p:cNvPicPr/>
          <p:nvPr/>
        </p:nvPicPr>
        <p:blipFill>
          <a:blip r:embed="rId4"/>
          <a:stretch/>
        </p:blipFill>
        <p:spPr>
          <a:xfrm>
            <a:off x="7308720" y="5300640"/>
            <a:ext cx="148428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6"/>
          <p:cNvSpPr/>
          <p:nvPr/>
        </p:nvSpPr>
        <p:spPr>
          <a:xfrm>
            <a:off x="539640" y="549360"/>
            <a:ext cx="8064720" cy="575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45" name="Рисунок 8" descr="flovin438.png"/>
          <p:cNvPicPr/>
          <p:nvPr/>
        </p:nvPicPr>
        <p:blipFill>
          <a:blip r:embed="rId3"/>
          <a:stretch/>
        </p:blipFill>
        <p:spPr>
          <a:xfrm>
            <a:off x="179280" y="189000"/>
            <a:ext cx="2075040" cy="1674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flovin438.png"/>
          <p:cNvPicPr/>
          <p:nvPr/>
        </p:nvPicPr>
        <p:blipFill>
          <a:blip r:embed="rId4"/>
          <a:stretch/>
        </p:blipFill>
        <p:spPr>
          <a:xfrm>
            <a:off x="7308720" y="5300640"/>
            <a:ext cx="1484280" cy="1198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6"/>
          <p:cNvSpPr/>
          <p:nvPr/>
        </p:nvSpPr>
        <p:spPr>
          <a:xfrm>
            <a:off x="539640" y="549360"/>
            <a:ext cx="8064720" cy="575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86" name="Рисунок 8" descr="flovin438.png"/>
          <p:cNvPicPr/>
          <p:nvPr/>
        </p:nvPicPr>
        <p:blipFill>
          <a:blip r:embed="rId3"/>
          <a:stretch/>
        </p:blipFill>
        <p:spPr>
          <a:xfrm>
            <a:off x="179280" y="189000"/>
            <a:ext cx="2075040" cy="1674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flovin438.png"/>
          <p:cNvPicPr/>
          <p:nvPr/>
        </p:nvPicPr>
        <p:blipFill>
          <a:blip r:embed="rId4"/>
          <a:stretch/>
        </p:blipFill>
        <p:spPr>
          <a:xfrm>
            <a:off x="7308720" y="5300640"/>
            <a:ext cx="1484280" cy="1198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кругленный прямоугольник 6"/>
          <p:cNvSpPr/>
          <p:nvPr/>
        </p:nvSpPr>
        <p:spPr>
          <a:xfrm>
            <a:off x="539640" y="549360"/>
            <a:ext cx="8064720" cy="575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27" name="Рисунок 8" descr="flovin438.png"/>
          <p:cNvPicPr/>
          <p:nvPr/>
        </p:nvPicPr>
        <p:blipFill>
          <a:blip r:embed="rId3"/>
          <a:stretch/>
        </p:blipFill>
        <p:spPr>
          <a:xfrm>
            <a:off x="179280" y="189000"/>
            <a:ext cx="2075040" cy="1674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flovin438.png"/>
          <p:cNvPicPr/>
          <p:nvPr/>
        </p:nvPicPr>
        <p:blipFill>
          <a:blip r:embed="rId4"/>
          <a:stretch/>
        </p:blipFill>
        <p:spPr>
          <a:xfrm>
            <a:off x="7308720" y="5300640"/>
            <a:ext cx="1484280" cy="1198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57160" y="2714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Новые грани взаимодействия с семьями дошкольников в учреждениях дополнитель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7" descr="F:\Документы Ирина\картинки\СЕМЬЯ\semya_0.jpg"/>
          <p:cNvPicPr/>
          <p:nvPr/>
        </p:nvPicPr>
        <p:blipFill>
          <a:blip r:embed="rId1"/>
          <a:stretch/>
        </p:blipFill>
        <p:spPr>
          <a:xfrm>
            <a:off x="3143160" y="357120"/>
            <a:ext cx="266220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3571920" y="5072040"/>
            <a:ext cx="4643280" cy="12146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Script MT Bold"/>
              </a:rPr>
              <a:t>Гусельникова Ирина Алексеевна, </a:t>
            </a:r>
            <a:endParaRPr b="0" lang="en-US" sz="16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Script MT Bold"/>
              </a:rPr>
              <a:t>педагог дополнительного образования детей    </a:t>
            </a:r>
            <a:endParaRPr b="0" lang="en-US" sz="16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Script MT Bold"/>
              </a:rPr>
              <a:t>МБОУДОД «Центр детского творчества №4», </a:t>
            </a:r>
            <a:endParaRPr b="0" lang="en-US" sz="16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Script MT Bold"/>
              </a:rPr>
              <a:t>г.Бийск, Алтайский край</a:t>
            </a:r>
            <a:endParaRPr b="0" lang="en-US" sz="16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0" y="3179880"/>
            <a:ext cx="47671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Выпускной"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15" name="Picture 5" descr="F:\Документы Ирина\фотобанк\работа\Изображение 002.jpg"/>
          <p:cNvPicPr/>
          <p:nvPr/>
        </p:nvPicPr>
        <p:blipFill>
          <a:blip r:embed="rId1"/>
          <a:stretch/>
        </p:blipFill>
        <p:spPr>
          <a:xfrm>
            <a:off x="642960" y="4071960"/>
            <a:ext cx="3267000" cy="245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Мальвина 20 шт"/>
          <p:cNvPicPr/>
          <p:nvPr/>
        </p:nvPicPr>
        <p:blipFill>
          <a:blip r:embed="rId2"/>
          <a:stretch/>
        </p:blipFill>
        <p:spPr>
          <a:xfrm>
            <a:off x="4214880" y="3597120"/>
            <a:ext cx="4603680" cy="3260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Program Files\Microsoft Office\Media\CntCD1\ClipArt7\j0304861.wmf"/>
          <p:cNvPicPr/>
          <p:nvPr/>
        </p:nvPicPr>
        <p:blipFill>
          <a:blip r:embed="rId3"/>
          <a:stretch/>
        </p:blipFill>
        <p:spPr>
          <a:xfrm>
            <a:off x="0" y="3643200"/>
            <a:ext cx="1143000" cy="1654200"/>
          </a:xfrm>
          <a:prstGeom prst="rect">
            <a:avLst/>
          </a:prstGeom>
          <a:ln w="0">
            <a:noFill/>
          </a:ln>
        </p:spPr>
      </p:pic>
      <p:sp>
        <p:nvSpPr>
          <p:cNvPr id="218" name="WordArt 4"/>
          <p:cNvSpPr txBox="1"/>
          <p:nvPr/>
        </p:nvSpPr>
        <p:spPr>
          <a:xfrm>
            <a:off x="220680" y="71280"/>
            <a:ext cx="68515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Дорогим и любимым..."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19" name="Picture 2" descr="F:\Документы Ирина\Мальвина\фото\праздник 8 марта\DSCF1691.JPG"/>
          <p:cNvPicPr/>
          <p:nvPr/>
        </p:nvPicPr>
        <p:blipFill>
          <a:blip r:embed="rId4"/>
          <a:stretch/>
        </p:blipFill>
        <p:spPr>
          <a:xfrm>
            <a:off x="5072040" y="1214280"/>
            <a:ext cx="3295800" cy="185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F:\Документы Ирина\Мальвина\2013\cайт 8 марта\фото\DSCF1896.JPG"/>
          <p:cNvPicPr/>
          <p:nvPr/>
        </p:nvPicPr>
        <p:blipFill>
          <a:blip r:embed="rId5"/>
          <a:stretch/>
        </p:blipFill>
        <p:spPr>
          <a:xfrm>
            <a:off x="500040" y="1357200"/>
            <a:ext cx="3071880" cy="173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F:\Документы Ирина\Мальвина\2013\Выступление Новые грани взаимодействия с родителями дошкольников\годовщина свадьбы родители 004.jpg"/>
          <p:cNvPicPr/>
          <p:nvPr/>
        </p:nvPicPr>
        <p:blipFill>
          <a:blip r:embed="rId1">
            <a:lum bright="10000"/>
          </a:blip>
          <a:stretch/>
        </p:blipFill>
        <p:spPr>
          <a:xfrm rot="21200400">
            <a:off x="117360" y="1233000"/>
            <a:ext cx="2917800" cy="2187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7443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ыставки совместных творческих работ детей и родител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F:\Документы Ирина\Мальвина\2013\Выступление Новые грани взаимодействия с родителями дошкольников\фото 056.jpg"/>
          <p:cNvPicPr/>
          <p:nvPr/>
        </p:nvPicPr>
        <p:blipFill>
          <a:blip r:embed="rId2">
            <a:lum bright="10000"/>
          </a:blip>
          <a:stretch/>
        </p:blipFill>
        <p:spPr>
          <a:xfrm rot="20970600">
            <a:off x="2895480" y="39700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F:\Документы Ирина\Мальвина\2013\Выступление Новые грани взаимодействия с родителями дошкольников\годовщина свадьбы родители 007.jpg"/>
          <p:cNvPicPr/>
          <p:nvPr/>
        </p:nvPicPr>
        <p:blipFill>
          <a:blip r:embed="rId3">
            <a:lum bright="10000"/>
          </a:blip>
          <a:stretch/>
        </p:blipFill>
        <p:spPr>
          <a:xfrm rot="21274800">
            <a:off x="85680" y="404604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Изображение 125"/>
          <p:cNvPicPr/>
          <p:nvPr/>
        </p:nvPicPr>
        <p:blipFill>
          <a:blip r:embed="rId4"/>
          <a:stretch/>
        </p:blipFill>
        <p:spPr>
          <a:xfrm rot="683400">
            <a:off x="6140160" y="4503600"/>
            <a:ext cx="282420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F:\Документы Ирина\Мальвина\2013\Выступление Новые грани взаимодействия с родителями дошкольников\Изображение 084.jpg"/>
          <p:cNvPicPr/>
          <p:nvPr/>
        </p:nvPicPr>
        <p:blipFill>
          <a:blip r:embed="rId5"/>
          <a:stretch/>
        </p:blipFill>
        <p:spPr>
          <a:xfrm>
            <a:off x="6605640" y="1209600"/>
            <a:ext cx="2346120" cy="3129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IMG_0736"/>
          <p:cNvPicPr/>
          <p:nvPr/>
        </p:nvPicPr>
        <p:blipFill>
          <a:blip r:embed="rId6"/>
          <a:stretch/>
        </p:blipFill>
        <p:spPr>
          <a:xfrm>
            <a:off x="3286080" y="1285920"/>
            <a:ext cx="3032280" cy="227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F:\Документы Ирина\фотобанк\2013\Новая папка\свадьба 23.03.2013\Свадьба 002.jpg"/>
          <p:cNvPicPr/>
          <p:nvPr/>
        </p:nvPicPr>
        <p:blipFill>
          <a:blip r:embed="rId1"/>
          <a:stretch/>
        </p:blipFill>
        <p:spPr>
          <a:xfrm rot="20914200">
            <a:off x="662040" y="1617840"/>
            <a:ext cx="3625920" cy="2719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F:\Документы Ирина\фотобанк\2013\Новая папка\свадьба 23.03.2013\Свадьба 001.jpg"/>
          <p:cNvPicPr/>
          <p:nvPr/>
        </p:nvPicPr>
        <p:blipFill>
          <a:blip r:embed="rId2"/>
          <a:stretch/>
        </p:blipFill>
        <p:spPr>
          <a:xfrm rot="490200">
            <a:off x="5336640" y="696600"/>
            <a:ext cx="3184560" cy="238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F:\Документы Ирина\фотобанк\2013\Новая папка\свадьба 23.03.2013\Свадьба 017.jpg"/>
          <p:cNvPicPr/>
          <p:nvPr/>
        </p:nvPicPr>
        <p:blipFill>
          <a:blip r:embed="rId3"/>
          <a:stretch/>
        </p:blipFill>
        <p:spPr>
          <a:xfrm rot="535800">
            <a:off x="4881240" y="3664080"/>
            <a:ext cx="3208320" cy="24048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0"/>
          <p:cNvSpPr/>
          <p:nvPr/>
        </p:nvSpPr>
        <p:spPr>
          <a:xfrm rot="21282600">
            <a:off x="329760" y="350640"/>
            <a:ext cx="3021120" cy="112068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Творческие задан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32" name="Прямоугольник 11"/>
          <p:cNvSpPr/>
          <p:nvPr/>
        </p:nvSpPr>
        <p:spPr>
          <a:xfrm rot="20842200">
            <a:off x="369360" y="5218200"/>
            <a:ext cx="2767320" cy="107928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Буклеты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43120" y="21384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одарок  для ма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500120" y="1285920"/>
            <a:ext cx="3140280" cy="2355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880920" y="4000680"/>
            <a:ext cx="3333960" cy="2500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5072040" y="4143240"/>
            <a:ext cx="3000240" cy="22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237" name="Picture 2" descr="F:\Документы Ирина\Мальвина\2013\Выступление Новые грани взаимодействия с родителями дошкольников\Изображение 056.jpg"/>
          <p:cNvPicPr/>
          <p:nvPr/>
        </p:nvPicPr>
        <p:blipFill>
          <a:blip r:embed="rId4"/>
          <a:stretch/>
        </p:blipFill>
        <p:spPr>
          <a:xfrm>
            <a:off x="5643720" y="1214280"/>
            <a:ext cx="2036520" cy="271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57120" y="7858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600" spc="-1" strike="noStrike">
                <a:solidFill>
                  <a:srgbClr val="7030a0"/>
                </a:solidFill>
                <a:latin typeface="Calibri"/>
              </a:rPr>
              <a:t>В результате работы у педагогов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установились партнёрские отношения с семьями  воспитанников, создалась атмосфера взаимопонимания, эмоциональной  взаимоподдержки, общности интересов педагогов, родителей и детей. Эта система помогает привлечь родителей к педагогическому взаимодействию с ребёнком и педагог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00240" y="213840"/>
            <a:ext cx="44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итерату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вдокимова, Е. С.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етский сад и семья [Текст] / Е. С. Евдокимова. - Мозаика-Синтез, 2007. - 144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нкова Ю. М.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овременные формы взаимодействия ДОУ и семьи [Текст] / Ю. М. Тонкова,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. Н. Веретенникова // Проблемы и перспективы развития образования (II): материалы междунар. заоч. науч. конф. (г. Пермь, май 2012 г.).  — Пермь: Меркурий, 2012. — С. 71-7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банок Т.С. и др.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радиционные формы взаимодействия дошкольного учреждения с семьей. — Мозырь, 20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F:\Документы Ирина\картинки\новые\75483924_8548549.gif"/>
          <p:cNvPicPr/>
          <p:nvPr/>
        </p:nvPicPr>
        <p:blipFill>
          <a:blip r:embed="rId1"/>
          <a:stretch/>
        </p:blipFill>
        <p:spPr>
          <a:xfrm>
            <a:off x="1000080" y="1357200"/>
            <a:ext cx="6400800" cy="391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28760" y="85680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 того, как прошло детство, кто вел ребенка за руку в детские годы, что вошло в его разум и сердце из окружающего мира, - от этого в решающей степени зависит, каким человеком станет сегодняшний малыш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80550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ребования к формам взаимодействия с родителя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Содержимое 3" descr=""/>
          <p:cNvPicPr/>
          <p:nvPr/>
        </p:nvPicPr>
        <p:blipFill>
          <a:blip r:embed="rId1"/>
          <a:stretch/>
        </p:blipFill>
        <p:spPr>
          <a:xfrm>
            <a:off x="1011240" y="1901880"/>
            <a:ext cx="7364520" cy="408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938160" y="1494000"/>
            <a:ext cx="7620120" cy="501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800080"/>
                </a:solidFill>
                <a:latin typeface="Script MT Bold"/>
              </a:rPr>
              <a:t>Формы работы с  родителями и деть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D:\Games\Установки\Новая папка\FILES\PFILES\MSOFFICE\MEDIA\CNTCD1\ClipArt3\j0237579.wmf"/>
          <p:cNvPicPr/>
          <p:nvPr/>
        </p:nvPicPr>
        <p:blipFill>
          <a:blip r:embed="rId1"/>
          <a:stretch/>
        </p:blipFill>
        <p:spPr>
          <a:xfrm rot="1169400">
            <a:off x="6876720" y="4221000"/>
            <a:ext cx="1562040" cy="2378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Program Files\Microsoft Office\Media\CntCD1\ClipArt3\j0232900.wmf"/>
          <p:cNvPicPr/>
          <p:nvPr/>
        </p:nvPicPr>
        <p:blipFill>
          <a:blip r:embed="rId2"/>
          <a:stretch/>
        </p:blipFill>
        <p:spPr>
          <a:xfrm rot="20564400">
            <a:off x="236160" y="4573080"/>
            <a:ext cx="2451240" cy="1965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Program Files\Microsoft Office\Media\CntCD1\ClipArt6\j0290694.wmf"/>
          <p:cNvPicPr/>
          <p:nvPr/>
        </p:nvPicPr>
        <p:blipFill>
          <a:blip r:embed="rId3"/>
          <a:stretch/>
        </p:blipFill>
        <p:spPr>
          <a:xfrm>
            <a:off x="7093080" y="0"/>
            <a:ext cx="1828800" cy="2533680"/>
          </a:xfrm>
          <a:prstGeom prst="rect">
            <a:avLst/>
          </a:prstGeom>
          <a:ln w="0">
            <a:noFill/>
          </a:ln>
        </p:spPr>
      </p:pic>
      <p:sp>
        <p:nvSpPr>
          <p:cNvPr id="179" name="Заголовок 1"/>
          <p:cNvSpPr/>
          <p:nvPr/>
        </p:nvSpPr>
        <p:spPr>
          <a:xfrm>
            <a:off x="357120" y="2571840"/>
            <a:ext cx="76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Школа родительской любви</a:t>
            </a:r>
            <a:endParaRPr b="0" lang="en-US" sz="4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43160" y="3786120"/>
            <a:ext cx="3562560" cy="267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4"/>
          <p:cNvSpPr/>
          <p:nvPr/>
        </p:nvSpPr>
        <p:spPr>
          <a:xfrm rot="21184800">
            <a:off x="544680" y="3382560"/>
            <a:ext cx="285732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Интеллектуальная игра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2" name="Прямоугольник 5"/>
          <p:cNvSpPr/>
          <p:nvPr/>
        </p:nvSpPr>
        <p:spPr>
          <a:xfrm rot="21184800">
            <a:off x="44280" y="167760"/>
            <a:ext cx="285768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Открытые занятия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3" name="WordArt 4"/>
          <p:cNvSpPr txBox="1"/>
          <p:nvPr/>
        </p:nvSpPr>
        <p:spPr>
          <a:xfrm rot="21028800">
            <a:off x="87480" y="4167000"/>
            <a:ext cx="471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7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Умники и умницы"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7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000760" y="4357800"/>
            <a:ext cx="2952720" cy="221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5" name="Rectangle 4"/>
          <p:cNvSpPr/>
          <p:nvPr/>
        </p:nvSpPr>
        <p:spPr>
          <a:xfrm rot="403200">
            <a:off x="5740560" y="1682640"/>
            <a:ext cx="3271680" cy="245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86" name="Picture 4" descr="мечта2 053"/>
          <p:cNvPicPr/>
          <p:nvPr/>
        </p:nvPicPr>
        <p:blipFill>
          <a:blip r:embed="rId3"/>
          <a:stretch/>
        </p:blipFill>
        <p:spPr>
          <a:xfrm rot="21419400">
            <a:off x="3265560" y="68040"/>
            <a:ext cx="2676600" cy="2006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Слученкова Окружающий мир 006"/>
          <p:cNvPicPr/>
          <p:nvPr/>
        </p:nvPicPr>
        <p:blipFill>
          <a:blip r:embed="rId4"/>
          <a:stretch/>
        </p:blipFill>
        <p:spPr>
          <a:xfrm rot="21311400">
            <a:off x="500040" y="1241280"/>
            <a:ext cx="2428920" cy="1820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920" y="2852640"/>
            <a:ext cx="4032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кскурс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WordArt 4"/>
          <p:cNvSpPr txBox="1"/>
          <p:nvPr/>
        </p:nvSpPr>
        <p:spPr>
          <a:xfrm rot="20534400">
            <a:off x="1878120" y="541080"/>
            <a:ext cx="3732120" cy="11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8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ендропарк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8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0" name="WordArt 5"/>
          <p:cNvSpPr txBox="1"/>
          <p:nvPr/>
        </p:nvSpPr>
        <p:spPr>
          <a:xfrm rot="20749800">
            <a:off x="3135240" y="1271160"/>
            <a:ext cx="4102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9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оинская часть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9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1" name="WordArt 6"/>
          <p:cNvSpPr txBox="1"/>
          <p:nvPr/>
        </p:nvSpPr>
        <p:spPr>
          <a:xfrm>
            <a:off x="3643200" y="2500200"/>
            <a:ext cx="4546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ожарная часть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2" name="WordArt 7"/>
          <p:cNvSpPr txBox="1"/>
          <p:nvPr/>
        </p:nvSpPr>
        <p:spPr>
          <a:xfrm rot="907200">
            <a:off x="2400120" y="5133960"/>
            <a:ext cx="53830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73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етская библиотек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73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93" name="Рисунок 10" descr="6f7d849564189ad3d9e690cdc244ebf5.gif"/>
          <p:cNvPicPr/>
          <p:nvPr/>
        </p:nvPicPr>
        <p:blipFill>
          <a:blip r:embed="rId1"/>
          <a:stretch/>
        </p:blipFill>
        <p:spPr>
          <a:xfrm>
            <a:off x="468360" y="465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Documents and Settings\Стёпины\Рабочий стол\Анимации\АнимаШ_ки\b64f949119c2157d149872dbf3429943.gif"/>
          <p:cNvPicPr/>
          <p:nvPr/>
        </p:nvPicPr>
        <p:blipFill>
          <a:blip r:embed="rId2"/>
          <a:stretch/>
        </p:blipFill>
        <p:spPr>
          <a:xfrm rot="7275000">
            <a:off x="394920" y="691920"/>
            <a:ext cx="1672920" cy="132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Documents and Settings\Стёпины\Рабочий стол\Анимации\АнимаШ_ки\b64f949119c2157d149872dbf3429943.gif"/>
          <p:cNvPicPr/>
          <p:nvPr/>
        </p:nvPicPr>
        <p:blipFill>
          <a:blip r:embed="rId3"/>
          <a:stretch/>
        </p:blipFill>
        <p:spPr>
          <a:xfrm rot="18567600">
            <a:off x="7364160" y="167760"/>
            <a:ext cx="1584360" cy="12542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7"/>
          <p:cNvSpPr txBox="1"/>
          <p:nvPr/>
        </p:nvSpPr>
        <p:spPr>
          <a:xfrm rot="907200">
            <a:off x="3400200" y="4041720"/>
            <a:ext cx="538308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73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Экзотические птицы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73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4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4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44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44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0" descr="Экскурсия 2008 6 лет 2смена 080"/>
          <p:cNvPicPr/>
          <p:nvPr/>
        </p:nvPicPr>
        <p:blipFill>
          <a:blip r:embed="rId1"/>
          <a:stretch/>
        </p:blipFill>
        <p:spPr>
          <a:xfrm>
            <a:off x="5724360" y="4076640"/>
            <a:ext cx="3419640" cy="2563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Изображение 084"/>
          <p:cNvPicPr/>
          <p:nvPr/>
        </p:nvPicPr>
        <p:blipFill>
          <a:blip r:embed="rId2"/>
          <a:stretch/>
        </p:blipFill>
        <p:spPr>
          <a:xfrm>
            <a:off x="250920" y="189000"/>
            <a:ext cx="3274920" cy="245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IMG_1490"/>
          <p:cNvPicPr/>
          <p:nvPr/>
        </p:nvPicPr>
        <p:blipFill>
          <a:blip r:embed="rId3"/>
          <a:stretch/>
        </p:blipFill>
        <p:spPr>
          <a:xfrm>
            <a:off x="3000240" y="2071800"/>
            <a:ext cx="3922920" cy="2941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IMG_1518"/>
          <p:cNvPicPr/>
          <p:nvPr/>
        </p:nvPicPr>
        <p:blipFill>
          <a:blip r:embed="rId4"/>
          <a:stretch/>
        </p:blipFill>
        <p:spPr>
          <a:xfrm>
            <a:off x="5364000" y="18900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Экскурсия 2008 6 лет 1смена 086"/>
          <p:cNvPicPr/>
          <p:nvPr/>
        </p:nvPicPr>
        <p:blipFill>
          <a:blip r:embed="rId5"/>
          <a:stretch/>
        </p:blipFill>
        <p:spPr>
          <a:xfrm>
            <a:off x="179280" y="4113360"/>
            <a:ext cx="3349800" cy="2511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F:\Документы Ирина\фотобанк\Мальвина 2012\2012 Экскурсия Мальвина 120.jpg"/>
          <p:cNvPicPr/>
          <p:nvPr/>
        </p:nvPicPr>
        <p:blipFill>
          <a:blip r:embed="rId6"/>
          <a:stretch/>
        </p:blipFill>
        <p:spPr>
          <a:xfrm>
            <a:off x="2928960" y="0"/>
            <a:ext cx="2489040" cy="1866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030a0"/>
                </a:solidFill>
                <a:latin typeface="Aharoni"/>
              </a:rPr>
              <a:t>Праздники   и    развлечения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0" y="928800"/>
            <a:ext cx="713592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тешествие в страну знаний»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05" name="Picture 3" descr="C:\Documents and Settings\Стёпины\Рабочий стол\Анимации\АнимаШ_ки\b64f949119c2157d149872dbf3429943.gif"/>
          <p:cNvPicPr/>
          <p:nvPr/>
        </p:nvPicPr>
        <p:blipFill>
          <a:blip r:embed="rId1"/>
          <a:stretch/>
        </p:blipFill>
        <p:spPr>
          <a:xfrm rot="14179800">
            <a:off x="7405560" y="59472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DSC00061"/>
          <p:cNvPicPr/>
          <p:nvPr/>
        </p:nvPicPr>
        <p:blipFill>
          <a:blip r:embed="rId2"/>
          <a:stretch/>
        </p:blipFill>
        <p:spPr>
          <a:xfrm>
            <a:off x="5905440" y="1714680"/>
            <a:ext cx="3238560" cy="24271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4"/>
          <p:cNvSpPr txBox="1"/>
          <p:nvPr/>
        </p:nvSpPr>
        <p:spPr>
          <a:xfrm>
            <a:off x="357120" y="1857240"/>
            <a:ext cx="4924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Дни именинников"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143160" y="2571840"/>
            <a:ext cx="2764080" cy="207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214720" y="3500280"/>
            <a:ext cx="2286000" cy="1714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29315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210" name="Picture 5" descr="Зимние именинники 051"/>
          <p:cNvPicPr/>
          <p:nvPr/>
        </p:nvPicPr>
        <p:blipFill>
          <a:blip r:embed="rId5"/>
          <a:stretch/>
        </p:blipFill>
        <p:spPr>
          <a:xfrm rot="280800">
            <a:off x="77400" y="2535120"/>
            <a:ext cx="2705040" cy="202896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4154400" y="4643280"/>
            <a:ext cx="498960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С Новым годом!"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12" name="Picture 5" descr="мечта2 089"/>
          <p:cNvPicPr/>
          <p:nvPr/>
        </p:nvPicPr>
        <p:blipFill>
          <a:blip r:embed="rId6"/>
          <a:stretch/>
        </p:blipFill>
        <p:spPr>
          <a:xfrm rot="20971800">
            <a:off x="975960" y="4163760"/>
            <a:ext cx="1925640" cy="2565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ebb5ea85996faccf2d27f7f983863b1b.gif"/>
          <p:cNvPicPr/>
          <p:nvPr/>
        </p:nvPicPr>
        <p:blipFill>
          <a:blip r:embed="rId7"/>
          <a:stretch/>
        </p:blipFill>
        <p:spPr>
          <a:xfrm>
            <a:off x="3357720" y="521496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1:04:16Z</dcterms:created>
  <dc:creator>USER</dc:creator>
  <dc:description/>
  <dc:language>en-US</dc:language>
  <cp:lastModifiedBy>Admin</cp:lastModifiedBy>
  <dcterms:modified xsi:type="dcterms:W3CDTF">2013-09-30T12:33:55Z</dcterms:modified>
  <cp:revision>86</cp:revision>
  <dc:subject/>
  <dc:title>Воспитательная работа</dc:title>
</cp:coreProperties>
</file>