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37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E82-17EF-4C8D-A2B7-5F76F33F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BC3-60A6-492B-9D8C-D0994003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0F5-9241-4A03-8EBB-04E4DBB9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619-4E1F-44D6-B4EE-49369187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284-1280-4B38-9367-8FF4E80A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EDC-C3E9-4EDE-9C59-C7478082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CA9-BF02-4C89-8C46-8774922F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93D-A478-4B92-8755-3AA97D3A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ADF-6ED7-4EC6-813D-455B66FD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09D-96D4-4005-9325-30C17EE6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53B-447E-4BC2-B2B1-5FB65827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BB7-6C75-4015-94DD-C7958C5E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4AA9-5D64-4B02-AE18-9909BEB3EF0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A38C-1A1C-410E-8152-F2DE8D6F5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29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22440" y="1407960"/>
            <a:ext cx="8246880" cy="3542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-60480" y="2822400"/>
            <a:ext cx="3340080" cy="34070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3"/>
          <a:stretch/>
        </p:blipFill>
        <p:spPr>
          <a:xfrm>
            <a:off x="1262160" y="560520"/>
            <a:ext cx="6906960" cy="15303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4"/>
          <a:stretch/>
        </p:blipFill>
        <p:spPr>
          <a:xfrm>
            <a:off x="2030400" y="4595760"/>
            <a:ext cx="7089840" cy="1433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C301-2AB3-41BA-AE67-3D643D94FC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4E52-A6F8-4FC3-BE00-A3ECA6E91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500040" y="64296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Наконец, окончательно формируем контуры квиллинг - придаем форму сердечка. Склеиваем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подарок на день святого валентина"/>
          <p:cNvPicPr/>
          <p:nvPr/>
        </p:nvPicPr>
        <p:blipFill>
          <a:blip r:embed="rId1"/>
          <a:stretch/>
        </p:blipFill>
        <p:spPr>
          <a:xfrm>
            <a:off x="1928880" y="19288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04C3-69E5-4826-9B68-588F34C9CCF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F6C2-1B6C-4449-9594-8ACFA4F141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img0.liveinternet.ru/images/attach/c/0/46/546/46546496_hearts_002.jpg"/>
          <p:cNvPicPr/>
          <p:nvPr/>
        </p:nvPicPr>
        <p:blipFill>
          <a:blip r:embed="rId1"/>
          <a:stretch/>
        </p:blipFill>
        <p:spPr>
          <a:xfrm rot="20445000">
            <a:off x="631800" y="1344600"/>
            <a:ext cx="3268800" cy="438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im5-tub-ru.yandex.net/i?id=358347574-32-72&amp;n=21"/>
          <p:cNvPicPr/>
          <p:nvPr/>
        </p:nvPicPr>
        <p:blipFill>
          <a:blip r:embed="rId2"/>
          <a:stretch/>
        </p:blipFill>
        <p:spPr>
          <a:xfrm rot="885000">
            <a:off x="5057280" y="1302840"/>
            <a:ext cx="3500640" cy="4265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0A8C-4AA4-4A60-B698-59E7751F07E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8CD0-4F18-4BA5-96D2-99C059653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im5-tub-ru.yandex.net/i?id=79966864-56-72&amp;n=21"/>
          <p:cNvPicPr/>
          <p:nvPr/>
        </p:nvPicPr>
        <p:blipFill>
          <a:blip r:embed="rId1"/>
          <a:stretch/>
        </p:blipFill>
        <p:spPr>
          <a:xfrm>
            <a:off x="3143160" y="335772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im0-tub-ru.yandex.net/i?id=258798589-53-72&amp;n=21"/>
          <p:cNvPicPr/>
          <p:nvPr/>
        </p:nvPicPr>
        <p:blipFill>
          <a:blip r:embed="rId2"/>
          <a:stretch/>
        </p:blipFill>
        <p:spPr>
          <a:xfrm rot="1732200">
            <a:off x="5785920" y="1214280"/>
            <a:ext cx="2729160" cy="2714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im8-tub-ru.yandex.net/i?id=241329000-42-72&amp;n=21"/>
          <p:cNvPicPr/>
          <p:nvPr/>
        </p:nvPicPr>
        <p:blipFill>
          <a:blip r:embed="rId3"/>
          <a:stretch/>
        </p:blipFill>
        <p:spPr>
          <a:xfrm rot="20174400">
            <a:off x="477360" y="979200"/>
            <a:ext cx="2643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5EB3-0C4C-4A99-AD5E-0CBF6D0A6A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1FFA-F6A1-461E-AF6D-C2ED09D07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im7-tub-ru.yandex.net/i?id=607962748-04-72&amp;n=21"/>
          <p:cNvPicPr/>
          <p:nvPr/>
        </p:nvPicPr>
        <p:blipFill>
          <a:blip r:embed="rId1"/>
          <a:stretch/>
        </p:blipFill>
        <p:spPr>
          <a:xfrm rot="1404600">
            <a:off x="372960" y="1009800"/>
            <a:ext cx="2333880" cy="235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im6-tub-ru.yandex.net/i?id=167790449-56-72&amp;n=21"/>
          <p:cNvPicPr/>
          <p:nvPr/>
        </p:nvPicPr>
        <p:blipFill>
          <a:blip r:embed="rId2"/>
          <a:stretch/>
        </p:blipFill>
        <p:spPr>
          <a:xfrm rot="1981800">
            <a:off x="3298320" y="1119240"/>
            <a:ext cx="2643480" cy="2143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im4-tub-ru.yandex.net/i?id=325809420-47-72&amp;n=21"/>
          <p:cNvPicPr/>
          <p:nvPr/>
        </p:nvPicPr>
        <p:blipFill>
          <a:blip r:embed="rId3"/>
          <a:stretch/>
        </p:blipFill>
        <p:spPr>
          <a:xfrm rot="2019000">
            <a:off x="6435360" y="1161720"/>
            <a:ext cx="2286000" cy="221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http://im3-tub-ru.yandex.net/i?id=60030883-16-72&amp;n=21"/>
          <p:cNvPicPr/>
          <p:nvPr/>
        </p:nvPicPr>
        <p:blipFill>
          <a:blip r:embed="rId4"/>
          <a:stretch/>
        </p:blipFill>
        <p:spPr>
          <a:xfrm rot="20301600">
            <a:off x="487440" y="3533760"/>
            <a:ext cx="217152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http://im0-tub-ru.yandex.net/i?id=137469173-65-72&amp;n=21"/>
          <p:cNvPicPr/>
          <p:nvPr/>
        </p:nvPicPr>
        <p:blipFill>
          <a:blip r:embed="rId5"/>
          <a:stretch/>
        </p:blipFill>
        <p:spPr>
          <a:xfrm rot="20345400">
            <a:off x="2903400" y="332568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ttp://im4-tub-ru.yandex.net/i?id=481530940-42-72&amp;n=21"/>
          <p:cNvPicPr/>
          <p:nvPr/>
        </p:nvPicPr>
        <p:blipFill>
          <a:blip r:embed="rId6"/>
          <a:stretch/>
        </p:blipFill>
        <p:spPr>
          <a:xfrm rot="19903800">
            <a:off x="6133680" y="3636720"/>
            <a:ext cx="2643120" cy="2214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004C-0DE4-4284-9122-EFB8ACCF834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98C4-A4F3-49C9-9D30-DA46140501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im7-tub-ru.yandex.net/i?id=371405367-51-72&amp;n=21"/>
          <p:cNvPicPr/>
          <p:nvPr/>
        </p:nvPicPr>
        <p:blipFill>
          <a:blip r:embed="rId1"/>
          <a:stretch/>
        </p:blipFill>
        <p:spPr>
          <a:xfrm rot="19968000">
            <a:off x="428760" y="1091880"/>
            <a:ext cx="2571480" cy="250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im2-tub-ru.yandex.net/i?id=218633518-38-72&amp;n=21"/>
          <p:cNvPicPr/>
          <p:nvPr/>
        </p:nvPicPr>
        <p:blipFill>
          <a:blip r:embed="rId2"/>
          <a:stretch/>
        </p:blipFill>
        <p:spPr>
          <a:xfrm>
            <a:off x="3786120" y="1000080"/>
            <a:ext cx="18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im7-tub-ru.yandex.net/i?id=317997297-04-72&amp;n=21"/>
          <p:cNvPicPr/>
          <p:nvPr/>
        </p:nvPicPr>
        <p:blipFill>
          <a:blip r:embed="rId3"/>
          <a:stretch/>
        </p:blipFill>
        <p:spPr>
          <a:xfrm>
            <a:off x="6215040" y="4000680"/>
            <a:ext cx="265752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im4-tub-ru.yandex.net/i?id=389393162-14-72&amp;n=21"/>
          <p:cNvPicPr/>
          <p:nvPr/>
        </p:nvPicPr>
        <p:blipFill>
          <a:blip r:embed="rId4"/>
          <a:stretch/>
        </p:blipFill>
        <p:spPr>
          <a:xfrm>
            <a:off x="285840" y="4000680"/>
            <a:ext cx="2786040" cy="2071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http://im2-tub-ru.yandex.net/i?id=364342647-27-72&amp;n=21"/>
          <p:cNvPicPr/>
          <p:nvPr/>
        </p:nvPicPr>
        <p:blipFill>
          <a:blip r:embed="rId5"/>
          <a:stretch/>
        </p:blipFill>
        <p:spPr>
          <a:xfrm rot="1441200">
            <a:off x="6257880" y="1046160"/>
            <a:ext cx="2500200" cy="242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http://im2-tub-ru.yandex.net/i?id=3561104-45-72&amp;n=21"/>
          <p:cNvPicPr/>
          <p:nvPr/>
        </p:nvPicPr>
        <p:blipFill>
          <a:blip r:embed="rId6"/>
          <a:stretch/>
        </p:blipFill>
        <p:spPr>
          <a:xfrm>
            <a:off x="3643200" y="3643200"/>
            <a:ext cx="2143080" cy="200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im7-tub-ru.yandex.net/i?id=317997297-04-72&amp;n=21"/>
          <p:cNvPicPr/>
          <p:nvPr/>
        </p:nvPicPr>
        <p:blipFill>
          <a:blip r:embed="rId7"/>
          <a:stretch/>
        </p:blipFill>
        <p:spPr>
          <a:xfrm>
            <a:off x="6215040" y="4000680"/>
            <a:ext cx="2657520" cy="235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im2-tub-ru.yandex.net/i?id=218633518-38-72&amp;n=21"/>
          <p:cNvPicPr/>
          <p:nvPr/>
        </p:nvPicPr>
        <p:blipFill>
          <a:blip r:embed="rId8"/>
          <a:stretch/>
        </p:blipFill>
        <p:spPr>
          <a:xfrm>
            <a:off x="3786120" y="1000080"/>
            <a:ext cx="1857600" cy="2286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3C86-7E6D-437C-B670-08D905C5BBF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3E6A-288E-4259-851F-7F5B3C057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im5-tub-ru.yandex.net/i?id=940951052-40-72&amp;n=21"/>
          <p:cNvPicPr/>
          <p:nvPr/>
        </p:nvPicPr>
        <p:blipFill>
          <a:blip r:embed="rId1"/>
          <a:stretch/>
        </p:blipFill>
        <p:spPr>
          <a:xfrm rot="20333400">
            <a:off x="500040" y="999720"/>
            <a:ext cx="2643120" cy="249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im2-tub-ru.yandex.net/i?id=115730948-16-72&amp;n=21"/>
          <p:cNvPicPr/>
          <p:nvPr/>
        </p:nvPicPr>
        <p:blipFill>
          <a:blip r:embed="rId2"/>
          <a:stretch/>
        </p:blipFill>
        <p:spPr>
          <a:xfrm>
            <a:off x="3500280" y="1214280"/>
            <a:ext cx="2571840" cy="2786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im3-tub-ru.yandex.net/i?id=351373985-05-72&amp;n=21"/>
          <p:cNvPicPr/>
          <p:nvPr/>
        </p:nvPicPr>
        <p:blipFill>
          <a:blip r:embed="rId3"/>
          <a:stretch/>
        </p:blipFill>
        <p:spPr>
          <a:xfrm rot="1353600">
            <a:off x="6357960" y="1285560"/>
            <a:ext cx="264312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im0-tub-ru.yandex.net/i?id=1825911-07-16f-02451&amp;n=21"/>
          <p:cNvPicPr/>
          <p:nvPr/>
        </p:nvPicPr>
        <p:blipFill>
          <a:blip r:embed="rId4"/>
          <a:stretch/>
        </p:blipFill>
        <p:spPr>
          <a:xfrm>
            <a:off x="1000080" y="4214880"/>
            <a:ext cx="3357720" cy="1857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im4-tub-ru.yandex.net/i?id=320442370-22-72&amp;n=21"/>
          <p:cNvPicPr/>
          <p:nvPr/>
        </p:nvPicPr>
        <p:blipFill>
          <a:blip r:embed="rId5"/>
          <a:stretch/>
        </p:blipFill>
        <p:spPr>
          <a:xfrm>
            <a:off x="5357880" y="4214880"/>
            <a:ext cx="2928960" cy="200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im0-tub-ru.yandex.net/i?id=1825911-07-16f-02451&amp;n=21"/>
          <p:cNvPicPr/>
          <p:nvPr/>
        </p:nvPicPr>
        <p:blipFill>
          <a:blip r:embed="rId6"/>
          <a:stretch/>
        </p:blipFill>
        <p:spPr>
          <a:xfrm>
            <a:off x="1000080" y="4214880"/>
            <a:ext cx="3357720" cy="1857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http://im4-tub-ru.yandex.net/i?id=320442370-22-72&amp;n=21"/>
          <p:cNvPicPr/>
          <p:nvPr/>
        </p:nvPicPr>
        <p:blipFill>
          <a:blip r:embed="rId7"/>
          <a:stretch/>
        </p:blipFill>
        <p:spPr>
          <a:xfrm>
            <a:off x="5357880" y="4214880"/>
            <a:ext cx="292896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4F2B-FB6D-4935-8FDA-1C2E2B9336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DAEE-2CCE-4D00-BB8B-2D64AE0814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714240" y="64296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Осталось только преподнести валентин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в День Святого Валентин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u.jimdo.com/www30/o/s7aa5a3ac06254550/img/i4ce221919cde1333/1359723812/std/image.jpg"/>
          <p:cNvPicPr/>
          <p:nvPr/>
        </p:nvPicPr>
        <p:blipFill>
          <a:blip r:embed="rId1"/>
          <a:stretch/>
        </p:blipFill>
        <p:spPr>
          <a:xfrm>
            <a:off x="2714760" y="3214800"/>
            <a:ext cx="3990960" cy="302868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5" descr=""/>
          <p:cNvPicPr/>
          <p:nvPr/>
        </p:nvPicPr>
        <p:blipFill>
          <a:blip r:embed="rId2"/>
          <a:stretch/>
        </p:blipFill>
        <p:spPr>
          <a:xfrm>
            <a:off x="1378080" y="1652760"/>
            <a:ext cx="6460920" cy="224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4125-2901-4D27-B32C-0EDBC7C793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E450-EB6C-4F8A-8712-5D26E0DBB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 rot="21175800">
            <a:off x="448560" y="1225440"/>
            <a:ext cx="3929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Искусство бумагокручения на английском языке называется </a:t>
            </a:r>
            <a:r>
              <a:rPr b="1" i="1" lang="ru-RU" sz="2000" spc="-1" strike="noStrike">
                <a:solidFill>
                  <a:srgbClr val="00b0f0"/>
                </a:solidFill>
                <a:latin typeface="Arial"/>
              </a:rPr>
              <a:t>quilling 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— от слова </a:t>
            </a:r>
            <a:r>
              <a:rPr b="1" i="1" lang="ru-RU" sz="2000" spc="-1" strike="noStrike">
                <a:solidFill>
                  <a:srgbClr val="00b0f0"/>
                </a:solidFill>
                <a:latin typeface="Arial"/>
              </a:rPr>
              <a:t>quil 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(птичье пер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Возникло оно в средневековой Европе, где монахини создавали медальоны, закручивая на кончике птичьего пера бумажные полоски с позолоченными краями, что создавало имитацию золотой миниатю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http://im5-tub-ru.yandex.net/i?id=139555-03-16f-20812&amp;n=21"/>
          <p:cNvPicPr/>
          <p:nvPr/>
        </p:nvPicPr>
        <p:blipFill>
          <a:blip r:embed="rId1"/>
          <a:stretch/>
        </p:blipFill>
        <p:spPr>
          <a:xfrm rot="606600">
            <a:off x="4754160" y="1483920"/>
            <a:ext cx="3429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E2E4-4FD0-496D-ABEB-C3B5B3F5877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C55F-025B-4D2D-A2F9-0E7B5D2E32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285840" y="714240"/>
            <a:ext cx="3357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иближается праздник всех влюбленных.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, конечно, хочется порадовать своего друга или подружку чем-то неожиданно красивым и необычным.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от таким восприятием и отличается сердечко-квиллинг. В принципе, сделать его не очень сложно, главное в этом деле -  терпение и желание.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у что, приступим?!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подарок на день святого валентина"/>
          <p:cNvPicPr/>
          <p:nvPr/>
        </p:nvPicPr>
        <p:blipFill>
          <a:blip r:embed="rId1"/>
          <a:stretch/>
        </p:blipFill>
        <p:spPr>
          <a:xfrm>
            <a:off x="3714840" y="1392120"/>
            <a:ext cx="5000400" cy="3751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65D5-1260-4831-BB4C-0AB5C23211D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EBD5-B884-4846-94CA-AFF2F6368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85840" y="1166760"/>
            <a:ext cx="400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м понадоб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 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олоски бумаги розового или красного цв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лей П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редмет, на который мы будем накручивать бума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Для этого можно использовать зубочист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одарок на день святого валентина"/>
          <p:cNvPicPr/>
          <p:nvPr/>
        </p:nvPicPr>
        <p:blipFill>
          <a:blip r:embed="rId1"/>
          <a:stretch/>
        </p:blipFill>
        <p:spPr>
          <a:xfrm>
            <a:off x="4071960" y="1571760"/>
            <a:ext cx="4762440" cy="44672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A2C3-026D-4C90-9ABA-0C5DEEA2F57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292B-6ABE-47D4-B7D5-D7574D9CD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285840" y="7142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Из полосок, с помощью зубочистки, делаем вот такие элементы для квиллинга - спиральки - в большом колич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подарок на день святого валентина"/>
          <p:cNvPicPr/>
          <p:nvPr/>
        </p:nvPicPr>
        <p:blipFill>
          <a:blip r:embed="rId1"/>
          <a:stretch/>
        </p:blipFill>
        <p:spPr>
          <a:xfrm>
            <a:off x="2286000" y="27147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подарок на день святого валентина"/>
          <p:cNvPicPr/>
          <p:nvPr/>
        </p:nvPicPr>
        <p:blipFill>
          <a:blip r:embed="rId2"/>
          <a:stretch/>
        </p:blipFill>
        <p:spPr>
          <a:xfrm>
            <a:off x="2286000" y="27147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7A53-6DF6-442E-B3D8-41E7C0AD77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D8D6-A756-46EF-8298-D9598946F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3" descr=""/>
          <p:cNvPicPr/>
          <p:nvPr/>
        </p:nvPicPr>
        <p:blipFill>
          <a:blip r:embed="rId1"/>
          <a:stretch/>
        </p:blipFill>
        <p:spPr>
          <a:xfrm>
            <a:off x="1762200" y="774720"/>
            <a:ext cx="5479920" cy="1401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borisovna.rusedu.net/gallery/4998/Kvilling_formy.png"/>
          <p:cNvPicPr/>
          <p:nvPr/>
        </p:nvPicPr>
        <p:blipFill>
          <a:blip r:embed="rId2"/>
          <a:stretch/>
        </p:blipFill>
        <p:spPr>
          <a:xfrm>
            <a:off x="285840" y="1785960"/>
            <a:ext cx="8429400" cy="421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borisovna.rusedu.net/gallery/4998/Kvilling_formy.png"/>
          <p:cNvPicPr/>
          <p:nvPr/>
        </p:nvPicPr>
        <p:blipFill>
          <a:blip r:embed="rId3"/>
          <a:stretch/>
        </p:blipFill>
        <p:spPr>
          <a:xfrm>
            <a:off x="285840" y="1785960"/>
            <a:ext cx="8429400" cy="4214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borisovna.rusedu.net/gallery/4998/Kvilling_formy.png"/>
          <p:cNvPicPr/>
          <p:nvPr/>
        </p:nvPicPr>
        <p:blipFill>
          <a:blip r:embed="rId4"/>
          <a:stretch/>
        </p:blipFill>
        <p:spPr>
          <a:xfrm>
            <a:off x="438120" y="1938240"/>
            <a:ext cx="8429760" cy="4214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D55F-90A0-451C-AC23-A8A25D34D91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EB2E-F2B7-4A23-83D5-37F1A5F4E6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lady-secrets.ru/wp-content/uploads/2012/01/Kvilling-11.jpg"/>
          <p:cNvPicPr/>
          <p:nvPr/>
        </p:nvPicPr>
        <p:blipFill>
          <a:blip r:embed="rId1"/>
          <a:stretch/>
        </p:blipFill>
        <p:spPr>
          <a:xfrm>
            <a:off x="428760" y="642960"/>
            <a:ext cx="8501040" cy="5553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2BE8-153F-4D1D-A3F4-34499F4B70B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8BC8-5BB0-471E-8E70-4040146055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357120" y="714240"/>
            <a:ext cx="3857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тем из спиралек делаем лодочки, другие элементы, из которых дальше и складываем прообраз нашего сердечка квиллинг. Все спиральки склеиваем друг с другом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стати, рамка для фото, созданная в технике квиллинг, уже готова. Просто не заполняйте центр сердечка, а вставьте в нее  фотограф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подарок на день святого валентина"/>
          <p:cNvPicPr/>
          <p:nvPr/>
        </p:nvPicPr>
        <p:blipFill>
          <a:blip r:embed="rId1"/>
          <a:stretch/>
        </p:blipFill>
        <p:spPr>
          <a:xfrm>
            <a:off x="4643280" y="1785960"/>
            <a:ext cx="4143600" cy="35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5E7B-B8B9-431B-8047-272DB74B59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02B9-A93C-48E5-9E38-8DF9BDA4B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357120" y="78588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еперь заполняем центр нашей будущей валентинки элементми-спиральками необходимой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от и готово ваше сердечко-валенти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подарок на день святого валентина"/>
          <p:cNvPicPr/>
          <p:nvPr/>
        </p:nvPicPr>
        <p:blipFill>
          <a:blip r:embed="rId1"/>
          <a:stretch/>
        </p:blipFill>
        <p:spPr>
          <a:xfrm>
            <a:off x="2214720" y="2214720"/>
            <a:ext cx="4762440" cy="3571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07:06:04Z</dcterms:created>
  <dc:creator>User</dc:creator>
  <dc:description>http://aida.ucoz.ru</dc:description>
  <dc:language>en-US</dc:language>
  <cp:lastModifiedBy>User</cp:lastModifiedBy>
  <dcterms:modified xsi:type="dcterms:W3CDTF">2013-03-25T17:28:32Z</dcterms:modified>
  <cp:revision>55</cp:revision>
  <dc:subject/>
  <dc:title>Слайд 1</dc:title>
</cp:coreProperties>
</file>