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FAF7-4CD4-4D20-8095-A0A00CE6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C3EC-602E-4BFF-9502-ED0885C8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7F36-6C94-42A0-BBB2-7EED2EA23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A1A1-17A4-48A6-836F-86E9AF101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76DA-D130-4512-B92E-9D8006EB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12D6-91B6-4128-9B78-1C4FE6E6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2BA0-AA5A-4647-A4A7-BF16CC21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0951-BF63-41E7-A54B-0007CC92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98D7-A9E4-4263-BDE2-FAF1D253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FF9B-76ED-451E-871B-3D23A549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F1FA-4F6A-442F-9AD9-E3B78D4E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3C43-1379-43E1-8BD6-8181E8E4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D984-9E78-4A58-AF4D-BF56C13CD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00"/>
                </a:solidFill>
                <a:latin typeface="Arial"/>
              </a:rPr>
              <a:t>Моя будущая професс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«А» класс мечта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019920"/>
            <a:ext cx="8153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никова И. В., учитель начальных классов МКОУ Заболотов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2252880" cy="311472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657600" y="1752480"/>
            <a:ext cx="2143080" cy="32958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248520" y="533520"/>
            <a:ext cx="2087280" cy="294804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5">
            <a:lum bright="-6000"/>
          </a:blip>
          <a:srcRect l="0" t="0" r="0" b="29000"/>
          <a:stretch/>
        </p:blipFill>
        <p:spPr>
          <a:xfrm>
            <a:off x="762120" y="3886200"/>
            <a:ext cx="2508120" cy="25146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172200" y="3962520"/>
            <a:ext cx="2438280" cy="266688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3200400" cy="235908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762120" y="3962520"/>
            <a:ext cx="2971800" cy="210492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257800" y="3886200"/>
            <a:ext cx="3124080" cy="219852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257800" y="533520"/>
            <a:ext cx="3143160" cy="234612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6">
            <a:lum bright="12000"/>
          </a:blip>
          <a:srcRect l="0" t="1790" r="70001" b="29161"/>
          <a:stretch/>
        </p:blipFill>
        <p:spPr>
          <a:xfrm>
            <a:off x="3505320" y="2057400"/>
            <a:ext cx="1969920" cy="30481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19920" y="533520"/>
            <a:ext cx="2273040" cy="321948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3"/>
          <a:srcRect l="66218" t="0" r="0" b="0"/>
          <a:stretch/>
        </p:blipFill>
        <p:spPr>
          <a:xfrm>
            <a:off x="3962520" y="2286000"/>
            <a:ext cx="1449360" cy="21780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4"/>
          <a:srcRect l="0" t="41339" r="0" b="0"/>
          <a:stretch/>
        </p:blipFill>
        <p:spPr>
          <a:xfrm>
            <a:off x="685800" y="4038480"/>
            <a:ext cx="2819520" cy="20034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5715000" y="4230720"/>
            <a:ext cx="3048120" cy="22464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6"/>
          <a:srcRect l="0" t="4039" r="0" b="0"/>
          <a:stretch/>
        </p:blipFill>
        <p:spPr>
          <a:xfrm>
            <a:off x="457200" y="774720"/>
            <a:ext cx="2971800" cy="210024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600200" y="457200"/>
            <a:ext cx="2262240" cy="32767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791320" y="457200"/>
            <a:ext cx="2246040" cy="327672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124080" y="4038480"/>
            <a:ext cx="3353040" cy="237024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rina</cp:lastModifiedBy>
  <dcterms:modified xsi:type="dcterms:W3CDTF">2013-09-29T23:19:16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