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254-B7A1-4E8C-B138-60F57622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C02-E160-489C-B08A-E3062FDE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4B1-DDEE-4D4F-B360-F3CF7122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D1F5-2C10-4C3B-8D2B-C33FBFDE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008F-D744-4273-BD28-2770A384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DAE7-3BDD-4A2B-BC72-F7F15929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D50C-A803-48E0-B028-4627027B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F100-2A3B-4345-9CEC-A521EA43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5BAD-4128-49B6-8EA4-9EBAD93F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5F74-297B-4820-AC12-0CBB2111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40B7-7FF9-42B6-930D-E2E02AA0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5F5-06CD-410B-B381-709E33BB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A5C5-AA8A-40D6-A1C3-DDBF71BA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EF75-BA40-455A-994C-FE0C3F3E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446F-0540-49BD-AE09-8DF1F2ED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6515-BA07-472B-9455-C0FBB8BE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72FD-CADF-41DF-A713-DBFCB69E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0AB0A-946C-4581-9804-D4397A26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FD6C8-E461-4FF8-9F1B-D0038A7A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E8DDD-E3B3-42AF-9A87-B3EAD416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C49F1-5B56-41F2-9CB2-646F4C35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7BC0-4DEF-4CAD-9CB3-E92D22E1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441-F794-4F14-ADA4-8828E980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5F2B3-316A-4B95-A715-5D4BDD4B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1BAAF-994C-4923-BF8E-FE2AC31D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763C6-1827-498D-82AD-AE328AE1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91551-0B65-4878-BED0-3FBBE805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6F9CD-D16B-441B-B6E1-6D6083E1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C8041-3363-4079-A6E6-07E52584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0FB85-3D86-4F6A-9F2C-3DBB9966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C3E-6AED-43E5-B20B-0872AD0F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8310-299B-4050-A7E8-9D9E0A0D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B36F-CB68-4B43-8255-A15EB06A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BD0F-AC0E-40A6-AB6B-FDF8D309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2FD8-2D62-4BFD-9B44-D1B8E15D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2B0-1013-4C9B-8C4E-B83E6AF9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DA6A-2326-4ABF-97D6-F0A7196E21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294C-7284-4C96-90DF-5C192D87E42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7DF1-3225-42AB-8653-61B90B52DD1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6.jpeg"/><Relationship Id="rId10" Type="http://schemas.openxmlformats.org/officeDocument/2006/relationships/image" Target="../media/image11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371240" y="3860280"/>
            <a:ext cx="67294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00000" y="260280"/>
            <a:ext cx="7344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чвенные 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земельные ресурсы России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2708280"/>
            <a:ext cx="842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Добра мать для своих детей, а земля – для всех людей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Земля – мать человеку, его кормилица»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424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Закономерности размещения почв.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2421000"/>
            <a:ext cx="4356000" cy="3809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416400" y="2238480"/>
            <a:ext cx="5727600" cy="4651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территории такой большой страны как Россия это очень хорошо замет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севера на юг России сменяют друг друга следующие зональные типы поч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Times New Roman"/>
                <a:hlinkClick r:id="rId3" action="ppaction://hlinksldjump"/>
              </a:rPr>
              <a:t>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imes New Roman"/>
                <a:hlinkClick r:id="rId4" action="ppaction://hlinksldjump"/>
              </a:rPr>
              <a:t>тундровые глее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imes New Roman"/>
                <a:hlinkClick r:id="rId5" action="ppaction://hlinksldjump"/>
              </a:rPr>
              <a:t>подзолистые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 и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imes New Roman"/>
                <a:hlinkClick r:id="rId6" action="ppaction://hlinksldjump"/>
              </a:rPr>
              <a:t>дерново-подзолист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imes New Roman"/>
                <a:hlinkClick r:id="rId7" action="ppaction://hlinksldjump"/>
              </a:rPr>
              <a:t>серые лес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imes New Roman"/>
                <a:hlinkClick r:id="rId8" action="ppaction://hlinksldjump"/>
              </a:rPr>
              <a:t>чернозё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imes New Roman"/>
                <a:hlinkClick r:id="rId9" action="ppaction://hlinksldjump"/>
              </a:rPr>
              <a:t>каштан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imes New Roman"/>
                <a:hlinkClick r:id="rId10" action="ppaction://hlinksldjump"/>
              </a:rPr>
              <a:t>бурые полупусты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692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ahoma"/>
              </a:rPr>
              <a:t>Более 100 лет назад наш знаменитый соотечественник – почвовед </a:t>
            </a:r>
            <a:r>
              <a:rPr b="1" lang="ru-RU" sz="2400" spc="-1" strike="noStrike">
                <a:solidFill>
                  <a:srgbClr val="330033"/>
                </a:solidFill>
                <a:latin typeface="Tahoma"/>
              </a:rPr>
              <a:t>Василий Васильевич Докучаев</a:t>
            </a:r>
            <a:r>
              <a:rPr b="1" lang="ru-RU" sz="2400" spc="-1" strike="noStrike">
                <a:solidFill>
                  <a:srgbClr val="990033"/>
                </a:solidFill>
                <a:latin typeface="Tahoma"/>
              </a:rPr>
              <a:t> заметил, что размещение основных типов почв  по поверхности Земли подчиняется закону широтной зональности</a:t>
            </a:r>
            <a:r>
              <a:rPr b="0" lang="ru-RU" sz="2400" spc="-1" strike="noStrike">
                <a:solidFill>
                  <a:srgbClr val="990033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c00"/>
                </a:solidFill>
                <a:latin typeface="Times New Roman"/>
              </a:rPr>
              <a:t>Почвенная карта России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549360"/>
            <a:ext cx="85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Познакомьтесь с размещением главных почв на территории наш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4321080" cy="4751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572000" y="1773360"/>
            <a:ext cx="4321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195640" y="1700280"/>
            <a:ext cx="69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Крайнем Севере почва почти весь год находится в мерзлом состоянии. На короткое время верхний горизонт оттаивает всего на несколько десятков сантиметров. При этом в почве создается переувлажнение. Здесь образу­ются маломощные </a:t>
            </a:r>
            <a:r>
              <a:rPr b="0" i="1" lang="ru-RU" sz="2400" spc="-1" strike="noStrike">
                <a:solidFill>
                  <a:srgbClr val="cc3300"/>
                </a:solidFill>
                <a:latin typeface="Times New Roman"/>
              </a:rPr>
              <a:t>тундровые глеевы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ы. В них под верхним горизонтом находится зеленовато-сизый или голубовато-серый слой, иногда с ржавыми пятнами — глеевый горизонт, или глей. Он образуется при постоянном или длительном переувлажнении и недостатке кислорода в почве. В таких условиях соединения железа и марганца находятся в закисной форме. С этим связан цвет горизон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imes New Roman"/>
              </a:rPr>
              <a:t>Тундрово-глеевые поч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1873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imes New Roman"/>
              </a:rPr>
              <a:t>Подзолистые поч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834920" y="1413000"/>
            <a:ext cx="7057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половины площади страны занимаю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дзолист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ерново-подзолист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чвы. Они формируются под лесами в области избыточного увлажнения (К&gt;1)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адков здесь выпадает больше, чем может испариться. Часть влаги, попадающей на поверхность почвы, просачивается сквозь почвенный слой и уносит с собой все то, что может раствориться, в грунтовые воды. Вода как бы промывает почву. Растворяются не только минеральные вещества, но и органические соедин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малом количестве растительных остатков и при интенсивном промывании в тайге образуются </a:t>
            </a:r>
            <a:r>
              <a:rPr b="0" i="1" lang="ru-RU" sz="2400" spc="-1" strike="noStrike">
                <a:solidFill>
                  <a:srgbClr val="cc3300"/>
                </a:solidFill>
                <a:latin typeface="Times New Roman"/>
              </a:rPr>
              <a:t>подзолисты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ы. Они бедны гумусом и минеральными элементами, поэтому мало плодород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194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imes New Roman"/>
              </a:rPr>
              <a:t>Дерново-подзолистые поч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908000" y="1557000"/>
            <a:ext cx="705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южной части тайги и особенно в смешанных хвойно-широколиственных лесах увеличивается поступление  растительных   остатков,   возрастают летние температуры, поэтому сквозное промывание происходит только весной, а летом промывание сменяется подтягиванием почвенных растворов к поверхности и испарением влаги. В этих условиях возрастает накопление гумуса, часть растворимых минеральных соединений задерживается в почве. Здесь образуются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дерново-подзолист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чв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1931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5075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Times New Roman"/>
              </a:rPr>
              <a:t>Серые лесные почв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050920" y="1557000"/>
            <a:ext cx="489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 древесной растительностью смешанных и широколиственных лесов, ежегодно сбрасывающих свою листву почвы </a:t>
            </a:r>
            <a:r>
              <a:rPr b="0" i="1" lang="ru-RU" sz="2600" spc="-1" strike="noStrike">
                <a:solidFill>
                  <a:srgbClr val="cc3300"/>
                </a:solidFill>
                <a:latin typeface="Times New Roman"/>
              </a:rPr>
              <a:t>серые лесны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 в условиях резко континентального климата и многолетней мерзлоты под хвойными лесами формируются </a:t>
            </a:r>
            <a:r>
              <a:rPr b="0" i="1" lang="ru-RU" sz="2600" spc="-1" strike="noStrike">
                <a:solidFill>
                  <a:srgbClr val="cc3300"/>
                </a:solidFill>
                <a:latin typeface="Times New Roman"/>
              </a:rPr>
              <a:t>мерзлотно-таежные почв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1728720" cy="4967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236000" y="1557360"/>
            <a:ext cx="1728720" cy="4967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29280" y="260280"/>
            <a:ext cx="8742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         </a:t>
            </a:r>
            <a:r>
              <a:rPr b="0" lang="ru-RU" sz="4000" spc="-1" strike="noStrike">
                <a:solidFill>
                  <a:srgbClr val="0033cc"/>
                </a:solidFill>
                <a:latin typeface="Garamond"/>
              </a:rPr>
              <a:t>Мерзлотно-таёжные поч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419640" y="188640"/>
            <a:ext cx="49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imes New Roman"/>
              </a:rPr>
              <a:t>Чернозё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340000" y="1268280"/>
            <a:ext cx="6624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ние гумуса в почвах и их плодородие в области избыточного увлажнения возрастают к юг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ые плодородные почвы в нашей стране распространены в лесостепной и северной части степной зон. Здесь выпадает столько атмосферных осадков, сколько может испариться с поверх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пные растения дают большое количество органического вещества ежегодно. Здесь формируются самые богатые перегноем почвы — </a:t>
            </a:r>
            <a:r>
              <a:rPr b="0" i="1" lang="ru-RU" sz="2400" spc="-1" strike="noStrike">
                <a:solidFill>
                  <a:srgbClr val="cc3300"/>
                </a:solidFill>
                <a:latin typeface="Times New Roman"/>
              </a:rPr>
              <a:t>чернозем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обладают зернистой структурой. Это — лучшие почвы нашей стра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1727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Times New Roman"/>
              </a:rPr>
              <a:t>Каштановые и бурые полупустынные поч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5977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движении к югу климат становится все суше и теплее, а растительный покров все более разреженным. В почву попадает меньше растительных остатков, и значительная их часть в течение длительного теплого периода разлагается на про­стейшие минеральные соединения. Гумуса в почвах накапливается меньше. Здесь формируются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каштановы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бурые почвы полупустын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серо-буры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1584000" cy="50403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7451640" y="1628640"/>
            <a:ext cx="151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92"/>
                </a:solidFill>
                <a:latin typeface="Times New Roman"/>
              </a:rPr>
              <a:t>Азональные типы поч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словиях скудного увлажнения вместе с почвенным раствором минеральные соединения подтягиваются к поверхности и при испарении влаги выпадают в осадок. Чем южнее, тем суше и тем интенсивнее идет этот процесс. Почвы обогащаются карбонатами, гипсом и легко растворимыми солями. Идет засоление поч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зных природных зонах на более или менее значительных участках почвы формируются при близком залегании грунтовых вод. Это чаще характерно для понижений рельефа. В областях скудного и недостаточного увлажнения, где грунтовые воды довольно сильно минерализованы, возникают </a:t>
            </a:r>
            <a:r>
              <a:rPr b="0" i="1" lang="ru-RU" sz="2400" spc="-1" strike="noStrike">
                <a:solidFill>
                  <a:srgbClr val="cc3300"/>
                </a:solidFill>
                <a:latin typeface="Times New Roman"/>
              </a:rPr>
              <a:t>солончак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близком залегании пресных грунтовых вод образуются </a:t>
            </a:r>
            <a:r>
              <a:rPr b="0" i="1" lang="ru-RU" sz="2400" spc="-1" strike="noStrike">
                <a:solidFill>
                  <a:srgbClr val="cc3300"/>
                </a:solidFill>
                <a:latin typeface="Times New Roman"/>
              </a:rPr>
              <a:t>торфяно-болотны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указанные здесь типы почв не приурочены к какой-то одной природной зоне, а могут встречаться в разных их называют </a:t>
            </a:r>
            <a:r>
              <a:rPr b="0" i="1" lang="ru-RU" sz="2400" spc="-1" strike="noStrike">
                <a:solidFill>
                  <a:srgbClr val="cc3300"/>
                </a:solidFill>
                <a:latin typeface="Times New Roman"/>
              </a:rPr>
              <a:t>азональны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то такое почв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71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Поч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особенное природное тело. Оно образуется на поверхности Земли в результате взаимодействия живой (органической) и неживой (неорганической) прир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932360" y="256536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0920" y="2565360"/>
            <a:ext cx="460836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о обусловлено наличием в почвах органического вещества – 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гуму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перегно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агодаря плодородию почвы являются величайшим природным богатством, пользоваться которым нужно разум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989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ейшим свойством почвы является 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плодород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80536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ы образуются очень медленно. За 100 лет мощность почвы увеличивается всего на 0,5-2 с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Земельные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емельные ресур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территория страны, на которой размещаются города, предприятия, дороги, пастбища, пол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116000" y="3500280"/>
            <a:ext cx="69343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емельный фонд России составляет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258920" y="5229360"/>
            <a:ext cx="655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709,6 млн. гектаров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3920" y="333360"/>
            <a:ext cx="8920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се земельные ресурсы страны составляют е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Times New Roman"/>
              </a:rPr>
              <a:t>земельный фонд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50920" y="260280"/>
            <a:ext cx="864216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spcBef>
                <a:spcPts val="1749"/>
              </a:spcBef>
              <a:tabLst>
                <a:tab algn="l" pos="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 состав земельного фонда входя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льхозугодь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13 % (222 млн. га, из них 132 млн. га – пашни, 23,5 млн. га – сенокосы, 64,5 млн. га- пастбищ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с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45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о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6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рхностные в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4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еньи пастбищ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19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ода, поселки, дор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0,2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ные отвалы, свал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0,9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чие земл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11,9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Почвенный фонд Российской Федерац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мы вычтем из земельного фонда страны территории, лишенные почвенного покрова то получится около 1 623,8 млн га (16 238 000 км2). Это и есть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очвенный фонд Российской Федер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уда входят сельскохозяйственные угодья, леса, болота и оленьи пастбищ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чвенные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чвенные ресур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часть земельных ресурсов, используемая в сельском хозяйстве и лесном хозяйст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332000" y="692280"/>
            <a:ext cx="676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розия почв -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цесс их разрушени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16360" y="3429000"/>
            <a:ext cx="3527280" cy="647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 р о з и 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87280" y="5157720"/>
            <a:ext cx="3024360" cy="647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д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19640" y="5157720"/>
            <a:ext cx="3097440" cy="647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тров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411280" y="4076640"/>
            <a:ext cx="18734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076640"/>
            <a:ext cx="17287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4360" y="40464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защиты почвы создаются полезащитные лесные полосы, закрепляют овраги. Но особенно важны специальная обработка почв (агротехника) и почвозащитные севообороты. Охрана почв включает в себя и борьбу с разрушением почв, с засолением и заболачиванием, а такж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культивац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еме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00000" y="3170160"/>
            <a:ext cx="7488360" cy="26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культивация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сстановление земель, нарушенных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озяйственной деятельностью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24000" y="119700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жная роль в повышении плодородия почв принадлежит мелиор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Мелиор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емель - это совокупность мер по улучшению почв. Мелиорация предусматривает орошение засушливых земель, орошение переувлажнённых земель, борьбу с эрозией почв, улучшение кормовых угодий, обводнение пастбищ в засушливых район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79280" y="333360"/>
            <a:ext cx="61200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25680" indent="-2425680">
              <a:tabLst>
                <a:tab algn="l" pos="0"/>
                <a:tab algn="l" pos="80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берите пар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25680" indent="-2425680">
              <a:buClr>
                <a:srgbClr val="000000"/>
              </a:buClr>
              <a:buFont typeface="Times New Roman"/>
              <a:buAutoNum type="arabicPeriod"/>
              <a:tabLst>
                <a:tab algn="l" pos="80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хний, рыхлый и плодородный слой земной ко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25680" indent="-2425680">
              <a:buClr>
                <a:srgbClr val="000000"/>
              </a:buClr>
              <a:buFont typeface="Times New Roman"/>
              <a:buAutoNum type="arabicPeriod"/>
              <a:tabLst>
                <a:tab algn="l" pos="80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ческое вещество, придающее почве плодород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25680" indent="-2425680">
              <a:buClr>
                <a:srgbClr val="000000"/>
              </a:buClr>
              <a:buFont typeface="Times New Roman"/>
              <a:buAutoNum type="arabicPeriod"/>
              <a:tabLst>
                <a:tab algn="l" pos="80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чвы, в механической части которых песчаные частицы преобладают над глинисты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25680" indent="-2425680">
              <a:buClr>
                <a:srgbClr val="000000"/>
              </a:buClr>
              <a:buFont typeface="Times New Roman"/>
              <a:buAutoNum type="arabicPeriod"/>
              <a:tabLst>
                <a:tab algn="l" pos="80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ность почвенных частиц соединяться в устойчивые комо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25680" indent="-2425680">
              <a:buClr>
                <a:srgbClr val="000000"/>
              </a:buClr>
              <a:buFont typeface="Times New Roman"/>
              <a:buAutoNum type="arabicPeriod"/>
              <a:tabLst>
                <a:tab algn="l" pos="80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асть почвы, используемая в сельском и лесном хозяйств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25680" indent="-2425680">
              <a:buClr>
                <a:srgbClr val="000000"/>
              </a:buClr>
              <a:buFont typeface="Times New Roman"/>
              <a:buAutoNum type="arabicPeriod"/>
              <a:tabLst>
                <a:tab algn="l" pos="80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сс разрушения поч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25680" indent="-2425680">
              <a:buClr>
                <a:srgbClr val="000000"/>
              </a:buClr>
              <a:buFont typeface="Times New Roman"/>
              <a:buAutoNum type="arabicPeriod"/>
              <a:tabLst>
                <a:tab algn="l" pos="80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окупность мер по улучшению почв с целью повышения их плодород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25680" indent="-2425680">
              <a:buClr>
                <a:srgbClr val="000000"/>
              </a:buClr>
              <a:buFont typeface="Times New Roman"/>
              <a:buAutoNum type="arabicPeriod"/>
              <a:tabLst>
                <a:tab algn="l" pos="80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ециальная обработка поч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27640" y="765000"/>
            <a:ext cx="273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структура поч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мелиор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перег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) эроз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) агротехн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) поч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) супесчан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) почвенные ресур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360" y="620640"/>
          <a:ext cx="2303640" cy="577800"/>
        </p:xfrm>
        <a:graphic>
          <a:graphicData uri="http://schemas.openxmlformats.org/drawingml/2006/table">
            <a:tbl>
              <a:tblPr/>
              <a:tblGrid>
                <a:gridCol w="2303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оч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24000" y="1484280"/>
          <a:ext cx="1584000" cy="893880"/>
        </p:xfrm>
        <a:graphic>
          <a:graphicData uri="http://schemas.openxmlformats.org/drawingml/2006/table">
            <a:tbl>
              <a:tblPr/>
              <a:tblGrid>
                <a:gridCol w="15840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ерд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340000" y="1484280"/>
          <a:ext cx="1511280" cy="8938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д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211640" y="1484280"/>
          <a:ext cx="2088720" cy="865080"/>
        </p:xfrm>
        <a:graphic>
          <a:graphicData uri="http://schemas.openxmlformats.org/drawingml/2006/table">
            <a:tbl>
              <a:tblPr/>
              <a:tblGrid>
                <a:gridCol w="208872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зообразная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6659640" y="1484280"/>
          <a:ext cx="2016000" cy="86508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венные организ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11280" y="2852640"/>
          <a:ext cx="1728720" cy="700200"/>
        </p:xfrm>
        <a:graphic>
          <a:graphicData uri="http://schemas.openxmlformats.org/drawingml/2006/table">
            <a:tbl>
              <a:tblPr/>
              <a:tblGrid>
                <a:gridCol w="1728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инеральны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24000" y="3789360"/>
          <a:ext cx="1726920" cy="719280"/>
        </p:xfrm>
        <a:graphic>
          <a:graphicData uri="http://schemas.openxmlformats.org/drawingml/2006/table">
            <a:tbl>
              <a:tblPr/>
              <a:tblGrid>
                <a:gridCol w="172692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Гумусовы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556000" y="2852640"/>
          <a:ext cx="1944720" cy="130968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а с растворёнными в ней веществ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716360" y="2852640"/>
          <a:ext cx="1584360" cy="7002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венный возду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6877080" y="2852640"/>
          <a:ext cx="2158920" cy="432000"/>
        </p:xfrm>
        <a:graphic>
          <a:graphicData uri="http://schemas.openxmlformats.org/drawingml/2006/table">
            <a:tbl>
              <a:tblPr/>
              <a:tblGrid>
                <a:gridCol w="215892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кроорганиз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732720" y="3500280"/>
          <a:ext cx="1942920" cy="700200"/>
        </p:xfrm>
        <a:graphic>
          <a:graphicData uri="http://schemas.openxmlformats.org/drawingml/2006/table">
            <a:tbl>
              <a:tblPr/>
              <a:tblGrid>
                <a:gridCol w="194292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6516720" y="4365720"/>
          <a:ext cx="2087640" cy="57600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и раст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4643280" y="119700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32360" y="1197000"/>
            <a:ext cx="2664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132000" y="1197000"/>
            <a:ext cx="1152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331640" y="1197000"/>
            <a:ext cx="266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3640" y="2421000"/>
            <a:ext cx="7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234936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68360" y="2421000"/>
            <a:ext cx="712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588000" y="2349360"/>
            <a:ext cx="14472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04000" y="2349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96360" y="2349360"/>
            <a:ext cx="7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124000" y="0"/>
            <a:ext cx="518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остав поч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39640" y="476280"/>
            <a:ext cx="777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метьте правильный отв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 общей площади земельного фонда на долю сельхозугодий приходи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4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13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  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 2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Процесс разрушения почвы под действием ветра и воды называе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мелиораци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эрози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рекультиваци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агротехни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11280" y="765000"/>
            <a:ext cx="70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907920"/>
            <a:ext cx="806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К мелиоративным мероприятиям в Нечерноземье относя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известк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оро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осу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лесозащитные поло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Плодородие почвы определяется в первую очередь содержанием в не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возд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гум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в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живых организм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4000" y="907920"/>
            <a:ext cx="813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Органические вещества попадают в почву благодар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микроорганизм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живот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воздуху атмосфе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текучим вод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Слой почвы, особенно богатый перегноем, называе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горизонтом вымы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материнской пород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горизонтом вмы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гумусовым горизон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95280" y="112536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По механическому составу лучшей почвой считае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суглинист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глинист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супесча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песча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Самой плодородной почвой считае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чернозем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каштанов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серая лес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подзолист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95280" y="333360"/>
            <a:ext cx="8064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ите, о каких почвах идет реч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1.Образуется в условиях долгого и избыточного переувлажнения и нехватки кисло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каштановые     б) серые лесные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тундрово-глеевые   д) подзолист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2.Отличаются небольшим количеством растительных остатков, сильным промыванием, бедностью гум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черноземы   б) подзолист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дерново-подзолистые   г) тундрово-глее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3.Почвы с зернистой структурой, мощным слоем перегноя, высоким плодород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бурые    б) серые    в) каштановые    г) чернозем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§24 читать, пересказыва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готовить сообщения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родный заказник регионального значения ландшафтного профиля "Чулпан"в Башкир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укотворная каменистая степь на юго-востоке Воронежской обла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835280" y="1052640"/>
            <a:ext cx="475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веты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59280" y="1989000"/>
            <a:ext cx="28810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- 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 - в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 - ж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4 - 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 - з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 - г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7 - б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8 - 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835280" y="1052640"/>
            <a:ext cx="475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веты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59280" y="1989000"/>
            <a:ext cx="28810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- б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 - б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 - в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4 - б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 - 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 - г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7 - в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8 - 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2411280" y="1123920"/>
            <a:ext cx="475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веты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635280" y="2060640"/>
            <a:ext cx="288144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- г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 - б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 - г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80892"/>
                </a:solidFill>
                <a:latin typeface="Times New Roman"/>
              </a:rPr>
              <a:t>Почвообразующие фактор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48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179280" y="907920"/>
          <a:ext cx="2088720" cy="1080360"/>
        </p:xfrm>
        <a:graphic>
          <a:graphicData uri="http://schemas.openxmlformats.org/drawingml/2006/table">
            <a:tbl>
              <a:tblPr/>
              <a:tblGrid>
                <a:gridCol w="2088720"/>
              </a:tblGrid>
              <a:tr h="108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Клим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348000" y="4221000"/>
          <a:ext cx="2231640" cy="1152360"/>
        </p:xfrm>
        <a:graphic>
          <a:graphicData uri="http://schemas.openxmlformats.org/drawingml/2006/table">
            <a:tbl>
              <a:tblPr/>
              <a:tblGrid>
                <a:gridCol w="223164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Горные пор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324000" y="5516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помните какую роль играет в образовании почв каждый из указанных факто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79280" y="2205000"/>
          <a:ext cx="1650960" cy="1440000"/>
        </p:xfrm>
        <a:graphic>
          <a:graphicData uri="http://schemas.openxmlformats.org/drawingml/2006/table">
            <a:tbl>
              <a:tblPr/>
              <a:tblGrid>
                <a:gridCol w="165096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588000" y="836640"/>
          <a:ext cx="1944720" cy="107964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Животный ми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6588000" y="4149720"/>
          <a:ext cx="1944360" cy="1150200"/>
        </p:xfrm>
        <a:graphic>
          <a:graphicData uri="http://schemas.openxmlformats.org/drawingml/2006/table">
            <a:tbl>
              <a:tblPr/>
              <a:tblGrid>
                <a:gridCol w="1944360"/>
              </a:tblGrid>
              <a:tr h="11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Релье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50920" y="4221000"/>
          <a:ext cx="2016000" cy="115272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Грунтовые 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588000" y="2492280"/>
          <a:ext cx="2087640" cy="122364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Деятельность челов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419640" y="765000"/>
          <a:ext cx="2376000" cy="1079640"/>
        </p:xfrm>
        <a:graphic>
          <a:graphicData uri="http://schemas.openxmlformats.org/drawingml/2006/table">
            <a:tbl>
              <a:tblPr/>
              <a:tblGrid>
                <a:gridCol w="237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Раст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395280" y="55166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вляются источником образования минеральной части почвы, влияющим на её механический соста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920" y="5484960"/>
            <a:ext cx="86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ствует накоплению органических веществ, улучшает физические свойства, тепловой и водный режим поч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5516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печивает образование перегноя – вещества, придающего почве плодород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551664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яет распределение климатических почвообразующих элемент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5516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ияет на  тип и качество почвы, воздействуя на растения, животных, микроорганизмы, влаг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54450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но улучшает или ухудшает качество поч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551664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яет мощность почвенного сло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558972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яет водный режим и структуру поч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908000" y="189000"/>
            <a:ext cx="5472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ение почвы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7620120" cy="4479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79280" y="620640"/>
            <a:ext cx="896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На примере черноземной и подзолистой почв рассмотрим строение почвенного профил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 Unicode MS"/>
              </a:rPr>
              <a:t>Профиль почти каждого вида почвы состоит из следующих горизонтов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365800" y="2924280"/>
            <a:ext cx="1224000" cy="6415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 Unicode MS"/>
              </a:rPr>
              <a:t>гумусовый горизонт (А </a:t>
            </a:r>
            <a:r>
              <a:rPr b="1" lang="ru-RU" sz="800" spc="-1" strike="noStrike">
                <a:solidFill>
                  <a:srgbClr val="ffcc00"/>
                </a:solidFill>
                <a:latin typeface="Arial Unicode MS"/>
              </a:rPr>
              <a:t>1</a:t>
            </a:r>
            <a:r>
              <a:rPr b="1" lang="ru-RU" sz="1200" spc="-1" strike="noStrike">
                <a:solidFill>
                  <a:srgbClr val="ffcc00"/>
                </a:solidFill>
                <a:latin typeface="Arial Unicode M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20765400">
            <a:off x="2130480" y="2922480"/>
            <a:ext cx="2087640" cy="144720"/>
          </a:xfrm>
          <a:prstGeom prst="leftArrow">
            <a:avLst>
              <a:gd name="adj1" fmla="val 50000"/>
              <a:gd name="adj2" fmla="val 3606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 rot="786000">
            <a:off x="4144320" y="2865600"/>
            <a:ext cx="1295280" cy="7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16720" y="2997360"/>
            <a:ext cx="719280" cy="144360"/>
          </a:xfrm>
          <a:prstGeom prst="rightArrow">
            <a:avLst>
              <a:gd name="adj1" fmla="val 50000"/>
              <a:gd name="adj2" fmla="val 1245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365800" y="3429000"/>
            <a:ext cx="1224000" cy="19191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Unicode MS"/>
              </a:rPr>
              <a:t>переходн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Unicode MS"/>
              </a:rPr>
              <a:t>часть почвенного профил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Arial Unicode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364000" y="5373720"/>
            <a:ext cx="1224000" cy="10065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Arial Unicode MS"/>
              </a:rPr>
              <a:t>почвообразующая горная пор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Arial Unicode MS"/>
              </a:rPr>
              <a:t>(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364000" y="4221000"/>
            <a:ext cx="1224000" cy="6415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 Unicode MS"/>
              </a:rPr>
              <a:t>горизонт вымы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 Unicode MS"/>
              </a:rPr>
              <a:t>(А </a:t>
            </a:r>
            <a:r>
              <a:rPr b="1" lang="ru-RU" sz="800" spc="-1" strike="noStrike">
                <a:solidFill>
                  <a:srgbClr val="ffcc00"/>
                </a:solidFill>
                <a:latin typeface="Arial Unicode MS"/>
              </a:rPr>
              <a:t>2</a:t>
            </a:r>
            <a:r>
              <a:rPr b="1" lang="ru-RU" sz="1200" spc="-1" strike="noStrike">
                <a:solidFill>
                  <a:srgbClr val="ffcc00"/>
                </a:solidFill>
                <a:latin typeface="Arial Unicode M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364000" y="4869000"/>
            <a:ext cx="1224000" cy="6415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ff33"/>
                </a:solidFill>
                <a:latin typeface="Arial Unicode MS"/>
              </a:rPr>
              <a:t>горизонт вмывания (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21227400">
            <a:off x="2515680" y="4723920"/>
            <a:ext cx="2949840" cy="144720"/>
          </a:xfrm>
          <a:prstGeom prst="leftArrow">
            <a:avLst>
              <a:gd name="adj1" fmla="val 50000"/>
              <a:gd name="adj2" fmla="val 5095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20943600">
            <a:off x="2425680" y="5372280"/>
            <a:ext cx="3024360" cy="139680"/>
          </a:xfrm>
          <a:prstGeom prst="leftArrow">
            <a:avLst>
              <a:gd name="adj1" fmla="val 50000"/>
              <a:gd name="adj2" fmla="val 5413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9560600">
            <a:off x="6454440" y="4044600"/>
            <a:ext cx="936720" cy="144360"/>
          </a:xfrm>
          <a:prstGeom prst="rightArrow">
            <a:avLst>
              <a:gd name="adj1" fmla="val 50000"/>
              <a:gd name="adj2" fmla="val 1622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16720" y="5013360"/>
            <a:ext cx="576360" cy="144360"/>
          </a:xfrm>
          <a:prstGeom prst="rightArrow">
            <a:avLst>
              <a:gd name="adj1" fmla="val 50000"/>
              <a:gd name="adj2" fmla="val 998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21234000">
            <a:off x="2484360" y="6093000"/>
            <a:ext cx="2951280" cy="144360"/>
          </a:xfrm>
          <a:prstGeom prst="leftArrow">
            <a:avLst>
              <a:gd name="adj1" fmla="val 50000"/>
              <a:gd name="adj2" fmla="val 511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16720" y="6021360"/>
            <a:ext cx="503280" cy="144360"/>
          </a:xfrm>
          <a:prstGeom prst="rightArrow">
            <a:avLst>
              <a:gd name="adj1" fmla="val 50000"/>
              <a:gd name="adj2" fmla="val 87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479736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04000" y="314172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616572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537372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04000" y="436572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04000" y="5516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58920" y="3068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04000" y="299736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45200">
            <a:off x="6300360" y="4005360"/>
            <a:ext cx="1079640" cy="792000"/>
          </a:xfrm>
          <a:prstGeom prst="rightArrow">
            <a:avLst>
              <a:gd name="adj1" fmla="val 50000"/>
              <a:gd name="adj2" fmla="val 3408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20448600">
            <a:off x="2403360" y="4412880"/>
            <a:ext cx="3230640" cy="819000"/>
          </a:xfrm>
          <a:prstGeom prst="leftArrow">
            <a:avLst>
              <a:gd name="adj1" fmla="val 50000"/>
              <a:gd name="adj2" fmla="val 986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0920" y="692280"/>
            <a:ext cx="88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рхний горизонт (А 1), называемый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гумусовы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обычно густо пронизан корнями растений. В нем много микроорганизмов, червей, личинок и насекомых. Именно здесь происходит накопление органического вещества. Гумусовый горизонт самый тёмный из всех, однако его цвет зависит от количества накопившегося тут гуму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некоторых почвах, в условиях большого количества осадков, к низу от гумусового слоя образуется горизонт вымывания (А 2). Как правило это самый светлый горизонт, так как из него вынесена часть органических и минеральных соединений. Иногда вымываются все вещества, что придает данному горизонту цвет золы и соответствующее название - </a:t>
            </a:r>
            <a:r>
              <a:rPr b="1" i="1" lang="ru-RU" sz="1800" spc="-1" strike="noStrike">
                <a:solidFill>
                  <a:srgbClr val="cc3300"/>
                </a:solidFill>
                <a:latin typeface="Times New Roman"/>
              </a:rPr>
              <a:t>подзолисты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же лежит горизонт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вмыв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В). В него попадает то. Что теряет верхняя часть почвы. Здесь мало корней, но много мелких минеральных частиц, поэтому он более плотный и через него труднее всего просачивается вода. Этот горизонт играет роль своеобразного фильт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щё ниже лежит слабо изменённая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материнская пород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С), которая и служит основой для образования твердой части почвы. Именно от состава материнской породы во многом зависят такие свойства почвы как механический состав и структура почв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95280" y="476280"/>
            <a:ext cx="82803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еханический соста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ы различаются не только по строению профиля, но и по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механическому состав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.е. по соотношению различных по размеру частиц песка и глины. По этому признаку почвы подразделяются на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глинистые, суглинистые, супесчаные и песча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Почвы, в которых много обломков горных пород (щебня) называют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скелетны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ческий состав оказывает влияние на содержание в почве влаги и почвенного воздуха. Песчаные почвы не задерживают воду и быстро высыхают. Растения испытывают недостаток влаги и элементов пит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глинистые и глинистые почвы хорошо удерживают влагу, но в глинистых часто задерживается слишком много воды, и она вытесняет почвенный воздух. Это тоже неблагоприятно для раст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539640" y="1397160"/>
          <a:ext cx="8209080" cy="4957560"/>
        </p:xfrm>
        <a:graphic>
          <a:graphicData uri="http://schemas.openxmlformats.org/drawingml/2006/table">
            <a:tbl>
              <a:tblPr/>
              <a:tblGrid>
                <a:gridCol w="4017960"/>
                <a:gridCol w="4191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по механическому соста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глины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сок рыхл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0 до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сок связ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5 до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пе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10 до 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глинок лег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20 до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глинок сред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30 до 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глинок тяжел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40 до 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50 и бол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 txBox="1"/>
          <p:nvPr/>
        </p:nvSpPr>
        <p:spPr>
          <a:xfrm>
            <a:off x="395280" y="333360"/>
            <a:ext cx="828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ассификация почв по механическому состав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95280" y="260280"/>
            <a:ext cx="835344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Структура почв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умус и глинистые частицы склеивают почву в мелкие комочки, прочность которых увеличивается, если в почве есть кальций. Такая способность почвенных частиц соединяться в относительно устойчивые комочки называется </a:t>
            </a:r>
            <a:r>
              <a:rPr b="1" i="1" lang="ru-RU" sz="2200" spc="-1" strike="noStrike">
                <a:solidFill>
                  <a:srgbClr val="cc3300"/>
                </a:solidFill>
                <a:latin typeface="Times New Roman"/>
              </a:rPr>
              <a:t>структуро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чвы. Форма, величина и прочность этих комочков неодинаковы в разных типах почв и в разных горизонтах одной почвы. Структура определяет особенности водного и воздушного режимов почв, поэтому является одним из признаков их плодород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учшей является зернистая или мелкокомковатая структура с комочками диаметром 1-10 мм. При такой структуре в почве образуется много пустот, или пор. Корни растений и бактерии хорошо снабжаются воздухом и влагой. Такой структурой обладают богатые гумусом и кальцием чернозёмы и близкие к ним типы поч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ли в почве содержится мало гумуса и глинистых частиц, то такие почвы обычно бывают бесструктурными (песчаные и часто супесчаны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0-12-07T13:03:37Z</dcterms:modified>
  <cp:revision>86</cp:revision>
  <dc:subject/>
  <dc:title>PowerPoint Presentation</dc:title>
</cp:coreProperties>
</file>