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19.jpeg" ContentType="image/jpeg"/>
  <Override PartName="/ppt/media/image17.jpeg" ContentType="image/jpeg"/>
  <Override PartName="/ppt/media/image15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B0A-3F9C-4155-95B0-3625B5D9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A9D-7397-4B16-B22C-DCB49E83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8E4-DDD9-4607-ABA3-E62EA05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8FC-FCF7-4840-9335-38C3C094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F58-A6D0-49C3-804D-F9E6C7AC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529-9B9D-4452-B92B-6C30F41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3CE-66FA-425A-94AC-67C5C2A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D3E-0075-4904-A15E-D8F424E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CB3-876E-4B03-BA2F-3081E86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7C1-D771-4118-9650-209E5A10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76D-75A4-4306-B5ED-C0DDA54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069-EBDD-4844-8DA2-BA450E5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ABAE-1FC6-4489-9242-401A6C9C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530" t="0" r="4845" b="1758"/>
          <a:stretch/>
        </p:blipFill>
        <p:spPr>
          <a:xfrm>
            <a:off x="1752480" y="1676520"/>
            <a:ext cx="1828800" cy="426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1981080" cy="469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7924680" cy="493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34600">
            <a:off x="762120" y="304560"/>
            <a:ext cx="7391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9920" y="311040"/>
            <a:ext cx="670572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ая работ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7400" t="0" r="3598" b="4788"/>
          <a:stretch/>
        </p:blipFill>
        <p:spPr>
          <a:xfrm>
            <a:off x="4114800" y="1981080"/>
            <a:ext cx="4464000" cy="4678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11110" t="1612" r="8332" b="3224"/>
          <a:stretch/>
        </p:blipFill>
        <p:spPr>
          <a:xfrm>
            <a:off x="1219320" y="2209680"/>
            <a:ext cx="2209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95280" y="3141720"/>
            <a:ext cx="8064360" cy="0"/>
          </a:xfrm>
          <a:prstGeom prst="line">
            <a:avLst/>
          </a:prstGeom>
          <a:ln w="10152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250920" y="2781360"/>
            <a:ext cx="720720" cy="718920"/>
          </a:xfrm>
          <a:prstGeom prst="ellipse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196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199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20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205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208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211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214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217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395280" y="476280"/>
            <a:ext cx="8353440" cy="5977080"/>
          </a:xfrm>
          <a:prstGeom prst="line">
            <a:avLst/>
          </a:prstGeom>
          <a:ln w="1015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 rot="18952200">
            <a:off x="250560" y="259920"/>
            <a:ext cx="649080" cy="647640"/>
          </a:xfrm>
          <a:prstGeom prst="pentagon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38778E-017 L 0.87413 0.84948 E">
                                      <p:cBhvr>
                                        <p:cTn id="22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23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23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23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239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24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245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031 0.84439 E">
                                      <p:cBhvr>
                                        <p:cTn id="2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 flipH="1">
            <a:off x="395280" y="404640"/>
            <a:ext cx="8353440" cy="6048720"/>
          </a:xfrm>
          <a:prstGeom prst="line">
            <a:avLst/>
          </a:prstGeom>
          <a:ln w="1015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3358800">
            <a:off x="8154000" y="207000"/>
            <a:ext cx="755640" cy="71928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75 0.86798 L -2.22222E-006 -4.16185E-006 E">
                                      <p:cBhvr>
                                        <p:cTn id="25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26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26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26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2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27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27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5988 L 2.77778E-007 1.38778E-017 E">
                                      <p:cBhvr>
                                        <p:cTn id="27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1403280" y="765000"/>
            <a:ext cx="6553440" cy="5616720"/>
          </a:xfrm>
          <a:prstGeom prst="ellipse">
            <a:avLst/>
          </a:prstGeom>
          <a:noFill/>
          <a:ln w="1015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211640" y="333360"/>
            <a:ext cx="934920" cy="8636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91329E-006 C 0.19532 4.91329E-006 0.35452 0.18104 0.35452 0.40369 C 0.35452 0.62612 0.19532 0.80739 -2.5E-006 0.80739 C -0.19566 0.80739 -0.35434 0.62612 -0.35434 0.40369 C -0.35434 0.18104 -0.19566 4.91329E-006 -2.5E-006 4.91329E-006 Z">
                                      <p:cBhvr>
                                        <p:cTn id="289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"/>
          <p:cNvSpPr/>
          <p:nvPr/>
        </p:nvSpPr>
        <p:spPr>
          <a:xfrm>
            <a:off x="1187280" y="476280"/>
            <a:ext cx="6840720" cy="5977080"/>
          </a:xfrm>
          <a:prstGeom prst="ellipse">
            <a:avLst/>
          </a:prstGeom>
          <a:noFill/>
          <a:ln w="1015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067280" y="260280"/>
            <a:ext cx="1009440" cy="50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"/>
                            </p:stCondLst>
                            <p:childTnLst>
                              <p:par>
                                <p:cTn id="300" nodeType="afterEffect" fill="hold" presetClass="path" presetID="1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2.08092E-006 C 0.20642 -2.08092E-006 0.37431 0.19122 0.37431 0.42729 C 0.37431 0.66243 0.20642 0.8548 0 0.8548 C -0.20625 0.8548 -0.37378 0.66243 -0.37378 0.42729 C -0.37378 0.19122 -0.20625 -2.08092E-006 0 -2.08092E-006 Z">
                                      <p:cBhvr>
                                        <p:cTn id="301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Выбери баш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581280"/>
            <a:ext cx="2133720" cy="2424240"/>
          </a:xfrm>
          <a:prstGeom prst="upArrow">
            <a:avLst>
              <a:gd name="adj1" fmla="val 55611"/>
              <a:gd name="adj2" fmla="val 29035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81280"/>
            <a:ext cx="2133360" cy="2424240"/>
          </a:xfrm>
          <a:prstGeom prst="upArrow">
            <a:avLst>
              <a:gd name="adj1" fmla="val 55611"/>
              <a:gd name="adj2" fmla="val 29040"/>
            </a:avLst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1143000"/>
            <a:ext cx="3124080" cy="4862520"/>
          </a:xfrm>
          <a:prstGeom prst="upArrow">
            <a:avLst>
              <a:gd name="adj1" fmla="val 55611"/>
              <a:gd name="adj2" fmla="val 39776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438280"/>
            <a:ext cx="2514600" cy="3567240"/>
          </a:xfrm>
          <a:prstGeom prst="upArrow">
            <a:avLst>
              <a:gd name="adj1" fmla="val 55611"/>
              <a:gd name="adj2" fmla="val 36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23520" y="373356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429000" y="373356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5029200" y="266688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6552720" y="159984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500" y="2045"/>
                  <a:pt x="11400" y="5080"/>
                  <a:pt x="11400" y="10800"/>
                </a:cubicBezTo>
                <a:cubicBezTo>
                  <a:pt x="11400" y="16520"/>
                  <a:pt x="16500" y="195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4956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342900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44956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35812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251460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7242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648320"/>
            <a:ext cx="609480" cy="7617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39640" y="1125000"/>
            <a:ext cx="4952880" cy="5486760"/>
            <a:chOff x="539640" y="1125000"/>
            <a:chExt cx="4952880" cy="5486760"/>
          </a:xfrm>
        </p:grpSpPr>
        <p:sp>
          <p:nvSpPr>
            <p:cNvPr id="151" name=""/>
            <p:cNvSpPr/>
            <p:nvPr/>
          </p:nvSpPr>
          <p:spPr>
            <a:xfrm>
              <a:off x="539640" y="1353960"/>
              <a:ext cx="4876560" cy="5029200"/>
            </a:xfrm>
            <a:prstGeom prst="upArrow">
              <a:avLst>
                <a:gd name="adj1" fmla="val 88083"/>
                <a:gd name="adj2" fmla="val 25816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640" y="2649240"/>
              <a:ext cx="4952880" cy="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977920" y="2649240"/>
              <a:ext cx="0" cy="373392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4200" y="3868560"/>
              <a:ext cx="4267440" cy="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200" y="5087880"/>
              <a:ext cx="4267440" cy="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749320" y="1582560"/>
              <a:ext cx="60948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"/>
                </a:rPr>
                <a:t>4</a:t>
              </a:r>
              <a:endPara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111640" y="2649240"/>
              <a:ext cx="0" cy="373392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4240" y="1353960"/>
              <a:ext cx="2438280" cy="129528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39640" y="1353960"/>
              <a:ext cx="2514600" cy="129528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663720" y="2725560"/>
              <a:ext cx="76212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"/>
                </a:rPr>
                <a:t>3</a:t>
              </a:r>
              <a:endPara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606320" y="4020840"/>
              <a:ext cx="83808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"/>
                </a:rPr>
                <a:t>2</a:t>
              </a:r>
              <a:endPara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054240" y="1125000"/>
              <a:ext cx="152280" cy="228600"/>
            </a:xfrm>
            <a:prstGeom prst="line">
              <a:avLst/>
            </a:prstGeom>
            <a:ln w="28440">
              <a:solidFill>
                <a:srgbClr val="fcf9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663720" y="5240160"/>
              <a:ext cx="6858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"/>
                </a:rPr>
                <a:t>1</a:t>
              </a:r>
              <a:endPara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1920" y="6535440"/>
              <a:ext cx="4267080" cy="76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959000" y="6230880"/>
              <a:ext cx="381240" cy="38088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43400" y="4572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став числа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1640" y="1447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Игра «Назови сосе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971800"/>
            <a:ext cx="3124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ом №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назовём жителей этого д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2166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752480" y="2743200"/>
            <a:ext cx="381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657600" y="4038480"/>
            <a:ext cx="838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00200" y="5257800"/>
            <a:ext cx="838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864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Молодцы ! Спасибо за урок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1390680"/>
            <a:ext cx="59058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116000" y="2060640"/>
            <a:ext cx="7729560" cy="4392720"/>
            <a:chOff x="1116000" y="2060640"/>
            <a:chExt cx="7729560" cy="4392720"/>
          </a:xfrm>
        </p:grpSpPr>
        <p:sp>
          <p:nvSpPr>
            <p:cNvPr id="48" name=""/>
            <p:cNvSpPr/>
            <p:nvPr/>
          </p:nvSpPr>
          <p:spPr>
            <a:xfrm>
              <a:off x="7596360" y="3213000"/>
              <a:ext cx="1041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67640" y="4508640"/>
              <a:ext cx="11145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1440" y="2060640"/>
              <a:ext cx="1114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1600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4528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2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28000" y="551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360" y="393372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0072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3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8040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8920" y="2060640"/>
              <a:ext cx="111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3072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3356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43200" y="2708280"/>
              <a:ext cx="89244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108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9272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24720" y="4724280"/>
              <a:ext cx="863640" cy="792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451640" y="3141720"/>
              <a:ext cx="874800" cy="792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62840" y="2708280"/>
              <a:ext cx="8175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5320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364000" y="6021360"/>
              <a:ext cx="9669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093080" y="59500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2000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 теперь поиграем!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перёд  за волшебным клубоч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56720" y="2349360"/>
            <a:ext cx="86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8360" y="393372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5516640"/>
            <a:ext cx="9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566100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6827" t="5299" r="9095" b="4682"/>
          <a:stretch/>
        </p:blipFill>
        <p:spPr>
          <a:xfrm>
            <a:off x="914400" y="35053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Три дороги пройдёшь,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путь к Кощею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572000" cy="3186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Kozuka Mincho Pro B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2,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3, 4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6, 7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9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 4,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6, 8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, 8,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6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800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943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380520"/>
            <a:ext cx="2971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359320" cy="586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13716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ять ворон на крышу с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ещё к ним приле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чайте быстро,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всех их приле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-1405080" y="486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979640" y="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435640" y="19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356000" y="1413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203640" y="112536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-1116000" y="3645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3640" y="5661000"/>
            <a:ext cx="5400720" cy="86364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589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558972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5589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5661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(в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5661000"/>
            <a:ext cx="5472360" cy="93672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566100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Ответ: 7 вор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087 -0.00139 0.00556 -0.00672 0.00608 -0.00834 C 0.00694 -0.00996 0.00677 -0.01274 0.00764 -0.01436 C 0.01042 -0.01945 0.01476 -0.02362 0.01823 -0.02824 C 0.02465 -0.03681 0.03056 -0.04885 0.03924 -0.05278 C 0.04844 -0.06436 0.05903 -0.07385 0.06962 -0.08287 C 0.07396 -0.08658 0.07674 -0.09098 0.0816 -0.09283 C 0.08646 -0.09954 0.0934 -0.1044 0.09983 -0.10718 C 0.10504 -0.11412 0.11163 -0.11737 0.11806 -0.1213 C 0.12101 -0.12315 0.12274 -0.12778 0.1257 -0.1294 C 0.12951 -0.13125 0.13767 -0.13357 0.13767 -0.13357 C 0.15712 -0.13241 0.16493 -0.1338 0.18021 -0.12755 C 0.18212 -0.12454 0.18611 -0.12292 0.18629 -0.11945 C 0.1875 -0.09815 0.18524 -0.09283 0.17413 -0.08287 C 0.16806 -0.0838 0.16181 -0.08287 0.1559 -0.08473 C 0.15087 -0.08658 0.14722 -0.09283 0.14236 -0.09491 C 0.13906 -0.09954 0.13455 -0.10232 0.1316 -0.10718 C 0.12639 -0.11598 0.12431 -0.12778 0.11962 -0.1375 C 0.11788 -0.1463 0.11615 -0.1544 0.11493 -0.16389 C 0.11441 -0.17246 0.11354 -0.18102 0.11354 -0.19005 C 0.11354 -0.22408 0.11389 -0.25602 0.12413 -0.28681 C 0.12708 -0.29584 0.12795 -0.30394 0.13316 -0.31135 C 0.13542 -0.31991 0.13767 -0.3294 0.14236 -0.33565 C 0.14774 -0.35047 0.15347 -0.36783 0.16198 -0.3801 C 0.16389 -0.38774 0.16684 -0.39653 0.17101 -0.40232 C 0.1724 -0.40764 0.18229 -0.43125 0.18629 -0.43658 C 0.18889 -0.44375 0.19271 -0.44769 0.19531 -0.45487 C 0.19879 -0.46436 0.19861 -0.475 0.20434 -0.48311 C 0.20781 -0.50116 0.20608 -0.49399 0.20903 -0.5051 C 0.20677 -0.54005 0.20972 -0.53403 0.1816 -0.53125 C 0.17448 -0.52524 0.1658 -0.52246 0.15903 -0.51528 C 0.1526 -0.50857 0.14965 -0.49862 0.14375 -0.49098 C 0.13646 -0.45811 0.13924 -0.47014 0.13924 -0.41644 E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11 -0.01296 C 0.15261 -0.00717 0.1658 -0.00347 0.17795 0.00324 C 0.20521 0.00255 0.23247 0.00232 0.25972 0.00116 C 0.26719 0.00093 0.2757 -0.00347 0.28247 -0.00694 C 0.28802 -0.00972 0.29913 -0.01504 0.29913 -0.01481 C 0.30469 -0.02199 0.3125 -0.02546 0.31893 -0.03102 C 0.34011 -0.04907 0.32101 -0.03542 0.33559 -0.04537 C 0.34184 -0.05555 0.34948 -0.06366 0.35834 -0.06944 C 0.36493 -0.08148 0.37639 -0.09282 0.38559 -0.10185 C 0.39566 -0.12245 0.379 -0.08981 0.39462 -0.11389 C 0.39618 -0.1162 0.39636 -0.11967 0.39775 -0.12199 C 0.4033 -0.13148 0.41302 -0.14491 0.42049 -0.15231 C 0.42604 -0.16759 0.43525 -0.17963 0.44306 -0.19282 C 0.44722 -0.19977 0.44896 -0.20671 0.45382 -0.21296 C 0.45764 -0.22338 0.4625 -0.22986 0.46736 -0.23912 C 0.47275 -0.24954 0.47639 -0.26065 0.48108 -0.27153 C 0.49115 -0.29491 0.47986 -0.2625 0.49011 -0.28981 C 0.49288 -0.29699 0.49479 -0.30486 0.49775 -0.31204 C 0.5 -0.31759 0.50521 -0.32801 0.50521 -0.32778 C 0.50747 -0.33981 0.51216 -0.35139 0.5158 -0.3625 C 0.51945 -0.37315 0.52118 -0.38542 0.52344 -0.39676 C 0.52292 -0.41296 0.52327 -0.42917 0.52188 -0.44537 C 0.52118 -0.45324 0.50382 -0.46852 0.49913 -0.47153 C 0.49358 -0.47893 0.48698 -0.4831 0.47952 -0.48565 C 0.47292 -0.4919 0.46476 -0.49375 0.45677 -0.49583 C 0.42084 -0.49375 0.42813 -0.49421 0.40382 -0.48565 C 0.40226 -0.48426 0.40087 -0.48264 0.39913 -0.48171 C 0.39532 -0.47986 0.38716 -0.47754 0.38716 -0.47731 C 0.37813 -0.4662 0.37136 -0.45301 0.36285 -0.4412 C 0.36129 -0.43518 0.35886 -0.43241 0.35677 -0.42708 E"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257800" y="457200"/>
            <a:ext cx="3733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 Змея Горыныча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головы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а у его старшего брат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4 головы больш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Сколько голов у старшего бра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496" b="0"/>
          <a:stretch/>
        </p:blipFill>
        <p:spPr>
          <a:xfrm>
            <a:off x="228600" y="228600"/>
            <a:ext cx="5029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Составь фигу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338200" cy="527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2095560" cy="533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5513" t="1980" r="7705" b="7230"/>
          <a:stretch/>
        </p:blipFill>
        <p:spPr>
          <a:xfrm>
            <a:off x="4343400" y="304920"/>
            <a:ext cx="447192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12-05T06:41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