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2A7-7EE0-49BA-A483-9C891FD6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968-E0CF-45B1-8928-C9DCCBA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09C-4797-45A4-9541-99DE2FEA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904-D60A-44B0-BF3A-982A3154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9FA-7135-4BBD-B855-81A349D3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252C-09A3-4B92-8133-E1F46FC2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FAE-EE29-4B56-9407-B83A24F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63C-899C-4CAE-9D1C-8A34AA3A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9067-EDD2-4C46-BE4B-C08BAB1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B88B-FF80-40AB-B84B-FCB09430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3EDE-083B-4147-BAC2-896D472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A2C-1856-41F5-B256-F897B94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8E7-02E6-48BC-B1EA-73BAF144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05FA-7142-4BF0-8248-19D5C1E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BEDD-06A3-48D8-B3A7-D7BB01B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B892-56FA-4B00-A6E7-D192FAF6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EDA-2C3C-40A4-A992-2C87EB00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7DC-1A55-438C-BCCB-2E73C72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5AF-6AC6-4A51-960E-25CBAB38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723-6EFB-4B22-94B3-88346615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1E8-455F-46C4-9F3B-12E76D7C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782-B846-4BFF-BCE9-4AD1448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25B-D739-45A5-A6EE-EC04A6F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01B-3AD0-4B33-B9C2-6E44CCB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C20-F339-4015-8D4F-994DF10C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1CA9-7A1D-4B0A-8684-B8E126B4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17677200">
            <a:off x="28440" y="278712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2352600">
            <a:off x="395280" y="5493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372360" y="5493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020000" y="278136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rot="17047800">
            <a:off x="3269880" y="626760"/>
            <a:ext cx="1872000" cy="142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rot="4761000">
            <a:off x="1966680" y="286524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4042800">
            <a:off x="6575400" y="452268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700360" y="5157720"/>
            <a:ext cx="1871640" cy="142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 rot="1437600">
            <a:off x="4211280" y="2349000"/>
            <a:ext cx="1871640" cy="142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 rot="1135800">
            <a:off x="4284720" y="371628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 rot="8382000">
            <a:off x="539280" y="4723920"/>
            <a:ext cx="214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84360" y="476280"/>
            <a:ext cx="649440" cy="59770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1881360" cy="60483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11640" y="404640"/>
            <a:ext cx="649440" cy="59770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1640" y="69228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163680" cy="410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515772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867280" y="508464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659640" y="170028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364000" y="2349360"/>
            <a:ext cx="1070280" cy="107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435640" y="364500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580000" y="765000"/>
            <a:ext cx="1069920" cy="1070280"/>
          </a:xfrm>
          <a:prstGeom prst="rect">
            <a:avLst/>
          </a:prstGeom>
          <a:ln w="0">
            <a:noFill/>
          </a:ln>
        </p:spPr>
      </p:pic>
      <p:pic>
        <p:nvPicPr>
          <p:cNvPr id="142" name="17842981_7" descr=""/>
          <p:cNvPicPr/>
          <p:nvPr/>
        </p:nvPicPr>
        <p:blipFill>
          <a:blip r:embed="rId9"/>
          <a:srcRect l="0" t="10368" r="-9664" b="0"/>
          <a:stretch/>
        </p:blipFill>
        <p:spPr>
          <a:xfrm>
            <a:off x="539640" y="4724280"/>
            <a:ext cx="288000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>
            <a:lum contrast="60000"/>
          </a:blip>
          <a:stretch/>
        </p:blipFill>
        <p:spPr>
          <a:xfrm>
            <a:off x="6588000" y="2997360"/>
            <a:ext cx="1836720" cy="1879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 rot="4761000">
            <a:off x="3622680" y="487188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 rot="4761000">
            <a:off x="3551040" y="286524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 rot="4761000">
            <a:off x="3406680" y="38019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 rot="4761000">
            <a:off x="3406320" y="1785960"/>
            <a:ext cx="2143440" cy="18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 rot="4761000">
            <a:off x="3406680" y="77760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 rot="4761000">
            <a:off x="3335040" y="-85680"/>
            <a:ext cx="214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71640" y="3141720"/>
            <a:ext cx="2633400" cy="270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2633760" cy="2701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51640" y="2997360"/>
            <a:ext cx="26334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5883" t="14388" r="57195" b="47680"/>
          <a:stretch/>
        </p:blipFill>
        <p:spPr>
          <a:xfrm>
            <a:off x="684360" y="422100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5883" t="14388" r="57195" b="47680"/>
          <a:stretch/>
        </p:blipFill>
        <p:spPr>
          <a:xfrm>
            <a:off x="6227640" y="573408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5883" t="14388" r="57195" b="47680"/>
          <a:stretch/>
        </p:blipFill>
        <p:spPr>
          <a:xfrm rot="17212200">
            <a:off x="6588000" y="486864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rcRect l="5883" t="14388" r="57195" b="47680"/>
          <a:stretch/>
        </p:blipFill>
        <p:spPr>
          <a:xfrm rot="16631400">
            <a:off x="4066920" y="551664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rcRect l="5883" t="14388" r="57195" b="47680"/>
          <a:stretch/>
        </p:blipFill>
        <p:spPr>
          <a:xfrm>
            <a:off x="7740720" y="558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rcRect l="5883" t="14388" r="57195" b="47680"/>
          <a:stretch/>
        </p:blipFill>
        <p:spPr>
          <a:xfrm>
            <a:off x="5580000" y="443700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rcRect l="5883" t="14388" r="57195" b="47680"/>
          <a:stretch/>
        </p:blipFill>
        <p:spPr>
          <a:xfrm>
            <a:off x="179280" y="458136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rcRect l="5883" t="14388" r="57195" b="47680"/>
          <a:stretch/>
        </p:blipFill>
        <p:spPr>
          <a:xfrm>
            <a:off x="5219640" y="472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 rot="20626800">
            <a:off x="1547640" y="3212640"/>
            <a:ext cx="2213280" cy="2270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 rot="20626800">
            <a:off x="6877080" y="3428640"/>
            <a:ext cx="2071800" cy="2125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 rot="20626800">
            <a:off x="3851280" y="3789000"/>
            <a:ext cx="20718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4:25:02Z</dcterms:created>
  <dc:creator>Oleg</dc:creator>
  <dc:description/>
  <dc:language>en-US</dc:language>
  <cp:lastModifiedBy>Oleg</cp:lastModifiedBy>
  <dcterms:modified xsi:type="dcterms:W3CDTF">2012-10-17T03:43:11Z</dcterms:modified>
  <cp:revision>3</cp:revision>
  <dc:subject/>
  <dc:title>Слайд 1</dc:title>
</cp:coreProperties>
</file>