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2D4-B0AB-41A9-8D35-5149D8D8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B27-1E40-4FFE-99CF-4BFCBE8C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28A-9067-4142-A4FD-C970AC16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5F5-67FD-4FD3-BF1F-6493901E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EC1-4335-41A6-8268-3CCA6869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6DF-0FFA-4491-A717-2A0BB8E7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23F-80DD-4277-9896-564640ED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AEE-59C2-4A9A-9FC4-40346956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73B-95AE-4FBE-97A0-AAED3343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39A-523D-4329-8D02-CBAEBCEE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D3E-050E-4634-BABF-FB8D4273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AFA-2012-4F89-B8F4-AB3D498C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2BB5-A855-4875-B137-2A781B059E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384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сс-конферен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тему:« Все о кукурузном масл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3313080" cy="2460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 контроле качества кукурузного зародыша в лаборатории определяю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лаж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ание дробленого, горелого зароды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ание оболочек и пеле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ание ж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хема производства кукурузного мас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2411280" y="1341360"/>
            <a:ext cx="431028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аркировка по ГОСТ  8808-2000 Масло кукурузное. Технические услов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ля промышленной переработки с применением рафинации и дезодо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ля введения в рецептуры кулинарных жиров и производства других пищевых проду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ля продуктов детского и диетического пит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ля поставки в торговую сеть и на предприятия общественного пи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8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финация 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755280" y="2637000"/>
            <a:ext cx="72010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комплекс технологических приемов, направленный на получение стабильного очищенного мас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5796000" y="217440"/>
            <a:ext cx="3024000" cy="2300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кукурузного масл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рафинированн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очищенное, более темное с явным запах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финированное недезодорированн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очищенное, но с сохранением специфичного запа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финированное дезодорированн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 имеющее запаха и посторонних примес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 рафинирования мас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1850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ебования ГОСТ 8808-2000 к рафинированному кукурузному масл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зрачное, без осад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ез запаха, вкус обезличенного масл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ссовая доля влаги и летучих веществ, %, не более- 0,10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Цветное число, мг йода, не более-20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ислотное число, мг КОН, не более-0,40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держание фосфатидов, %, не более-0,0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44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8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8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8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8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8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8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Объект 3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3095640" cy="4967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ертификат соответствия кукурузного масла требованиям ГОСТ 8808-2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32 0.026 -0.058 0.058 -0.058 L 0.192 -0.058 C 0.224 -0.058 0.25 -0.032 0.25 0 L 0.25 0.132 C 0.25 0.164 0.224 0.191 0.192 0.191 L 0.058 0.191 C 0.026 0.191 0 0.164 0 0.132 Z">
                                      <p:cBhvr>
                                        <p:cTn id="51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69 0.25 0.125 L 0.25 0.25 E">
                                      <p:cBhvr>
                                        <p:cTn id="51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курузное масло (маисовое масл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-растительное жирное масло, получают из зародышей семян кукурузы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Ценность кукурузного масла определяется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держанием в нем ненасыщенных жирны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ислот (80%) и фосфатидов (1,5%)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Ненасыщенные жирные кислоты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(линолевая, линоленовая, арахидоновая) относятся к веществам, регулирующим обмен холестерин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укурузное масло богато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витаминам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Е, В1, В2, РР, К3, провитаминами А, что является основными факторами, определяющими его диетические свойств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минеральные веществ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 (калий, железо, фосфор, медь, никель)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укурузное масло обладает следующими свойствам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вышает сопротивляемость организма и регулирует свёртываемость кров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щищает организм от воздействия свободных радикал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лезно для профилактики и лечения атеросклероз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лучшает работу мозга и мышц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лагоприятствуют выведению из организма избытка холестерин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величивает выработку организмом половых гормонов и способствует повышению потенц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рмящих матерей увеличивает образование молок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вышает тонус желчного пузыря, усиливает сокращение его стенок, регулирует выделительную функцию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ффективно при лечении различных шелушений и других поражений кожи головы и воло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бразовательны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явить уровень усвоения учебного материал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общить и закрепить знания по теме: «Технология производства кукурузного масла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оспитательны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казать взаимосвязь изучаемого материала с будущей профессиональной деятельностью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ирование интереса к будущей профессии;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развивающи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итие памяти и мышления студентов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итие навыков целенаправленного мышления и обобщ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укурузное масло в косметоло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Объект 3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286160" cy="37148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2"/>
          <a:stretch/>
        </p:blipFill>
        <p:spPr>
          <a:xfrm>
            <a:off x="5495760" y="1557360"/>
            <a:ext cx="3108600" cy="22161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"/>
          <p:cNvPicPr/>
          <p:nvPr/>
        </p:nvPicPr>
        <p:blipFill>
          <a:blip r:embed="rId3"/>
          <a:stretch/>
        </p:blipFill>
        <p:spPr>
          <a:xfrm>
            <a:off x="5495760" y="4149720"/>
            <a:ext cx="3648240" cy="2352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34 0.011 0.065 0.028 0.085 C 0.028 0.086 0.055 0.113 0.055 0.112 C 0.07 0.127 0.079 0.148 0.079 0.17 C 0.079 0.214 0.044 0.249 0 0.25 C -0.044 0.249 -0.079 0.214 -0.079 0.17 C -0.079 0.148 -0.07 0.127 -0.055 0.112 C -0.055 0.113 -0.028 0.086 -0.028 0.085 C -0.011 0.065 -0.001 0.034 0 0 Z">
                                      <p:cBhvr>
                                        <p:cTn id="63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640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64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64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асные для здоровья вещ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кроле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криламид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вободные радикалы и полимеры жирных кислот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Гетероциклические ами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олициклические вещества с высоким содержанием углерода 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5508720" y="1125360"/>
            <a:ext cx="32036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кроле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360" y="2708280"/>
            <a:ext cx="777528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ся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парениях от сковороды с жарящимся продуктом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н опасен?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ает слизистые оболочки глаз и дыхательных путей, способствует развитию воспалительных заболеваний, обладает общетоксическим действием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криламид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с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ричневой корочке на крахмалистых продуктах (картофель, пончики и т.д.), которые подвергались длительному или высокотемпературному обжариванию в растительном масле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пасен?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тельно, канцероген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 активно образуется – при жарке во фритюре в течение длительного времени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беречься?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ть высоких температур обжарки, с осторожностью относиться к жарке во фритюр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ободные радикалы и полимеры жирных кислот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4000" y="1700280"/>
            <a:ext cx="7848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ся в остатках масла на жареном продукт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пасны?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треблении в значительных дозах обладают канцерогенными свойствам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ются  при нагревании, а особенно активно – в точке дымлени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беречься?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ть масла с высокой температурой дымообразования, не использовать потемневшее мас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етероциклические амины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68360" y="1196640"/>
            <a:ext cx="8207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с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жареных на сковороде, копченых, запеченных с добавлением растительного масла мясных и рыбных продуктах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пасны?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канцерогенам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уются при жарке в растительном масле продуктов, содержащих белки, особенно после точки дымлени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беречься?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ерегревать сковороду, предпочитать для жарки мяса животные жиры или растительные масла с высокой точкой дым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лициклические вещества с высоким содержанием углерода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енз(а)пирен, дибензпирен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852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держат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пригоревших (до черного цвета) жареных продукта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м опасны?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ются сильными канцерогенами,  образуются в момент пригорани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9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9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чка дымления, 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олнечное нерафинированное – 1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ивочное – 1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ливковое extra virgin – 19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олнечное рафинированное – 2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курузное рафинированное – 2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5881680" y="4581360"/>
            <a:ext cx="272268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люда, приготовленные с добавлением кукурузного мас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Объект 3" descr=""/>
          <p:cNvPicPr/>
          <p:nvPr/>
        </p:nvPicPr>
        <p:blipFill>
          <a:blip r:embed="rId1"/>
          <a:stretch/>
        </p:blipFill>
        <p:spPr>
          <a:xfrm>
            <a:off x="1413000" y="1736640"/>
            <a:ext cx="2592360" cy="20163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"/>
          <p:cNvPicPr/>
          <p:nvPr/>
        </p:nvPicPr>
        <p:blipFill>
          <a:blip r:embed="rId2"/>
          <a:stretch/>
        </p:blipFill>
        <p:spPr>
          <a:xfrm>
            <a:off x="5292720" y="3933720"/>
            <a:ext cx="1790640" cy="25527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"/>
          <p:cNvPicPr/>
          <p:nvPr/>
        </p:nvPicPr>
        <p:blipFill>
          <a:blip r:embed="rId3"/>
          <a:stretch/>
        </p:blipFill>
        <p:spPr>
          <a:xfrm>
            <a:off x="1979640" y="4254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"/>
          <p:cNvPicPr/>
          <p:nvPr/>
        </p:nvPicPr>
        <p:blipFill>
          <a:blip r:embed="rId4"/>
          <a:stretch/>
        </p:blipFill>
        <p:spPr>
          <a:xfrm>
            <a:off x="4572000" y="1700280"/>
            <a:ext cx="263844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ранение мас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1267920"/>
            <a:ext cx="86421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е хранение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баках, цистернах большой вместимости с плотно закрывающимися люк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4-6  </a:t>
            </a:r>
            <a:r>
              <a:rPr b="0" lang="ru-RU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 относительная влажность воздуха не выше 75 %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ратковременном хранении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ля реализации в розничной сети -в железных бочках вместимостью 200 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4-5  </a:t>
            </a:r>
            <a:r>
              <a:rPr b="0" lang="ru-RU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 относительной влажности воздух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 % без доступа света и до 1 го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зничной продажи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ло расфасовывают в бутылки из полимерных материалов или стеклянны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не выше 18 </a:t>
            </a:r>
            <a:r>
              <a:rPr b="0" lang="ru-RU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 темных помещения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 хранения при этих условиях до 4 мес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wipe dir="l"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аром богов называли в древности кукурузу индейцы, аборигены двух Америк. Они слагали песни  и легенды о кукурузе. А инки, считавшие эту культуру священной, ежегодно устраивали торжественный ритуал, который заключался в посеве этой культуры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1692360" y="4365720"/>
            <a:ext cx="2087640" cy="22478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"/>
          <p:cNvPicPr/>
          <p:nvPr/>
        </p:nvPicPr>
        <p:blipFill>
          <a:blip r:embed="rId2"/>
          <a:stretch/>
        </p:blipFill>
        <p:spPr>
          <a:xfrm>
            <a:off x="4932360" y="4365720"/>
            <a:ext cx="2085840" cy="2190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" descr=""/>
          <p:cNvPicPr/>
          <p:nvPr/>
        </p:nvPicPr>
        <p:blipFill>
          <a:blip r:embed="rId1"/>
          <a:stretch/>
        </p:blipFill>
        <p:spPr>
          <a:xfrm>
            <a:off x="4654440" y="4508640"/>
            <a:ext cx="2457720" cy="185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 кукурузы получаю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хм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р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юкоз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кусственные тк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маг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стмас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6156360" y="30686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"/>
          <p:cNvPicPr/>
          <p:nvPr/>
        </p:nvPicPr>
        <p:blipFill>
          <a:blip r:embed="rId3"/>
          <a:stretch/>
        </p:blipFill>
        <p:spPr>
          <a:xfrm>
            <a:off x="4859280" y="1413000"/>
            <a:ext cx="1874880" cy="221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амый ценный продукт из кукурузы-мас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курузное масло обладает уникальными свойств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354816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имический состав кукурузног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родыш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2205000"/>
            <a:ext cx="5267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ра-50-5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лков -13-1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леводов-около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етчатки- 15-18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5508720" y="43657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ебования ОСТ 10-020-94 «Зародыш кукурузный»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лажность- не более 5 %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ичество дробленого зародыша-не более 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ичество испорченного зародыша-не более 2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ание жира в сухом веществе-не менее 48%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тверждение ка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539640" y="1285920"/>
            <a:ext cx="3328920" cy="51134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"/>
          <p:cNvPicPr/>
          <p:nvPr/>
        </p:nvPicPr>
        <p:blipFill>
          <a:blip r:embed="rId2"/>
          <a:stretch/>
        </p:blipFill>
        <p:spPr>
          <a:xfrm>
            <a:off x="4863960" y="1268280"/>
            <a:ext cx="3195720" cy="5018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l</cp:lastModifiedBy>
  <dcterms:modified xsi:type="dcterms:W3CDTF">2012-12-21T12:03:04Z</dcterms:modified>
  <cp:revision>22</cp:revision>
  <dc:subject/>
  <dc:title>Пресс-конференция</dc:title>
</cp:coreProperties>
</file>