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A54-80FD-4AD4-8343-4B1ACD83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8EB-E07D-4937-98BC-6B34FC8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6FC-D477-465C-AB9D-CB1ADEC5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F88-800F-4C34-AE22-CC9E08C8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3FBA-37D3-4E89-9437-41995944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461D-F63E-40F5-B498-5D7A611E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263C-70E9-4E05-8A81-6B3FD11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FDC5-9C68-4E82-9F14-68E83FF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8E0E-7A4D-482C-95E9-AEDC72A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D02-5EA9-4532-B02B-4A67203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502-ED49-4249-8BF1-9B75689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4A4-6FFB-47BF-AF31-067F58F3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CA01-385B-4EA9-8509-11C0106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83B8-47A9-4394-A26F-855E0E3B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0C9-66AC-4497-8472-75E5F83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962-89D0-4B96-BF39-7D6ED507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0935-D762-4A6A-8334-C064ADCC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2C7B-371E-4DC2-9F39-3F23CC6B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4634-97C7-4343-BF34-9C62AAB2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26F4-8FE0-496C-B827-B836704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082D-9635-426F-B964-236214C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87F4-37BB-4B43-8AAF-A3D5C3DB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9FB-F95C-4A0B-B31C-0072EAF4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F439-165A-4996-A577-98258FA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9035-2D8E-428D-81BE-4E156F8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7435-6378-4538-A162-FF8BCE5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CC7F-135A-4201-8987-126961BA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5080-ACB9-4429-802E-3416057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E18A-2AFB-4367-9962-EE18586E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7207-5CE2-45ED-B8E9-E5F4AF4E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334B-4DBC-413E-9802-720095E9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DD0C-6CBF-483A-AFC1-F0284F9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B242-9051-4349-A939-EF627990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61B-3360-42A4-BA4C-8E8AEFE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D1EC-0BB7-4172-964C-AA1F60DE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6A7F-DE90-4B7C-BDCB-3BBF11F9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3B8F-F795-4D57-BE8F-0A158EF3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82EE-7B9D-40B1-AF42-70F4376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11BC-2D0A-4316-BAC6-569BFF1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4565-2B37-4D68-87C7-78CD0EA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7EEB-1B63-457E-B52C-5B5199FB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AFD52-2292-43EB-AA02-6E2189E6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25F2-5111-4ED4-94B7-B8C26563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0A2-1E9A-4215-A308-1EEBC4A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B4F-E8E2-40D8-BCE5-AE2927D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F36-7ACA-4051-8B31-8438795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194-CC31-430E-8403-3A33884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250-F516-4BA6-AEA8-37BCA3F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9281-BC0A-4E68-AF75-1FABBEC0D7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DB2A-79AA-4D92-A9B8-627D43ECE9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700F-831D-4883-90D1-924C544698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23B9-C8BC-4A5D-BA16-91C798FFF7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работка –презентация.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ема: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Сезонные изменения природы».</a:t>
            </a:r>
            <a:br>
              <a:rPr sz="24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Текст «Осенние работы».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                                          Подготовила Шепелева С.Ю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кст «Осенние работ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ступила золотая осен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адах и огородах люди собирают урожа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полях убирают картофель, свёклу, морковь, капуст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адах собирают ябло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920" y="14760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ступила золотая ос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552924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 садах и огородах люди собирают урожай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915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3394080" cy="2546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394080" cy="2546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На полях убирают картофель, свёклу, морковь, капусту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2903400" cy="2176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651640" y="4437000"/>
            <a:ext cx="2788920" cy="19303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3238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 садах собирают яблоки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55640" y="1917720"/>
            <a:ext cx="3960720" cy="345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00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опросы и задания к тексту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зови ов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Назови фр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Что убирают люди на пол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Что собирают в сад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В садах и огородах люди  ……   ……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54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Тест по теме «Сезонные изменения природы»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Осенние меся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сентябрь, май, ию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сентябрь, октябрь, но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сентябрь, октябрь, 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рожай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овощи и 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одежда и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игрушки и школьные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Фрукты собир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на по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в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05:27:28Z</dcterms:created>
  <dc:creator>Светлана</dc:creator>
  <dc:description/>
  <dc:language>en-US</dc:language>
  <cp:lastModifiedBy>User</cp:lastModifiedBy>
  <dcterms:modified xsi:type="dcterms:W3CDTF">2013-09-30T04:21:17Z</dcterms:modified>
  <cp:revision>6</cp:revision>
  <dc:subject/>
  <dc:title>Разработка –презентация. Тема: «Сезонные изменения природы». </dc:title>
</cp:coreProperties>
</file>