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B1CF-86A6-4DEB-A229-4FC4D63948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5A07-827B-4FD6-85F9-63409C0585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B15E-11CB-4226-88EE-7949089318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4F14-C417-4328-AA01-567D75BD0E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268-E203-42A8-BD97-1390AC8C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82E-0C87-44ED-AA0B-0DB02B47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D8F-D966-4AF5-872D-6B09C26E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4AE-A330-41C6-85BD-F2B8135C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7D8-5AFA-4DDB-80E0-DD495F02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A37-61BB-4898-A739-FD032504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06C-4972-42BB-8A23-45832842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3C3-F552-49E7-BFF5-5F4EDDE0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E31-EB50-485C-82EF-5F3A9E64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7BC7-14D1-4F1A-A430-982B9407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312-0B9F-4F2E-8BF4-2D5CED49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0DD-8F6B-4401-A424-E28EC107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E7AC-C9D4-409A-8C24-05BF165D70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784368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ьная неуспеваемость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840" y="3929040"/>
            <a:ext cx="8643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к – это не сосуд, который нужно наполнить, а факел, который нужно зажечь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.Д.Ушинский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ияние темперамента на успешность учебой деятельност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85840" y="1600200"/>
          <a:ext cx="8572320" cy="4971960"/>
        </p:xfrm>
        <a:graphic>
          <a:graphicData uri="http://schemas.openxmlformats.org/drawingml/2006/table">
            <a:tbl>
              <a:tblPr/>
              <a:tblGrid>
                <a:gridCol w="2649600"/>
                <a:gridCol w="2779560"/>
                <a:gridCol w="314316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темперамен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темперамен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комендации в работе с ученикам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анхол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ёгкая ранимость, умственная утомляемость, повышенная аккуратность, старательность, склонность к глубокому переживанию даже незначительных неуда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тически ободрять,  внушать веру в собственные силы, предоставлять больше времени для отдых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ы неуспевающих школьнико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85840" y="928800"/>
          <a:ext cx="8643960" cy="5397480"/>
        </p:xfrm>
        <a:graphic>
          <a:graphicData uri="http://schemas.openxmlformats.org/drawingml/2006/table">
            <a:tbl>
              <a:tblPr/>
              <a:tblGrid>
                <a:gridCol w="3000240"/>
                <a:gridCol w="564372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ные призна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ип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ется низким качеством мыслительной деятельности и положительным отношением к учёб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ют привычные шаблонные способы работы даже тогда, когда с их помощью новые задачи решены быть не могут. Темп работы класса им не под силу,  поэтому выполняют всё наспех, небрежно. Неуспех в учении для них не является источником моральных переживани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тип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ется высоким качеством мыслительной деятельности и отрицательным отношением к учени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рганизация в процессе работы , успех в учении зависит от того, нравится им предмет или нет. Избегают активной умственной работы на уроках и при подготовке домашних заданий по тем предметам, которые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 них больших умственных усилий и напряжения. Компенсируют свой неуспех в учении конфликтами с одноклассниками, протестами, демонстративными занятиями посторонними делами на урок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ы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спевающих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школьник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4200" y="1428840"/>
          <a:ext cx="8715600" cy="5214960"/>
        </p:xfrm>
        <a:graphic>
          <a:graphicData uri="http://schemas.openxmlformats.org/drawingml/2006/table">
            <a:tbl>
              <a:tblPr/>
              <a:tblGrid>
                <a:gridCol w="3362400"/>
                <a:gridCol w="535320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ные призна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II </a:t>
                      </a: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и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характеризуется низким качеством мыслительной деятельности и беспечным или отрицательным отношением к учению при частично или полной утрате позиции школьн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ывают существенные трудности при усвоении знаний, не владеют учебными приемами, беспечно относятся к учению, к результатам своей деятельности. В процессе познавательной деятельности не выходят за пределы прочно усвоенных обиходных понят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упая в умственном развитии одноклассникам, тяготятся пребыванием в школе. Стремятся подчинить своему влиянию неустойчивую часть учащихся, пользоваться их услугами в не учебное и учебное время. Их школьные интересы связаны с уроками физкультуры, труда. Вне школы им интересно бродить по улице, играть в азартные игры, сидеть в подъезде и друго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8786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о-педагогический подход к слабоуспевающим школьникам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760" y="1428840"/>
            <a:ext cx="8572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обеспечение дозированной помощи взрослого при выполнении школьниками интеллектуальных заданий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редлагать посильные задания для самостоятельного выполнения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обязательно поощрять правильное выполнение заданий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обеспечить индивидуальный и дифференцированный подходы в обучении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устранять пробелы в знаниях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о-педагогический подход к слабоуспевающим школьникам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56760" y="1356840"/>
            <a:ext cx="8643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во время опроса не торопить с ответом, дать возможность его обдумать, ознакомиться с наглядными пособиями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ри объяснении нового материала учитывать характер познавательной деятельности учеников, темп их усвоения, более широко использовать наглядные средства обучения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чаще обращаться к ним с вопросами вовлекать в обсужден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а педагогического коллектива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428480"/>
            <a:ext cx="8472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ть в школе атмосферу, способствующую развитию личности каждого школьника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ть у учащихся чувства собственного достоинства, самоуважения, значимости, неповторимости своей личности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ы факторов, влияющие на школьную неуспеваемость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42960" y="1714320"/>
            <a:ext cx="80438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ейропсихологические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ндивидуальные особенности анатомического созревания мозга ребёнка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сихолого-педагогические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возраст ребёнка, дидактико-методическая система обучения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сихологические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психологическая готовность к школьному обучению, интеллект, темперамент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7156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ины школьной неуспеваемости </a:t>
            </a: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йропсихологические факторы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400" y="1785960"/>
            <a:ext cx="82580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бования учебного процесса опережают возрастную готовность к выполнению, поставленных перед ребёнком задач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я социальной среды, в которой растёт ребёнок и которая препятствует нормальному периоду развития (внутрисемейные отношения, плохие условия жизни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840" y="571320"/>
            <a:ext cx="8643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ины школьной неуспеваемости </a:t>
            </a: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о-педагогические факторы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2960" y="2000160"/>
            <a:ext cx="80438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раст ребёнка, начинающего систематическое обучение в школ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дактико-методическая система обучения (традиционная или по развивающим учебным программам, ориентированных на «завтрашний» день в психическом развитии ребёнка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ины школьной неуспеваемости </a:t>
            </a: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ические фактор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6760" y="1571760"/>
            <a:ext cx="8643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хождение требований, предъявляемых учебным процессом к уровню осуществления познавательной деятельности школьника, с реальным уровнем его умственного развития (внимание, память, мышление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ическая готовность (мотивация, интеллект, воля, характер социального развития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ерамент (сангвинический, холерический, флегматический, меланхолический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ияние темперамента на успешность учебой деятельнос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57120" y="1533600"/>
          <a:ext cx="8501040" cy="5111640"/>
        </p:xfrm>
        <a:graphic>
          <a:graphicData uri="http://schemas.openxmlformats.org/drawingml/2006/table">
            <a:tbl>
              <a:tblPr/>
              <a:tblGrid>
                <a:gridCol w="2400480"/>
                <a:gridCol w="2957400"/>
                <a:gridCol w="3143160"/>
              </a:tblGrid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темперамен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енности темперамен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комендации в работе с учениками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гвин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сть, подвижность, быстрое реагирования на внешние события, сравнительно лёгкое переживание неудач и неприятност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еждать в необходимости доводить начатое дело до конца, для более глубокого усвоения материала обращать внимание на интересные аспекты задания, подбадривать, рассказывать о перспективах работы, развивать чувство ответственности, требовательности к себе, настойчивости  в труд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00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ияние темперамента на успешность учебой деятельности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85840" y="1638360"/>
          <a:ext cx="8501040" cy="4846680"/>
        </p:xfrm>
        <a:graphic>
          <a:graphicData uri="http://schemas.openxmlformats.org/drawingml/2006/table">
            <a:tbl>
              <a:tblPr/>
              <a:tblGrid>
                <a:gridCol w="2376360"/>
                <a:gridCol w="3052800"/>
                <a:gridCol w="3071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перамен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енности темперамен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комендации в работе с ученикам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лер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та, порывистость, способность отдаваться делу с  исключительной страстностью, но не уравновешены, склонны к  бурным эмоциональным вспышкам, резким сменам настро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ть спокойную уравновешенную атмосферу социального окружения, предупреждать появления аффектов (переключать внимание с объекта, вызвавшего негативные эмоции на какой-либо «нейтральный»  объект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ияние темперамента на успешность учебой деятельност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57120" y="1500120"/>
          <a:ext cx="8501040" cy="4757760"/>
        </p:xfrm>
        <a:graphic>
          <a:graphicData uri="http://schemas.openxmlformats.org/drawingml/2006/table">
            <a:tbl>
              <a:tblPr/>
              <a:tblGrid>
                <a:gridCol w="2536920"/>
                <a:gridCol w="2820960"/>
                <a:gridCol w="3143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темперамен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енности темперамен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комендации в работе с ученика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56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егмат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лительность, невозмутимость, устойчивость стремлений, постоянство настроения, слабое внешнее выражение душевного состояния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атывать собранность, организованность, умение не тратить личное время на «раскачку». Полезно посадить такого ученика с более подвижным однокласснико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0:59:42Z</dcterms:created>
  <dc:creator>Пользователь Windows</dc:creator>
  <dc:description/>
  <dc:language>en-US</dc:language>
  <cp:lastModifiedBy>Брехова Т.В.</cp:lastModifiedBy>
  <dcterms:modified xsi:type="dcterms:W3CDTF">2010-02-26T06:46:14Z</dcterms:modified>
  <cp:revision>152</cp:revision>
  <dc:subject/>
  <dc:title>Школьная неуспеваемость</dc:title>
</cp:coreProperties>
</file>