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14F-DD34-41AE-BA26-D3989A9E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940-83CF-4F3F-ACE6-BC32630F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398-8B08-4EC3-97E8-E18876EB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DE4-C29F-45E4-8635-A9C6EC1B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9F1-8654-46CA-8D24-78CBD711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995-F99B-4336-B20B-CDAA503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8C2-EC42-4799-9050-2A241C97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4A2-A74E-4DC3-93B9-AD3FC99E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B17-7B2A-4DCB-82D4-327FA9A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810-E41E-4097-870E-B5264808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439-09FC-49A5-AD1A-9D450137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B7C-7482-456D-AF5F-7359358C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D69B-506D-4173-B0FD-6FC6980CD8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ino-teatr.ru/kino/movie/sov/3351/foto/107231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агический конфликт истории в судьбе наро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рассказу В. Тендряко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Хлеб для собак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ANd9GcSAr5nb4hIHGPF6T_02Dn8ZXxJ2k2siywhBO6_GE6KFQ2fu_3njuA"/>
          <p:cNvPicPr/>
          <p:nvPr/>
        </p:nvPicPr>
        <p:blipFill>
          <a:blip r:embed="rId1"/>
          <a:stretch/>
        </p:blipFill>
        <p:spPr>
          <a:xfrm>
            <a:off x="684360" y="1773360"/>
            <a:ext cx="756108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88200"/>
            <a:ext cx="8061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50560" y="836280"/>
            <a:ext cx="88930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гда ты голоден, это проблема биологическая. Когда голоден рядом человек, твой брат, - это уже нравственная проблем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Бердя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13" descr="дети"/>
          <p:cNvPicPr/>
          <p:nvPr/>
        </p:nvPicPr>
        <p:blipFill>
          <a:blip r:embed="rId1"/>
          <a:stretch/>
        </p:blipFill>
        <p:spPr>
          <a:xfrm>
            <a:off x="1547640" y="3645000"/>
            <a:ext cx="345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блема рассказ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 сыт. Рядом со мной умирающие от голод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 хочу протянуть им хлеб, но они классовые враг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жно ли с ними делиться хлебо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окументальные фак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враль, 1933 год – 1-ый Всесоюзный съезд колхозников-удар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сведениям западных специалистов, только на Украине умерло от голода 6 миллионов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везено за границ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928г. – 1 млн. центнеров зер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929г. – 13 мл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930г. – 48, 3 мл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931г. – 51, 8 мл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932г. – 18, 1 мл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933г. – 10 мл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ежегодника 1935 г. «Сельское хозяйство СССР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ANd9GcR5LltotLZcqtQW5U-wAbdT6QU1ZkGFYAgaoiVg9DkCPH3C7jto"/>
          <p:cNvPicPr/>
          <p:nvPr/>
        </p:nvPicPr>
        <p:blipFill>
          <a:blip r:embed="rId1"/>
          <a:stretch/>
        </p:blipFill>
        <p:spPr>
          <a:xfrm>
            <a:off x="1835280" y="189000"/>
            <a:ext cx="619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о, чтобы за дверью каждого довольного, счастливого человека стоял кто-нибудь с молоточком и постоянно напоминал бы стуком, что есть несчастные, что как бы он ни был счастлив, жизнь рано или поздно покажет ему свои когти, стрясётся беда, болезнь, потеря и его никто не увидит и никто не услышит, как он не видит и не слышит других.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П. Чех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351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.. Забудь, откуда вышел род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осознай, не прекослов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щерб любви к отцу нар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ая прочая любов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ушу чувствами людски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отягчай, себя изгад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лжесвидетельствуй во и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зверствуй именем вождя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 Твард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7" descr="ANd9GcR5LltotLZcqtQW5U-wAbdT6QU1ZkGFYAgaoiVg9DkCPH3C7jto"/>
          <p:cNvPicPr/>
          <p:nvPr/>
        </p:nvPicPr>
        <p:blipFill>
          <a:blip r:embed="rId1"/>
          <a:stretch/>
        </p:blipFill>
        <p:spPr>
          <a:xfrm>
            <a:off x="6156360" y="1989000"/>
            <a:ext cx="28083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Кубанские казаки (1949) - фото №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284640"/>
            <a:ext cx="5651280" cy="357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Кубанские казаки (1949) - фото №7"/>
          <p:cNvPicPr/>
          <p:nvPr/>
        </p:nvPicPr>
        <p:blipFill>
          <a:blip r:embed="rId3"/>
          <a:stretch/>
        </p:blipFill>
        <p:spPr>
          <a:xfrm>
            <a:off x="0" y="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Russkaya-narodnaya-Nas-utro-vstrechaet-prohladoy(muzofon.com).mp3" descr=""/>
          <p:cNvPicPr/>
          <p:nvPr/>
        </p:nvPicPr>
        <p:blipFill>
          <a:blip r:embed="rId4"/>
          <a:stretch/>
        </p:blipFill>
        <p:spPr>
          <a:xfrm>
            <a:off x="8358120" y="6338880"/>
            <a:ext cx="5191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15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Кубанские казаки (1949) - фото №10"/>
          <p:cNvPicPr/>
          <p:nvPr/>
        </p:nvPicPr>
        <p:blipFill>
          <a:blip r:embed="rId1"/>
          <a:stretch/>
        </p:blipFill>
        <p:spPr>
          <a:xfrm>
            <a:off x="0" y="0"/>
            <a:ext cx="543564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Кубанские казаки (1949) - фото №12"/>
          <p:cNvPicPr/>
          <p:nvPr/>
        </p:nvPicPr>
        <p:blipFill>
          <a:blip r:embed="rId2"/>
          <a:stretch/>
        </p:blipFill>
        <p:spPr>
          <a:xfrm>
            <a:off x="4067280" y="3141720"/>
            <a:ext cx="47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Кубанские казаки (1949) - фото №9"/>
          <p:cNvPicPr/>
          <p:nvPr/>
        </p:nvPicPr>
        <p:blipFill>
          <a:blip r:embed="rId1"/>
          <a:stretch/>
        </p:blipFill>
        <p:spPr>
          <a:xfrm>
            <a:off x="0" y="0"/>
            <a:ext cx="4608360" cy="381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Кубанские казаки (1949) - фото №13"/>
          <p:cNvPicPr/>
          <p:nvPr/>
        </p:nvPicPr>
        <p:blipFill>
          <a:blip r:embed="rId2"/>
          <a:stretch/>
        </p:blipFill>
        <p:spPr>
          <a:xfrm>
            <a:off x="4067280" y="290520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олодающие дети Поволж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0" y="-27000"/>
            <a:ext cx="2457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0" y="-27000"/>
            <a:ext cx="2457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0" y="-27000"/>
            <a:ext cx="2457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0" y="-27000"/>
            <a:ext cx="2457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12" descr="голод"/>
          <p:cNvPicPr/>
          <p:nvPr/>
        </p:nvPicPr>
        <p:blipFill>
          <a:blip r:embed="rId1"/>
          <a:stretch/>
        </p:blipFill>
        <p:spPr>
          <a:xfrm>
            <a:off x="0" y="952560"/>
            <a:ext cx="3924360" cy="286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дети"/>
          <p:cNvPicPr/>
          <p:nvPr/>
        </p:nvPicPr>
        <p:blipFill>
          <a:blip r:embed="rId2"/>
          <a:stretch/>
        </p:blipFill>
        <p:spPr>
          <a:xfrm>
            <a:off x="4500720" y="907920"/>
            <a:ext cx="3456000" cy="345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ANd9GcTe2FkHSSYh4Znlk8CPBOEfiDNQMLuxYoGsZT4fYvEw_BzTnFo_"/>
          <p:cNvPicPr/>
          <p:nvPr/>
        </p:nvPicPr>
        <p:blipFill>
          <a:blip r:embed="rId3"/>
          <a:stretch/>
        </p:blipFill>
        <p:spPr>
          <a:xfrm>
            <a:off x="1619280" y="3860640"/>
            <a:ext cx="3276720" cy="299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ANd9GcSAgqUbGm02v6x093zXlMGFNltOX2q_bUqocgYnyq-aEXVS-wZF"/>
          <p:cNvPicPr/>
          <p:nvPr/>
        </p:nvPicPr>
        <p:blipFill>
          <a:blip r:embed="rId4"/>
          <a:stretch/>
        </p:blipFill>
        <p:spPr>
          <a:xfrm>
            <a:off x="5724360" y="3836880"/>
            <a:ext cx="32403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олодающие дети самарской губернии на питательном пункте 1921 год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ANd9GcSy3prLrpjcjpSqDrb7Zvth-hiNDiC8_POpaCgO7jV4DXERs7wb1Q"/>
          <p:cNvPicPr/>
          <p:nvPr/>
        </p:nvPicPr>
        <p:blipFill>
          <a:blip r:embed="rId1"/>
          <a:stretch/>
        </p:blipFill>
        <p:spPr>
          <a:xfrm>
            <a:off x="539640" y="2133720"/>
            <a:ext cx="80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олод на Украине 1932-33 годы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5" descr="ANd9GcQezGj9smHxek-g6EZqhasKPSufqE8GLmJ57tQK5CWNzX7i2ZAO"/>
          <p:cNvPicPr/>
          <p:nvPr/>
        </p:nvPicPr>
        <p:blipFill>
          <a:blip r:embed="rId1"/>
          <a:stretch/>
        </p:blipFill>
        <p:spPr>
          <a:xfrm>
            <a:off x="3635280" y="1484280"/>
            <a:ext cx="5257800" cy="496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Nd9GcQZ_xy1bONakORDStRdPC6fP9NhROYSCsY_ZG7BlKy8hLzTKReD"/>
          <p:cNvPicPr/>
          <p:nvPr/>
        </p:nvPicPr>
        <p:blipFill>
          <a:blip r:embed="rId2"/>
          <a:stretch/>
        </p:blipFill>
        <p:spPr>
          <a:xfrm>
            <a:off x="179280" y="2205000"/>
            <a:ext cx="2737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0:51:06Z</dcterms:created>
  <dc:creator>Name</dc:creator>
  <dc:description/>
  <dc:language>en-US</dc:language>
  <cp:lastModifiedBy>Алина</cp:lastModifiedBy>
  <dcterms:modified xsi:type="dcterms:W3CDTF">2013-03-13T03:16:00Z</dcterms:modified>
  <cp:revision>41</cp:revision>
  <dc:subject/>
  <dc:title>Голодающие дети</dc:title>
</cp:coreProperties>
</file>