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59C-BF33-4745-BDF9-0246BA3A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5DB-6B14-44CB-8535-7B9BDB35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038-819D-4E9B-9081-0A454A30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EF7-17A9-4391-9B1B-557C8B72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3B6-B80C-4434-A348-F67C7614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E9A-8C68-4E9F-A1E2-5B6A246C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762-78C4-4F64-AA64-C4801FE6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102-EBF4-40D4-B37A-E1515E40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250-8480-49C4-8B27-683A711B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D9B-8095-469B-B2ED-4C05154A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F20-A029-4F66-8F19-A0B31C90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499-D18D-4B47-9454-48D6409F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1224-C266-4627-AEE0-BD3C56ABF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20908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Тест по русскому языку 4 класс.</a:t>
            </a:r>
            <a:br>
              <a:rPr sz="3200"/>
            </a:b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Повторение изученного об имени существитель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3860640"/>
            <a:ext cx="8856720" cy="28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2437"/>
                </a:solidFill>
                <a:latin typeface="Arial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2437"/>
                </a:solidFill>
                <a:latin typeface="Arial"/>
              </a:rPr>
              <a:t>                                               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Составила: Титова Г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252720" y="1483920"/>
            <a:ext cx="8939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2437"/>
                </a:solidFill>
                <a:latin typeface="Arial"/>
              </a:rPr>
              <a:t>9. В словосочетании </a:t>
            </a:r>
            <a:r>
              <a:rPr b="1" lang="en-US" sz="3200" spc="-1" strike="noStrike" u="sng">
                <a:solidFill>
                  <a:srgbClr val="ee2437"/>
                </a:solidFill>
                <a:uFillTx/>
                <a:latin typeface="Arial"/>
              </a:rPr>
              <a:t>свернуть с дорожки </a:t>
            </a:r>
            <a:r>
              <a:rPr b="1" lang="en-US" sz="3200" spc="-1" strike="noStrike">
                <a:solidFill>
                  <a:srgbClr val="ee2437"/>
                </a:solidFill>
                <a:latin typeface="Arial"/>
              </a:rPr>
              <a:t>существительное сто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84358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А) В винительном падеж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Б) В родительном падеж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) В творительном падеж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2437"/>
                </a:solidFill>
                <a:latin typeface="Arial"/>
              </a:rPr>
              <a:t>10. В каком предложении есть имя существительное, стоящее в предложном падеж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А) Медведь лапами упёрся в дере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Б) Стоят суровые мороз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) Спит Маша в постельке и видит чудесный с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2437"/>
                </a:solidFill>
                <a:latin typeface="Arial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9280" y="2708280"/>
          <a:ext cx="8856360" cy="1657080"/>
        </p:xfrm>
        <a:graphic>
          <a:graphicData uri="http://schemas.openxmlformats.org/drawingml/2006/table">
            <a:tbl>
              <a:tblPr/>
              <a:tblGrid>
                <a:gridCol w="885960"/>
                <a:gridCol w="884160"/>
                <a:gridCol w="886320"/>
                <a:gridCol w="886680"/>
                <a:gridCol w="885960"/>
                <a:gridCol w="884160"/>
                <a:gridCol w="886320"/>
                <a:gridCol w="886320"/>
                <a:gridCol w="884520"/>
                <a:gridCol w="88596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ee2437"/>
                          </a:solidFill>
                          <a:latin typeface="Calibri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2437"/>
                </a:solidFill>
                <a:latin typeface="Calibri"/>
              </a:rPr>
              <a:t>Оцени свою работ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«5» - нет ошиб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«4» - 1, 2 ошиб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«3» - от 3 до 5 ошиб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«2» - более 5 ошиб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69796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e2437"/>
                </a:solidFill>
                <a:latin typeface="Arial"/>
              </a:rPr>
              <a:t>1.Что такое имя существительное?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А) Имя существительное – часть речи, которая обозначает признак предмета и отвечает на вопросы кто? что?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) Имя существительное – часть речи, которая обозначает предмет и отвечает на вопросы что делать? что сделать?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В) Имя существительное – часть речи, которая обозначает предмет и отвечает на вопросы кто? чт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5084280"/>
            <a:ext cx="821844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5075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2437"/>
                </a:solidFill>
                <a:latin typeface="Arial"/>
              </a:rPr>
              <a:t>2. Сколько падежей в русском язы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9152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А)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Б)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)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92392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.  На какие вопросы отвечает имя существительное в Р.п. 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А) Кого? Чего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Б) Кому? Чему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) Кем? Че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181440" y="2707920"/>
            <a:ext cx="86756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1196640"/>
            <a:ext cx="71074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4.  В каком из имён существительных не нужен ь?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А) Дрож…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Б) Экипаж…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В) Гореч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3933360"/>
            <a:ext cx="874872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828720" y="2420640"/>
            <a:ext cx="951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. В каком из словосочетаний существительное м.р. стоит в Т.п.?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А) Спрятаться за тучей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      Б) Разговаривать с отцом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В) В еловом лес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829080" y="1557000"/>
            <a:ext cx="95979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. На какие вопросы отвечает имя существительное в Д.п.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А) Кому? Чему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Б) Кем? Чем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В) Кого? Ч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507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2437"/>
                </a:solidFill>
                <a:latin typeface="Arial"/>
              </a:rPr>
              <a:t>7. В каком падеже  имена существительные не употребляются с предлог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2637000"/>
            <a:ext cx="850752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А) В предлож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Б) В винитель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) В именительном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507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2437"/>
                </a:solidFill>
                <a:latin typeface="Arial"/>
              </a:rPr>
              <a:t>8. Каким членом предложения может быть имя существительно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2852280"/>
            <a:ext cx="85075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А) Только подлежащ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Б) Подлежащим и второстепенным чле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) Сказуем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5:50:49Z</dcterms:created>
  <dc:creator>333</dc:creator>
  <dc:description>З.В. Александрова  http://aida.ucoz.ru</dc:description>
  <dc:language>en-US</dc:language>
  <cp:lastModifiedBy>Admin</cp:lastModifiedBy>
  <dcterms:modified xsi:type="dcterms:W3CDTF">2013-09-30T13:06:33Z</dcterms:modified>
  <cp:revision>29</cp:revision>
  <dc:subject/>
  <dc:title>3 класс  Русский язык</dc:title>
</cp:coreProperties>
</file>