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782-56F5-4B2E-BA2D-D1F091A0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A9B-7240-49C9-A349-B3D58461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0A3-1AD5-4651-9EB0-639744D5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FEF-F434-44C9-8E9D-086E3560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549-64E7-4D3B-B42B-3B78EA1B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54E-371A-428F-9481-663C1D17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9E7-6210-4C41-839F-54446D47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A64-867B-4621-A915-022E299A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F54-C1C1-4B06-B74B-8902D689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D56-BC96-4C8D-8602-85729321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0EF-1787-4F8B-B47E-7A0A6DE7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208-F001-466E-98C3-EBC0CAF6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A844-D962-4217-AFC4-40B5621E86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United Kingdo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69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42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8600"/>
            </a:b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F:\кардиф уэльс\эдинбург\i[11].jpg"/>
          <p:cNvPicPr/>
          <p:nvPr/>
        </p:nvPicPr>
        <p:blipFill>
          <a:blip r:embed="rId1"/>
          <a:stretch/>
        </p:blipFill>
        <p:spPr>
          <a:xfrm>
            <a:off x="5354640" y="1071720"/>
            <a:ext cx="3789360" cy="4268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F:\кардиф уэльс\эдинбург\AOANTSFCAFYW2RBCAPRZH5HCA9IIU99CA918X3SCA7RE0M2CAMNA1TBCA5U83G7CAKTMRJXCAE8JONZCAJLFWNHCAL8WK9NCARNLUOQCASI0EWTCA3KCRK1CAVVEGXICA1VT09CCA4BXS1ZCA2Y0ECICAL5AJ8V.jpg"/>
          <p:cNvPicPr/>
          <p:nvPr/>
        </p:nvPicPr>
        <p:blipFill>
          <a:blip r:embed="rId2"/>
          <a:stretch/>
        </p:blipFill>
        <p:spPr>
          <a:xfrm>
            <a:off x="857160" y="1214280"/>
            <a:ext cx="3500640" cy="2800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F:\кардиф уэльс\эдинбург\A16929XCA6L77BHCA1BLSE2CAVS0311CAACR1GFCATDVTXQCACG3EVECAHA0CG2CAZZYQDXCAXH8ME5CA7QWHBUCA3KHNLGCACX07HMCA9ARYPJCAV8DV2ICAHKKODZCATS1BDPCA8RSO1ECAV2HNYHCAZYDIQA.jpg"/>
          <p:cNvPicPr/>
          <p:nvPr/>
        </p:nvPicPr>
        <p:blipFill>
          <a:blip r:embed="rId3"/>
          <a:stretch/>
        </p:blipFill>
        <p:spPr>
          <a:xfrm>
            <a:off x="714240" y="4357800"/>
            <a:ext cx="3000600" cy="234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capital of Scotland is Edinbur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F:\кардиф уэльс\эдинбург\A426B4OCA60XK86CAXK2Z9FCAEKRUVUCAYOGFMACAWW6KB4CA24W6HFCA2LUL6QCA8Z16DLCAXK2XQMCABYFI03CAUMCCRNCAKBJYDKCAE5R9OCCAU6XJ6ECAH7HP12CA0FP75QCATWZO1CCAXQS03QCAT0JCHP.jpg"/>
          <p:cNvPicPr/>
          <p:nvPr/>
        </p:nvPicPr>
        <p:blipFill>
          <a:blip r:embed="rId1"/>
          <a:stretch/>
        </p:blipFill>
        <p:spPr>
          <a:xfrm>
            <a:off x="214200" y="3929040"/>
            <a:ext cx="2962440" cy="2511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F:\кардиф уэльс\эдинбург\ANHIJLGCAC4HPMECAP3KU34CAL0GLI4CAGM7NOTCAD5DNLFCAYLZ6PJCAODBVHKCANY50M5CA1L15L5CAVXRW6YCA48MJM8CAMIF73LCAE0NKHVCAVL5KYVCABHANIPCABRL7WRCAYB9UV9CABGYZ35CAGF6IMA.jpg"/>
          <p:cNvPicPr/>
          <p:nvPr/>
        </p:nvPicPr>
        <p:blipFill>
          <a:blip r:embed="rId2"/>
          <a:stretch/>
        </p:blipFill>
        <p:spPr>
          <a:xfrm>
            <a:off x="3929040" y="1643040"/>
            <a:ext cx="3286080" cy="2786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F:\кардиф уэльс\эдинбург\AZRLGMTCAE6LRU5CAV17X83CAEOTCFQCAGV5TBQCASDWNZ3CA2S1KM9CAP06590CA05219NCAIE3QV1CA04TT3GCAPU58MUCALUEPI2CAKSI158CAHEIXRJCABD2OQQCANYJNUZCAAJSPU4CAYGEWWTCAVQ8WAN.jpg"/>
          <p:cNvPicPr/>
          <p:nvPr/>
        </p:nvPicPr>
        <p:blipFill>
          <a:blip r:embed="rId3"/>
          <a:stretch/>
        </p:blipFill>
        <p:spPr>
          <a:xfrm>
            <a:off x="428760" y="1285920"/>
            <a:ext cx="2571480" cy="2504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F:\кардиф уэльс\эдинбург\AW08NCHCAPB60ZVCA3NP35HCAHF5I11CA9CXW3NCAZQAUIWCAFJUAJZCA4YKX7HCA65X1ICCALHACPZCA3AI2OLCAFEQZ5MCA0GWXWDCAK33RS3CAKMZZNQCAUEE95FCAV5VLIFCA8G272LCAHPK230CA360VHR.jpg"/>
          <p:cNvPicPr/>
          <p:nvPr/>
        </p:nvPicPr>
        <p:blipFill>
          <a:blip r:embed="rId4"/>
          <a:stretch/>
        </p:blipFill>
        <p:spPr>
          <a:xfrm>
            <a:off x="6000840" y="4429080"/>
            <a:ext cx="2714400" cy="216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34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e symbol of Scotland is this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111\Desktop\открытые уроки\бифитеры\GJ3CAPK7A6GCACOA82JCA0N15U2CAG0KIRQCAG2X8WICAK4Q1QLCALFTI08CA8EAZUPCAR6PLA6CAOH6R2ZCA5HZX0RCAOASDLMCA3K0FMSCARHRGD6CAXT1JBNCAIHLL26CAX4GG95CAV6VDNACAOQ112W.jpg"/>
          <p:cNvPicPr/>
          <p:nvPr/>
        </p:nvPicPr>
        <p:blipFill>
          <a:blip r:embed="rId1"/>
          <a:stretch/>
        </p:blipFill>
        <p:spPr>
          <a:xfrm>
            <a:off x="1714680" y="235728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00"/>
                </a:solidFill>
                <a:latin typeface="Calibri"/>
              </a:rPr>
              <a:t>The flag of Scotlan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111\Desktop\открытые уроки\бифитеры\NC8CAER73OYCAI9SJMKCA638W31CAF8G1U8CAYVOH35CA6GYQSMCAPILMS2CAZVLHKZCAKO99B1CA3WVAO2CAWCRDXACAG8JUPNCASXGVTMCAZKRSBHCANI61KFCAZXFKG7CAK4U8EUCAIDV2R8CASDJ53R.jpg"/>
          <p:cNvPicPr/>
          <p:nvPr/>
        </p:nvPicPr>
        <p:blipFill>
          <a:blip r:embed="rId1"/>
          <a:stretch/>
        </p:blipFill>
        <p:spPr>
          <a:xfrm>
            <a:off x="2143080" y="2071800"/>
            <a:ext cx="4929120" cy="32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The third station is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al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i-main-pic" descr="Картинка 222 из 64000"/>
          <p:cNvPicPr/>
          <p:nvPr/>
        </p:nvPicPr>
        <p:blipFill>
          <a:blip r:embed="rId1"/>
          <a:stretch/>
        </p:blipFill>
        <p:spPr>
          <a:xfrm>
            <a:off x="500040" y="1428840"/>
            <a:ext cx="2795760" cy="1785960"/>
          </a:xfrm>
          <a:prstGeom prst="rect">
            <a:avLst/>
          </a:prstGeom>
          <a:ln w="0">
            <a:noFill/>
          </a:ln>
        </p:spPr>
      </p:pic>
      <p:pic>
        <p:nvPicPr>
          <p:cNvPr id="80" name="i-main-pic" descr="Картинка 39 из 64000"/>
          <p:cNvPicPr/>
          <p:nvPr/>
        </p:nvPicPr>
        <p:blipFill>
          <a:blip r:embed="rId2"/>
          <a:stretch/>
        </p:blipFill>
        <p:spPr>
          <a:xfrm>
            <a:off x="5715000" y="1357200"/>
            <a:ext cx="309888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i-main-pic" descr="Картинка 175 из 64000"/>
          <p:cNvPicPr/>
          <p:nvPr/>
        </p:nvPicPr>
        <p:blipFill>
          <a:blip r:embed="rId3"/>
          <a:stretch/>
        </p:blipFill>
        <p:spPr>
          <a:xfrm>
            <a:off x="1714680" y="3357720"/>
            <a:ext cx="5715000" cy="2643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capital of Wales is Cardiff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F:\кардиф уэльс\AQT0VO3CAL9KF6LCA5Z840DCA0MKMDOCANQ2XU9CAWSDD1CCAKJT069CAYURPCACAVAIXLDCA17QD3SCAR3AX7OCAKBNTE7CAUMSZ7BCA80ZLTZCAVQGAVECAOTEPQHCA409YPICAXDJ8LPCAII32COCA702ON0.jpg"/>
          <p:cNvPicPr/>
          <p:nvPr/>
        </p:nvPicPr>
        <p:blipFill>
          <a:blip r:embed="rId1"/>
          <a:stretch/>
        </p:blipFill>
        <p:spPr>
          <a:xfrm>
            <a:off x="428760" y="1857240"/>
            <a:ext cx="2857320" cy="385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F:\кардиф уэльс\AIARRR9CAP1NB5GCA92SW2MCA4BMD1ZCAB1J1C9CA0FWIB7CADOYHZ6CAHWC1N2CAEUIG5ACAKECRALCAHHIV2RCA0LQBR1CAHT5NJQCA51ZPI6CAGU7OP0CAX6VGOKCAYHY180CAZ84JYQCACC8544CABTWC6V.jpg"/>
          <p:cNvPicPr/>
          <p:nvPr/>
        </p:nvPicPr>
        <p:blipFill>
          <a:blip r:embed="rId2"/>
          <a:stretch/>
        </p:blipFill>
        <p:spPr>
          <a:xfrm>
            <a:off x="5643720" y="428616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F:\кардиф уэльс\AXQY7GCCA9ZYF6ACAYOCQN3CAURY2P6CAO4EFK2CAVF1085CADSAUAPCAN3WCHYCAGPJNBNCAJ8C2UACAQWNWGMCAA8C83OCAGF6OO0CA0VFF5VCAU2ZFRDCAVPC1KQCAYLU2W3CAIDJLJGCALWN7DCCA5ABEEI.jpg"/>
          <p:cNvPicPr/>
          <p:nvPr/>
        </p:nvPicPr>
        <p:blipFill>
          <a:blip r:embed="rId3"/>
          <a:stretch/>
        </p:blipFill>
        <p:spPr>
          <a:xfrm>
            <a:off x="3857760" y="2948040"/>
            <a:ext cx="1428480" cy="96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F:\кардиф уэльс\A3UJ63ACABQ2F8JCACRC43GCAMIRW75CACXR7ZKCAT88W2RCALJZ2SSCA1CSHGWCA5KQ842CAWMTKGJCAE2Q1A3CAYR5QG2CA9ZV23DCA5IRWGCCA14K6YCCASVVRIFCAYQ9YP8CAO5EOB9CACBUT9RCA0RBX0S.jpg"/>
          <p:cNvPicPr/>
          <p:nvPr/>
        </p:nvPicPr>
        <p:blipFill>
          <a:blip r:embed="rId4"/>
          <a:stretch/>
        </p:blipFill>
        <p:spPr>
          <a:xfrm>
            <a:off x="3857760" y="1714680"/>
            <a:ext cx="2500200" cy="2247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48a54"/>
                </a:solidFill>
                <a:latin typeface="Calibri"/>
              </a:rPr>
              <a:t>The symbol of Wales is daffodi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111\Desktop\открытые уроки\бифитеры\KB3CANCM1CQCAN5KH08CATO07SHCA6V1146CA57FAGGCAEEJ32ECAJ4NI6UCAPM6BQNCAVIBFCACA9PNWHHCA2S14XLCAQA2JRYCAWPK69MCAAZSN7SCAIUFOE0CAQX2Y43CAYYHU77CAS9PKHACAY14Q7X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Calibri"/>
              </a:rPr>
              <a:t>The flag of Wal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769080" cy="417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The forth station is 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53735"/>
                </a:solidFill>
                <a:latin typeface="Calibri"/>
              </a:rPr>
              <a:t>The flag</a:t>
            </a:r>
            <a:br>
              <a:rPr sz="6000"/>
            </a:br>
            <a:r>
              <a:rPr b="1" lang="en-US" sz="6000" spc="-1" strike="noStrike">
                <a:solidFill>
                  <a:srgbClr val="953735"/>
                </a:solidFill>
                <a:latin typeface="Calibri"/>
              </a:rPr>
              <a:t>Union Jac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0040" y="2428920"/>
            <a:ext cx="7786800" cy="36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111\Desktop\открытые уроки\бифитеры\BF0CA2VQPANCA1ED6DFCAFUQ0CCCAG3GHPBCAPOXG1KCAXIU4UTCAREVLDZCAH7LEFDCA9UJBMDCA12S4OGCA8J7W7LCAX1GR2NCA6V306DCAFZQHD2CA82RDG8CAT8AQVDCAOLKB3LCAM0KXK0CAKM6JV1.jpg"/>
          <p:cNvPicPr/>
          <p:nvPr/>
        </p:nvPicPr>
        <p:blipFill>
          <a:blip r:embed="rId1"/>
          <a:stretch/>
        </p:blipFill>
        <p:spPr>
          <a:xfrm>
            <a:off x="1670040" y="2565360"/>
            <a:ext cx="62150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Northern Irelan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819000" y="1214280"/>
            <a:ext cx="3969000" cy="2719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кардиф уэльс\ирландия\ANNPNZECA3F4QZYCAYRBURCCAXIWBS8CASR99Q4CATH3OKWCADUPILDCAFU7094CAOH3MHOCA691BC9CAOUIYZFCAUO0RXPCA2B3E2ZCACHTMH7CAK4MKZ1CA27V10TCA9ME55ACA2389YDCADGL5CSCAG7ISNT.jpg"/>
          <p:cNvPicPr/>
          <p:nvPr/>
        </p:nvPicPr>
        <p:blipFill>
          <a:blip r:embed="rId2"/>
          <a:stretch/>
        </p:blipFill>
        <p:spPr>
          <a:xfrm>
            <a:off x="5076720" y="4076640"/>
            <a:ext cx="32148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F:\кардиф уэльс\ирландия\AVECWWRCAM9H01LCAHI9GADCAPJIDO1CAELNESICATQ8M10CAT0WVTACALR1UO0CAWZ9F9UCAPLP603CAU9FJHDCAZBXPKLCAU4SYPOCA2R8KDDCA43EZM9CAIXLJLPCAGX7MPGCA81B8S5CA8KC11SCAYH3UGI.jpg"/>
          <p:cNvPicPr/>
          <p:nvPr/>
        </p:nvPicPr>
        <p:blipFill>
          <a:blip r:embed="rId3"/>
          <a:stretch/>
        </p:blipFill>
        <p:spPr>
          <a:xfrm>
            <a:off x="826920" y="4292640"/>
            <a:ext cx="357192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4932360" y="1268280"/>
            <a:ext cx="3060720" cy="252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capital of Northern Ireland is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Belfas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-main-pic" descr=""/>
          <p:cNvPicPr/>
          <p:nvPr/>
        </p:nvPicPr>
        <p:blipFill>
          <a:blip r:embed="rId1"/>
          <a:stretch/>
        </p:blipFill>
        <p:spPr>
          <a:xfrm>
            <a:off x="179280" y="3625920"/>
            <a:ext cx="3672000" cy="32050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Ирландия фото"/>
          <p:cNvPicPr/>
          <p:nvPr/>
        </p:nvPicPr>
        <p:blipFill>
          <a:blip r:embed="rId2"/>
          <a:stretch/>
        </p:blipFill>
        <p:spPr>
          <a:xfrm>
            <a:off x="2333520" y="1557360"/>
            <a:ext cx="4051440" cy="2952720"/>
          </a:xfrm>
          <a:prstGeom prst="rect">
            <a:avLst/>
          </a:prstGeom>
          <a:ln w="0">
            <a:noFill/>
          </a:ln>
        </p:spPr>
      </p:pic>
      <p:pic>
        <p:nvPicPr>
          <p:cNvPr id="100" name="i-main-pic" descr=""/>
          <p:cNvPicPr/>
          <p:nvPr/>
        </p:nvPicPr>
        <p:blipFill>
          <a:blip r:embed="rId3"/>
          <a:stretch/>
        </p:blipFill>
        <p:spPr>
          <a:xfrm>
            <a:off x="5003640" y="3430440"/>
            <a:ext cx="3745080" cy="322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e symbol of Northern Irelan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246320" y="1609560"/>
            <a:ext cx="6651360" cy="450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hamroc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344000" cy="463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the symbol of Scotlan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countries are in the U 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your association when tell you the word R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flower, the symbol of Scotlan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the symbol of Englan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ell me the legent about the symbol of Wal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united Kingdom consist of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ngla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cotla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a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Northern Ireland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alibri"/>
              </a:rPr>
              <a:t>The first </a:t>
            </a: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station</a:t>
            </a:r>
            <a:r>
              <a:rPr b="0" lang="ru-RU" sz="13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54240" y="274320"/>
            <a:ext cx="563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Englan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111\Desktop\все презентации\фото англии\img17.jpg"/>
          <p:cNvPicPr/>
          <p:nvPr/>
        </p:nvPicPr>
        <p:blipFill>
          <a:blip r:embed="rId1"/>
          <a:stretch/>
        </p:blipFill>
        <p:spPr>
          <a:xfrm>
            <a:off x="3686040" y="3660840"/>
            <a:ext cx="3929040" cy="292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111\Desktop\все презентации\фото англии\img2.jpg"/>
          <p:cNvPicPr/>
          <p:nvPr/>
        </p:nvPicPr>
        <p:blipFill>
          <a:blip r:embed="rId2"/>
          <a:stretch/>
        </p:blipFill>
        <p:spPr>
          <a:xfrm>
            <a:off x="500040" y="549360"/>
            <a:ext cx="3924360" cy="3733560"/>
          </a:xfrm>
          <a:prstGeom prst="rect">
            <a:avLst/>
          </a:prstGeom>
          <a:ln w="0">
            <a:noFill/>
          </a:ln>
        </p:spPr>
      </p:pic>
      <p:pic>
        <p:nvPicPr>
          <p:cNvPr id="52" name="i-main-pic" descr="Картинка 226 из 64000"/>
          <p:cNvPicPr/>
          <p:nvPr/>
        </p:nvPicPr>
        <p:blipFill>
          <a:blip r:embed="rId3"/>
          <a:stretch/>
        </p:blipFill>
        <p:spPr>
          <a:xfrm>
            <a:off x="755640" y="3660840"/>
            <a:ext cx="3024360" cy="2822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111\Desktop\все презентации\фото англии\img4.jpg"/>
          <p:cNvPicPr/>
          <p:nvPr/>
        </p:nvPicPr>
        <p:blipFill>
          <a:blip r:embed="rId4"/>
          <a:stretch/>
        </p:blipFill>
        <p:spPr>
          <a:xfrm>
            <a:off x="4500720" y="1357200"/>
            <a:ext cx="3000240" cy="2863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capital of England is Lond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http://upload.wikimedia.org/wikipedia/commons/thumb/b/b4/Buckingham_Palace%2C_London_-_April_2009.jpg/250px-Buckingham_Palace%2C_London_-_April_2009.jpg"/>
          <p:cNvPicPr/>
          <p:nvPr/>
        </p:nvPicPr>
        <p:blipFill>
          <a:blip r:embed="rId1"/>
          <a:stretch/>
        </p:blipFill>
        <p:spPr>
          <a:xfrm>
            <a:off x="1209600" y="157176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111\Desktop\все презентации\фото англии\img3.jpg"/>
          <p:cNvPicPr/>
          <p:nvPr/>
        </p:nvPicPr>
        <p:blipFill>
          <a:blip r:embed="rId2"/>
          <a:stretch/>
        </p:blipFill>
        <p:spPr>
          <a:xfrm>
            <a:off x="357120" y="4214880"/>
            <a:ext cx="4357800" cy="242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Admin\Рабочий стол\тауэр\TheTower.jpg"/>
          <p:cNvPicPr/>
          <p:nvPr/>
        </p:nvPicPr>
        <p:blipFill>
          <a:blip r:embed="rId3"/>
          <a:stretch/>
        </p:blipFill>
        <p:spPr>
          <a:xfrm>
            <a:off x="5715000" y="1143000"/>
            <a:ext cx="2381400" cy="271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Admin\Рабочий стол\тауэр\11837440_wiki_others_16.jpg"/>
          <p:cNvPicPr/>
          <p:nvPr/>
        </p:nvPicPr>
        <p:blipFill>
          <a:blip r:embed="rId4"/>
          <a:stretch/>
        </p:blipFill>
        <p:spPr>
          <a:xfrm>
            <a:off x="5000760" y="421488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symbol of England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s red ro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372280" cy="4176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The flag of Engla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53440" cy="4372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alibri"/>
              </a:rPr>
              <a:t>The second station i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8:17:31Z</dcterms:created>
  <dc:creator>Шапен</dc:creator>
  <dc:description/>
  <dc:language>en-US</dc:language>
  <cp:lastModifiedBy>Шапен</cp:lastModifiedBy>
  <dcterms:modified xsi:type="dcterms:W3CDTF">2013-09-30T18:14:58Z</dcterms:modified>
  <cp:revision>6</cp:revision>
  <dc:subject/>
  <dc:title>The United Kingdom</dc:title>
</cp:coreProperties>
</file>