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1B7-48F8-4968-A707-B85704EA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D3D-77B4-4D16-A045-508C72B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1DC-22A4-47E3-A41B-79102562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4B9-AC42-4CD0-8F8D-D455396A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6DE-A45F-4757-9E49-FCC08EDB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CBD-10E0-4170-9B60-C60BE901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EE43-600B-4915-8E39-E5288F49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1ACA-18B0-4163-A45D-5682DD38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B92C-2CF4-4837-922D-534B0F3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9CBB-3C84-4980-AB5D-CC6C75F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9481-5E14-43F0-97FE-B2C64B3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97F-E320-422A-8033-6FD91EF0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A1F9-7DF4-44EA-9179-FA90D50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A37-2E59-4226-9EFA-60ECC0B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645E-1D8F-42CD-BC80-D9753D3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F006-3EAF-425A-A47A-20489F9C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3F59-F16A-4DBC-BEE6-483B0680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7D0-4A48-4BF6-B40A-4552279E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B7A-6AA1-4A93-B98E-6795D8B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241-4B46-4B92-A2DD-BBBA1A6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5BA-04AE-4AC5-995E-43D878D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30E-DC4A-4647-9B97-3A3E581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BFC-0AE6-4B9C-BA13-A3DB9E0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57C-2F39-4DCE-BD84-96C67A8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C1FFA6-469C-4F39-AC34-27189985902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EC6F4-BCFD-4D41-92CE-6686D331F8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638320" y="457164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китный Дени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Ногинс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Интер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95" name="Рисунок 6" descr="Scan"/>
          <p:cNvPicPr/>
          <p:nvPr/>
        </p:nvPicPr>
        <p:blipFill>
          <a:blip r:embed="rId1"/>
          <a:stretch/>
        </p:blipFill>
        <p:spPr>
          <a:xfrm>
            <a:off x="108000" y="1628640"/>
            <a:ext cx="4680000" cy="340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Пользователь\Desktop\05-03-10.JPG"/>
          <p:cNvPicPr/>
          <p:nvPr/>
        </p:nvPicPr>
        <p:blipFill>
          <a:blip r:embed="rId2"/>
          <a:stretch/>
        </p:blipFill>
        <p:spPr>
          <a:xfrm>
            <a:off x="4643280" y="2421000"/>
            <a:ext cx="42498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559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есто и роль игровой технологии в учебном процессе, сочетание элементов игры и ученья во многом зависят от понимания учителем функций и классификации педагогических игр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 первую очередь следует разделить игры по виду деятельности на физические (двигательные), интеллектуальные (умственные), трудовые, социальные и психологические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По характеру педагогического процесса выделяются следующие группы игр: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) обучающие, тренировочные, контролирующие и обобщающие;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б) познавательные, воспитательные, развивающие;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) репродуктивные, продуктивные, творческие;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г) коммуникативные, диагностические, профориентационные, психотехнические и др.</a:t>
            </a: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2420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Концептуальные основы игровых технологий: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* Психологические механизмы игровой деятельности опираются на фундаментальные потребности личности в самовыражении, самоутверждении, самоопределении, саморегуляции, самореализации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* Способность включаться в игру не связана с возрастом человека, но в каждом возрасте игра имеет свои особенности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* Содержание детских игр развивается от игр, в которых основным содержанием является предметная деятельность, к играм, отражающим отношения между людьми, и, наконец, к играм, в которых главным содержанием выступает подчинение правилам общественного поведения и отношения между людьми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* В возрастной периодизации детей особая роль отведена ведущей деятельности, имеющей для каждого возраста свое содержание. В каждой ведущей деятельности возникают и формируются соответствующие психические новообразования. Игра является ведущим видом деятельности для дошкольного возраста.</a:t>
            </a: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99" name="Рисунок 2" descr="Penguins.jpg"/>
          <p:cNvPicPr/>
          <p:nvPr/>
        </p:nvPicPr>
        <p:blipFill>
          <a:blip r:embed="rId1"/>
          <a:stretch/>
        </p:blipFill>
        <p:spPr>
          <a:xfrm>
            <a:off x="0" y="5516640"/>
            <a:ext cx="1787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4247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omic Sans MS"/>
              </a:rPr>
              <a:t>В ЗДОРОВОМ ТЕЛЕ – ЗДОРОВЫЙ ДУХ </a:t>
            </a:r>
            <a:r>
              <a:rPr b="0" lang="ru-RU" sz="44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Пользователь</cp:lastModifiedBy>
  <dcterms:modified xsi:type="dcterms:W3CDTF">2011-12-14T16:30:57Z</dcterms:modified>
  <cp:revision>26</cp:revision>
  <dc:subject/>
  <dc:title>Презентация PowerPoint</dc:title>
</cp:coreProperties>
</file>