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C66-3BC2-4D42-96D2-C47A0216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BD3-D73F-4E9A-8C5E-89AD8C71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2DB-A17B-4CA0-826A-C2DEFB8C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E24-6B7D-4521-B25D-D29A98D8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60C-1EAA-41F5-9C72-E0213F1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0ED-B955-4758-B20D-EBF0C9A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EDE-BD02-4B91-BE4C-FF4FE7F0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EE7-1EA0-42EA-9449-B08B97EE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C21-D6C0-4C89-BE37-F820D15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6B0-1078-4374-A780-7EA1345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340-F1A4-4562-AC12-DE2DE4B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87A-6DC5-4376-A3F1-007BF34E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80D-4707-4602-BAF8-C83A2BBDC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971800"/>
            <a:ext cx="6705360" cy="2743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имние Олимпийские  игры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temp" descr=""/>
          <p:cNvPicPr/>
          <p:nvPr/>
        </p:nvPicPr>
        <p:blipFill>
          <a:blip r:embed="rId1"/>
          <a:stretch/>
        </p:blipFill>
        <p:spPr>
          <a:xfrm>
            <a:off x="5943600" y="48006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11924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88596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5000040"/>
            <a:ext cx="290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Соч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2014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1133280" cy="80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33720" y="434268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лет  на все соревн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400800" y="3048120"/>
            <a:ext cx="7621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7-03T15:15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