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5D3-012A-42AA-9547-45995076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B1E-7D52-41D3-A2AD-D2644DB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679-1575-4574-B78E-43BE15EF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106-F533-4EBF-8379-C2D6EAD7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E29-44FC-4859-9AA2-BDEB422B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90E-334C-41B5-9B11-6413E509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4E9-57C5-411B-90B0-AD14BC4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68E-AA1B-4360-BA1B-31AB57A3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2A2-4047-455A-B301-02C9BF81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226-01F4-4100-85EA-6DBF6DD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211-2E65-4697-99E8-0F63CB2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1E3-1BDC-4AD0-999B-025B365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2899E-76F9-42B3-A899-2016CF4C1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onnectportal.info/ist_post_telegraph.html" TargetMode="External"/><Relationship Id="rId2" Type="http://schemas.openxmlformats.org/officeDocument/2006/relationships/hyperlink" Target="http://www.russianpost.ru/rp/company/ru/home/history-" TargetMode="External"/><Relationship Id="rId3" Type="http://schemas.openxmlformats.org/officeDocument/2006/relationships/hyperlink" Target="http://dic.academic.ru/dic.nsf/enc3p/172638-%20&#1089;&#1083;&#1086;&#1074;&#1072;&#1088;&#1080;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498600"/>
            <a:ext cx="8301240" cy="568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14240" y="1682280"/>
            <a:ext cx="846000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Работу выполнил: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учащийся  3  класса РЦДО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ГАОУ РМЭ «Лицей Бауманский»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cccc"/>
                </a:solidFill>
                <a:latin typeface="Times New Roman"/>
              </a:rPr>
              <a:t>Четкарёв Александр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Научный руководитель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cccc"/>
                </a:solidFill>
                <a:latin typeface="Times New Roman"/>
              </a:rPr>
              <a:t>Очиева  Раиса Александровна,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ГАОУ РМЭ «Лицей Бауманский»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г. Йошкар — Ола, 2011 г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2520" y="12600"/>
            <a:ext cx="926784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«Почта. История развития почты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тория развития почты</a:t>
            </a:r>
            <a:br>
              <a:rPr sz="4000"/>
            </a:br>
            <a:r>
              <a:rPr b="1" i="1" lang="ru-RU" sz="2600" spc="-1" strike="noStrike">
                <a:solidFill>
                  <a:srgbClr val="ff9966"/>
                </a:solidFill>
                <a:latin typeface="Arial"/>
              </a:rPr>
              <a:t>Доисторическая поч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9640" y="1152360"/>
            <a:ext cx="882360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рия почты тесно связана с историей письменности. С зарождением последней информация стала передаваться в письменном виде, что положило начало почтовой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евнеегипетская почта была основана преимущественно на использовании многочисленных пеших гонцов, благодаря которым фараоны могли без особых затруднений осуществлять контакты с удалёнными провинция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Снимок экрана 2013-10-01 в 11.05.33.png"/>
          <p:cNvPicPr/>
          <p:nvPr/>
        </p:nvPicPr>
        <p:blipFill>
          <a:blip r:embed="rId1"/>
          <a:srcRect l="3358" t="0" r="3358" b="0"/>
          <a:stretch/>
        </p:blipFill>
        <p:spPr>
          <a:xfrm>
            <a:off x="2916360" y="3816360"/>
            <a:ext cx="291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25600" y="179280"/>
            <a:ext cx="84754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утылоч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60360" y="1152360"/>
            <a:ext cx="900900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ание в бутылке, или бутылочная почта, - древний способ отправки сообщений адресату. Суть его заключается в том, что на куске бумаги или пергамента пишется текст, после чего послание сворачивается и бросается в океан. Гонимая течениями бутылка прибивается к берегу, где её и нахо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60360" y="2519280"/>
            <a:ext cx="89359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генда гласит, что изобретателем такого способа сообщения был греческий философ Теофраст, который примерно в 310 г. до н.э. бросил за Гибралтаром несколько запечатанных бутылок  с записками, чтобы доказать, что вода в Средиземное море поступает из Атлантического океана. Спустя несколько месяцев один из сосудов был найден на Сицил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Снимок экрана 2013-10-01 в 11.02.17.png"/>
          <p:cNvPicPr/>
          <p:nvPr/>
        </p:nvPicPr>
        <p:blipFill>
          <a:blip r:embed="rId1"/>
          <a:srcRect l="13245" t="0" r="13245" b="0"/>
          <a:stretch/>
        </p:blipFill>
        <p:spPr>
          <a:xfrm>
            <a:off x="3060720" y="4032360"/>
            <a:ext cx="295272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луби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9640" y="2232000"/>
            <a:ext cx="91807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транспортировки писем также применяли почтовых голубей. Голубиная почта существует и в настоящее время. Почтовые — самые сильные голуби, поэтому их также называют спортивными. Они могут развивать скорость до 120 километров в час.  Чтобы голубь возвращался домой, его тренируют: в месячном возрасте относят от голубятни на 500 метров и постепенно увеличивают дистан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Снимок экрана 2013-10-01 в 10.46.55.png"/>
          <p:cNvPicPr/>
          <p:nvPr/>
        </p:nvPicPr>
        <p:blipFill>
          <a:blip r:embed="rId1"/>
          <a:srcRect l="0" t="7921" r="0" b="7921"/>
          <a:stretch/>
        </p:blipFill>
        <p:spPr>
          <a:xfrm>
            <a:off x="2700360" y="1368360"/>
            <a:ext cx="36021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очта по принципу эстаф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39640" y="3284640"/>
            <a:ext cx="8820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ередачи особо спешных сообщений уже в древности посылали верховых гонцов - всадников на верблюдах и лошадях на суше, по морю — на кораб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9640" y="460836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же появились почтовые кареты.В те времена прибытие почтовой кареты в маленький населённый пункт было целым событием. О своём приближении почтальон громко трубил в почтовый ро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Снимок экрана 2013-10-01 в 10.47.04.png"/>
          <p:cNvPicPr/>
          <p:nvPr/>
        </p:nvPicPr>
        <p:blipFill>
          <a:blip r:embed="rId1"/>
          <a:srcRect l="0" t="10342" r="0" b="10342"/>
          <a:stretch/>
        </p:blipFill>
        <p:spPr>
          <a:xfrm>
            <a:off x="3492360" y="1008000"/>
            <a:ext cx="273528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714240" y="214200"/>
            <a:ext cx="830124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Телеграф. Оптический телеграф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95280" y="2376360"/>
            <a:ext cx="93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легра́ф  в современном значении — средство для передачи сигнала по проводам или другим каналам электросвяз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изобретением телеграфа (1832), телефона (1876) и радио (1895) почтовая связь не утратила своей важной роли средства общения миллионов людей. В телеграфе почта нашла могущественное содействие и завер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Снимок экрана 2013-10-01 в 10.38.32.png"/>
          <p:cNvPicPr/>
          <p:nvPr/>
        </p:nvPicPr>
        <p:blipFill>
          <a:blip r:embed="rId1"/>
          <a:srcRect l="0" t="8063" r="0" b="8063"/>
          <a:stretch/>
        </p:blipFill>
        <p:spPr>
          <a:xfrm>
            <a:off x="2627280" y="1798560"/>
            <a:ext cx="331308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Электрический теле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33280" y="4140360"/>
            <a:ext cx="89456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леграфный коммутатор конструкции П. Кошкодаева  использовался на стационарных узлах Наркомата связи и штабов военных округов. В годы ВОВ широко применялся для оборудования кроссов стационарных узлов связи (Военно-исторический музей артиллерии, инженерных войск и войск связи, Санкт-Петербур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Снимок экрана 2013-10-01 в 10.38.49.png"/>
          <p:cNvPicPr/>
          <p:nvPr/>
        </p:nvPicPr>
        <p:blipFill>
          <a:blip r:embed="rId1"/>
          <a:srcRect l="0" t="2932" r="0" b="2932"/>
          <a:stretch/>
        </p:blipFill>
        <p:spPr>
          <a:xfrm>
            <a:off x="2771640" y="1368360"/>
            <a:ext cx="3888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714240" y="214200"/>
            <a:ext cx="830124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еспроводной телеграф. Ради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920" y="3227400"/>
            <a:ext cx="97902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мая 1895 года российский учёный Александр Степанович Попов  продемонстрировал беспроводной телеграф, радиоприемн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90360" y="4319640"/>
            <a:ext cx="98092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01 году Маркони добился устойчивой передачи сигнала беспроводного телеграфа  через Атлан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5" descr="Снимок экрана 2013-10-01 в 10.39.05.png"/>
          <p:cNvPicPr/>
          <p:nvPr/>
        </p:nvPicPr>
        <p:blipFill>
          <a:blip r:embed="rId1"/>
          <a:srcRect l="1562" t="0" r="1562" b="0"/>
          <a:stretch/>
        </p:blipFill>
        <p:spPr>
          <a:xfrm>
            <a:off x="3419640" y="1008000"/>
            <a:ext cx="273672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20720" y="2303640"/>
            <a:ext cx="864072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1930 году была создана конструкция стартстопного телеграфного аппарата, оснащенного дисковым номеронабирателем телефонного типа (телетайп). Этот тип телеграфного аппарата, в числе прочего, позволял персонифицировать абонентов телеграфной сети и осуществлять быстрое их соединение. Практически одновременно, в Германии и Великобритании были созданы национальные сети абонентского телеграфа, получившие название Telex (TELEgraph + EXchan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539640"/>
            <a:ext cx="95392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Arial"/>
              </a:rPr>
              <a:t>Аппарат Бодо: новый этап развития телегра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тория возникновения 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9280" y="3780000"/>
            <a:ext cx="93600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явление сотовой и мобильной связи является одним из наиболее значимых открытий двадцатого века. В конце 80-х годов была изобретена простая служба обмена сообщениями, получившая название 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30040" y="4694400"/>
            <a:ext cx="926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MS технология позволяет  осуществлять приём и передачу коротких текстовых сообщений сотовым телеф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5" descr="Снимок экрана 2013-10-01 в 11.05.06.png"/>
          <p:cNvPicPr/>
          <p:nvPr/>
        </p:nvPicPr>
        <p:blipFill>
          <a:blip r:embed="rId1"/>
          <a:srcRect l="14415" t="0" r="14415" b="0"/>
          <a:stretch/>
        </p:blipFill>
        <p:spPr>
          <a:xfrm>
            <a:off x="3564000" y="1152360"/>
            <a:ext cx="230328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68280" y="1360440"/>
            <a:ext cx="89917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MS ( служба мультимедийных сообщений) — это система, позволяющая посылать и принимать мультимедийные (изображения, мелодии, видео) сообщения при помощи сотового телефона, позволяет отправлять mms сообщения не только на сотовый телефон, но уже и как сообщения электронной поч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619280" y="539640"/>
            <a:ext cx="54007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Arial"/>
              </a:rPr>
              <a:t>M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Снимок экрана 2013-10-01 в 11.04.06.png"/>
          <p:cNvPicPr/>
          <p:nvPr/>
        </p:nvPicPr>
        <p:blipFill>
          <a:blip r:embed="rId1"/>
          <a:srcRect l="0" t="25789" r="0" b="25789"/>
          <a:stretch/>
        </p:blipFill>
        <p:spPr>
          <a:xfrm>
            <a:off x="3348000" y="3095640"/>
            <a:ext cx="2357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08000" y="0"/>
            <a:ext cx="98265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,Четкарёв Александр, обучаюсь дистанционно, знакомлюсь с новыми информационными технологиями, знания получаю на уроках, общение с нашими преподавателями осуществляется через Интернет по скай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с электронной почтой — важная и составляющая часть моей учебной деятельности. В очень интересной форме проходят наши уроки: работаем на электронных курсах, знакомимся с электронными образовательными ресурсами, выполняем разные задания, отправляем на проверку в виде звуковых и видео файлов через электронную почту в i-Школе, отправляем сообщения в ученический форум, общаемся друг с другом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 многому научился, но мне предстоит узнать ещё многое. Что такое «электронная почта» я знаю, но меня  очень интересует история почтового дела. Что такое почта? Какой была почта до появления компьютера? Как люди обменивались информацией? Какой будет почта в будущ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12" descr="Снимок экрана 2013-10-01 в 10.45.06.png"/>
          <p:cNvPicPr/>
          <p:nvPr/>
        </p:nvPicPr>
        <p:blipFill>
          <a:blip r:embed="rId1"/>
          <a:srcRect l="1752" t="0" r="1752" b="0"/>
          <a:stretch/>
        </p:blipFill>
        <p:spPr>
          <a:xfrm>
            <a:off x="3492360" y="1008000"/>
            <a:ext cx="223200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9640" y="3456000"/>
            <a:ext cx="8999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́нная по́чта — технология и предоставляемые ею услуги по пересылке и получению электронных сообщений (называемых «письма» или «электронные письма») по распределённой  компьютер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м отличием (и достоинством е-майл) от прочих систем передачи сообщений (например, служб мгновенных сообщений) ранее являлась возможность отложенной доставки сообщения, а также развитая система взаимодействия между независимыми почтовыми серверами  В настоящее время любой начинающий пользователь может завести свой бесплатный электронный почтовый ящик, достаточно зарегистрироваться на одном из интернет порт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6" descr="Снимок экрана 2013-10-01 в 10.39.25.png"/>
          <p:cNvPicPr/>
          <p:nvPr/>
        </p:nvPicPr>
        <p:blipFill>
          <a:blip r:embed="rId1"/>
          <a:srcRect l="13125" t="0" r="13125" b="0"/>
          <a:stretch/>
        </p:blipFill>
        <p:spPr>
          <a:xfrm>
            <a:off x="3635280" y="1152360"/>
            <a:ext cx="216072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714240" y="214200"/>
            <a:ext cx="830124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Структура электронного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60360" y="1727280"/>
            <a:ext cx="899964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ое письмо состоит из следующих ча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ков SMTP-протокола, полученных серв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60360" y="3024360"/>
            <a:ext cx="91803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го письма (в терминологии протокола SMTP — 'DATA'), которое, в свою очередь, состоит из следующих частей, разделённых пустой строк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ков письма, иногда называемых по аналогии с бумажной почтой конвертом (англ. envelop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2360" y="4608360"/>
            <a:ext cx="89978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ло письма. В теле письма находится, собственно, текст письм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оч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9280" y="4062240"/>
            <a:ext cx="9360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овая организация в России традиционно является государственным предприятием. Сеть почтовых отделений — крупнейшая организационная сеть в стране. В настоящее время российская почта предпринимает усилия по  усовершенствованию  технологий  обработки почты, переход на мировые стандарты доставки: начался переход на контейнерный принцип перевозки почты в оборотной  таре, отказ от перевозки почты в меш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2" descr="Снимок экрана 2013-10-01 в 10.43.24.png"/>
          <p:cNvPicPr/>
          <p:nvPr/>
        </p:nvPicPr>
        <p:blipFill>
          <a:blip r:embed="rId1"/>
          <a:srcRect l="12016" t="0" r="12016" b="0"/>
          <a:stretch/>
        </p:blipFill>
        <p:spPr>
          <a:xfrm>
            <a:off x="3635280" y="1511280"/>
            <a:ext cx="19447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0360" y="3959280"/>
            <a:ext cx="8999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ейшая особенность почты — осуществление общедоступных услуг почтовых перевозок.  В почтовой сфере эти услуги являются основными, универсальными или базис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оч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Снимок экрана 2013-10-01 в 11.03.47.png"/>
          <p:cNvPicPr/>
          <p:nvPr/>
        </p:nvPicPr>
        <p:blipFill>
          <a:blip r:embed="rId1"/>
          <a:srcRect l="9498" t="0" r="9498" b="0"/>
          <a:stretch/>
        </p:blipFill>
        <p:spPr>
          <a:xfrm>
            <a:off x="3132000" y="1584360"/>
            <a:ext cx="331164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20720" y="287280"/>
            <a:ext cx="8294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смос на службе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87440" y="3867120"/>
            <a:ext cx="953928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июня 2010 года Почта России подписала договор с Федеральным сетевым операт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НИС-ГЛОНАСС» о создании автоматизированной системы мониторинга почт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нспортных средств. В рамках совместного проекта 10000 почтовых автомобилей, задействованных на маршрутах перевозки почты, будут оборудованы бортовыми спутниковыми терминалами ГЛОНАСС/ GPS, в филиалах Почты России будут развернуты 300 диспетчерских пун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4" descr="Снимок экрана 2013-10-01 в 11.03.34.png"/>
          <p:cNvPicPr/>
          <p:nvPr/>
        </p:nvPicPr>
        <p:blipFill>
          <a:blip r:embed="rId1"/>
          <a:srcRect l="0" t="6845" r="0" b="6845"/>
          <a:stretch/>
        </p:blipFill>
        <p:spPr>
          <a:xfrm>
            <a:off x="3419640" y="1295280"/>
            <a:ext cx="259236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714240" y="216000"/>
            <a:ext cx="8301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следования</a:t>
            </a:r>
            <a:br>
              <a:rPr sz="4000"/>
            </a:b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Результаты опроса населения</a:t>
            </a:r>
            <a:br>
              <a:rPr sz="2000"/>
            </a:b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с. Нурма Медведевского района РМ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079640" y="1440000"/>
            <a:ext cx="7380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Часто ли Вы обращаетесь к услугам Почты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Да-90%   Нет-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услуги связи Почты России Вы предпочит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Отправка письма -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Отправка бандероли -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Переводы -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Оплата коммунальных платежей -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Чтение корреспонденции -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Используете ли Вы электронную поч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Да — 10%   2) Нет -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Какой способ отправки сообщений Вы использу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очта России -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sms —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mms -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) электронная почта -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539640" y="360360"/>
            <a:ext cx="270036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90820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Исследованием развития почтовой связи занимается специальная отрасль исторической науки — история поч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История почты тесно связана с  историей развития письм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На протяжении длительной истории человечества способы и средства передачи информации претерпели значительную эволюц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Почта — это не только письма, посылки , бандероли, но грузоперевозки, телеграф, ради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В наши дни возможности обмена сообщениями по сети Telex сохранена во многом благодаря электронной почт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Появление сотовой и мобильной связи является одним из наиболее значимых открытий двадцатого века, оказавших огромное влияние на деловую и социальную сферу общ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MMS — это система, позволяющая посылать и принимать мультимедийные (изображения, мелодии, видео) сообщения не только на сотовый телефон, но уже и как сообщения электронной почт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В настоящее время на службе современной почты стоят космические техно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Почтовая связь стала международной и начала обслуживать всё население. Почтовые реформы в отдельных странах и в международном масштабе привели к организации и созданию Всемирного почтов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720720" y="208080"/>
            <a:ext cx="83008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539640" y="1655640"/>
            <a:ext cx="84600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Материал из Интерн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рия почты и телеграф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onnectportal.info/ist_post_telegraph.htm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История почты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russianpost.ru/rp/company/ru/home/history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dic.academic.ru/dic.nsf/enc3p/172638- слов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Энциклопедия «Всё обо всё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539640" y="1800360"/>
            <a:ext cx="846000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знакомиться с историей развития почтового дела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знакомиться с некоторыми современными технологиями почтового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Развитие словарного зап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Развитие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755640" y="287280"/>
            <a:ext cx="830088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Цел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60360" y="287280"/>
            <a:ext cx="8655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987480"/>
            <a:ext cx="936000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Изучить историю развития почты с древних времён до настояще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организовать экскурсию на поч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поиск необходимого материала в энциклопедиях и Интерн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оформление реферата и компьютерной презен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759280" y="720720"/>
            <a:ext cx="18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319640" y="1800360"/>
            <a:ext cx="72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1093680"/>
            <a:ext cx="371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1994040"/>
            <a:ext cx="371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2533680"/>
            <a:ext cx="371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0" y="3433680"/>
            <a:ext cx="371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14240" y="287280"/>
            <a:ext cx="8301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Что такое поч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42920" y="2232000"/>
            <a:ext cx="80298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а – это здание, куда приносят письма, там их сортируют и разносят по адресам, даже в другие города отвозят.  Почта – это учреждение для пересылки писем, посылок, бандеролей, денег, а также здание, где помещается такое учрежд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Снимок экрана 2013-10-01 в 10.44.39.png"/>
          <p:cNvPicPr/>
          <p:nvPr/>
        </p:nvPicPr>
        <p:blipFill>
          <a:blip r:embed="rId1"/>
          <a:srcRect l="4995" t="0" r="4995" b="0"/>
          <a:stretch/>
        </p:blipFill>
        <p:spPr>
          <a:xfrm>
            <a:off x="2340000" y="144000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84360" y="792000"/>
            <a:ext cx="8300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                         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ись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2189160"/>
            <a:ext cx="8848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ще всего мы пишем письма близким, знакомым, родным, чтобы поделиться своими мыслями, чувствами, пережи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368360"/>
            <a:ext cx="936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4896000"/>
            <a:ext cx="91216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ремя Великой Отечественной войны на фронт солдатам отправляли письма не только родственники и друзья, но их писали школь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2376360"/>
            <a:ext cx="905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сьма бывают: деловые (коммерческие, письма-запросы, предложения, обращения, заявления, сопроводительные, гарантийные), дружеские (приглашения на свадьбы, дни рождения и просто общение). Письма бывают обычные и электро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Снимок экрана 2013-10-01 в 12.04.32.png"/>
          <p:cNvPicPr/>
          <p:nvPr/>
        </p:nvPicPr>
        <p:blipFill>
          <a:blip r:embed="rId1"/>
          <a:srcRect l="2760" t="0" r="2760" b="0"/>
          <a:stretch/>
        </p:blipFill>
        <p:spPr>
          <a:xfrm>
            <a:off x="1332000" y="431640"/>
            <a:ext cx="266364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519120" y="268200"/>
            <a:ext cx="830088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очтовый конве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60360" y="1727280"/>
            <a:ext cx="90946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овый конверт — это сорочка письма - столь  точное определение дал почтовому конверту в своём Толковом словаре Владимир Д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оначалу письмо обходилось без одежды. Древние новгородцы обменивались через гонцов берестяными грамотами, свернутыми текстом наружу.  Пересылать берестяное письмо было неудобно, так как оно не было защищено от чужого любопы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60360" y="3816360"/>
            <a:ext cx="91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В древнем Вавилоне люди писали клинописью на глиняных табличка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95280" y="4176720"/>
            <a:ext cx="918036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озже люди писали письма на восковых табличках, которые складывали вместе и обвязывали шну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60360" y="4753080"/>
            <a:ext cx="899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В 1820 году владелец писчебумажного магазина в английском городе Брайтоне мистер Бревер придумал специальные пакеты и продавал их вмест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листкам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Снимок экрана 2013-10-01 в 10.44.28.png"/>
          <p:cNvPicPr/>
          <p:nvPr/>
        </p:nvPicPr>
        <p:blipFill>
          <a:blip r:embed="rId1"/>
          <a:srcRect l="0" t="11111" r="0" b="11111"/>
          <a:stretch/>
        </p:blipFill>
        <p:spPr>
          <a:xfrm>
            <a:off x="7524720" y="576360"/>
            <a:ext cx="1871640" cy="12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905120" y="-173160"/>
            <a:ext cx="5287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очтовый конве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9640" y="2762280"/>
            <a:ext cx="86266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В годы Великой Отечественной войны были письма-треугольники — конверт снова объединился с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Сейчас тайна содержимого конверта строго охраняется законом. Почтальон не имеет права ни на секунду оставить сумку, а выемка писем механизирована, чтобы уберечь их содержание от любопытных взгля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Письма, договора, каталоги – вся корреспонденция отпра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чтовых конверта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Снимок экрана 2013-10-01 в 11.41.25.png"/>
          <p:cNvPicPr/>
          <p:nvPr/>
        </p:nvPicPr>
        <p:blipFill>
          <a:blip r:embed="rId1"/>
          <a:srcRect l="1034" t="0" r="1034" b="0"/>
          <a:stretch/>
        </p:blipFill>
        <p:spPr>
          <a:xfrm>
            <a:off x="3060720" y="934920"/>
            <a:ext cx="266364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24000" y="360360"/>
            <a:ext cx="92167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Arial"/>
              </a:rPr>
              <a:t>Почтовая мар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овая марка — специальный знак, выпускаемый и продаваемый национальными ( и иными) почтовыми ведомствами и обладающий определённой номинальной стоимостью. Помимо номинала, на марках может указываться наименование почтовой администрации, их выпустившей;  на ней изображены различные символы, декоративные элементы и рису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Снимок экрана 2013-10-01 в 11.05.41.png"/>
          <p:cNvPicPr/>
          <p:nvPr/>
        </p:nvPicPr>
        <p:blipFill>
          <a:blip r:embed="rId1"/>
          <a:srcRect l="0" t="3012" r="0" b="3012"/>
          <a:stretch/>
        </p:blipFill>
        <p:spPr>
          <a:xfrm>
            <a:off x="3276720" y="3240000"/>
            <a:ext cx="25905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20:50:23Z</dcterms:created>
  <dc:creator/>
  <dc:description/>
  <dc:language>en-US</dc:language>
  <cp:lastModifiedBy>Ресурсный центр ЦДО</cp:lastModifiedBy>
  <dcterms:modified xsi:type="dcterms:W3CDTF">2013-10-01T09:21:41Z</dcterms:modified>
  <cp:revision>50</cp:revision>
  <dc:subject/>
  <dc:title>   </dc:title>
</cp:coreProperties>
</file>