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397-58C7-4ED1-AFFC-3B89966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D52-92BC-4E73-9FFA-2527AA56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417-F7C1-4F16-8E12-E5FB335C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BB6-4AF6-40E3-97C8-1A3BEB5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42E-BA1A-4768-992F-5D17E5E7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60E-754B-4CBB-80D7-EC06F06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00B6-D3C3-4F0F-9AFB-FDECA9F3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0A84-C98C-47EF-A10E-55ADA72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33CB-7DFC-40EC-9C91-47727976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860-3811-4B64-B80F-831169C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F28F-D0AA-4AB6-AD17-36B956A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465-F9AE-4625-AD0F-31893B5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CDB4-4B66-4EA8-8668-3F62AFF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8C7-58B9-4D75-903E-D586BE8A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6103-FED2-4D99-B594-4B380FD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1547-A1E4-4D06-A7ED-AD2F3606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71E6-E05E-4366-92C7-7A57CE9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4570-0CC6-48C4-AE84-F096FCD2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21E8-E279-4066-A2BE-8D83D7A9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EE75-B399-45C7-9EA1-9986E79C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2422-A468-46C4-855E-F4AB5B3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912C-086A-4143-85E2-1E58D1F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EEA-6757-46D6-B269-721D70A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F370-07C3-4674-9652-B437EDB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9722-1DF6-44F1-9E97-837FB37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DE75-B217-4700-835A-C391A1A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1753-A7A1-4610-872A-D787E767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2019-B33C-49F1-8368-EE97CBCD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B2DD-8A0B-4087-B110-45277E61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79C2-2FC1-4345-8C79-3F527EEB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10DB2-14FE-44D2-858B-503C646E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1E7F-D591-4DBF-96DB-1A05F09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9BA60-E481-420C-B536-5A13B074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0F6-0313-4ADB-AAC4-C374ED46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DDA9-FDDC-4EAD-8988-385631B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11F5-F6E3-4932-9CA6-35B886C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D60B8-2BE2-48FB-AA5E-E6DEB0B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01AF-7A88-4E91-8788-5AAD2F5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60F0-F899-4CAE-9FCC-41F76D7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C46E-E5FB-40C4-913B-15126D6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5391-E931-472D-8637-61B631B6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7933-65F8-4C73-A5B0-AB6B287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A038-A264-43B4-AF12-B7E3CDC8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2C40-9948-47AC-B0D1-DEE4D8A0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09D-BF78-41BA-94B2-0C3AEDA3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D4BC-1E70-48CA-812D-895CFE36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1EB1-0329-4FEC-911D-D24DB79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1D14-2FA6-4895-B9D9-75DB3D61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5474-D095-4EDB-8F71-84D1476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F31F-C5B6-46CB-AEEC-C64FF4D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E217-0F08-43B5-B504-4535A98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ECC9-F5BD-49A1-A662-3DFC0AF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B0D9-2A6E-4FA7-94B8-9DB5F6C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C72F-10B7-4894-A2B8-36C256C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F6C7-5A3D-45C1-BBA7-3C09EE8A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FDA-B061-4593-8B07-0DF34C3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A0DC-CF7F-40AE-9430-1F3B0575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7EA4-75A1-4C46-8E69-589CBA04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555F-29DC-42C4-BD9F-9D72E23C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ACDF-27C7-4F48-A0B2-4944E46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0F01-11A8-47AC-AB44-C4B0DEC4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5485-84DE-4625-9DC3-0C22FD9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1E98-03E2-480F-9705-5F774B96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790F-CFAB-40DF-8711-AADCA83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9839-6D21-40AD-9C91-077746D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7551-7C99-4FC1-9757-8D95C35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0D8-BB02-4664-95A3-7C1BFF2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200F-CFAD-4001-AF80-4C31A19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5CBF-5FC1-40D2-BE3F-2AC50729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0531-B8D8-4A60-855F-7C170CE5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312F-9163-463E-8048-4FF96FF7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3CCE-DB90-47EB-8188-F3ECF2F0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B076-D928-4834-BC82-3A534B27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1C81-F4F7-4924-B560-030E940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57C3-D6D3-4CFE-9FF4-8A2C840E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D41A-D54C-4DC0-B76A-873E435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7D2F1-B774-4A47-92E3-50711F0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706-D3D5-4EB6-BA37-CD078D3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61E97-708E-460B-B13A-708C001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E6C4-D0F7-45B6-9C2B-19CD93D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135A-BFA6-40A3-90AA-36A6C83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E646-1E4A-493C-BB5E-11FD73BA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B13A-EF1F-4490-A2F6-9CFF41B0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5B0-A7CF-4211-8B2D-14D4C31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AFF-F1B4-44D1-8F0F-A75EA7C5CD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8CA5-26A5-42AF-A50B-59CED78E61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DC0-439A-4644-A0F6-B50206B7E0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67F-283D-447A-A6DE-BAADE2FFB4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C55-4B3F-48E4-9AFE-0A47E39C90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3A58-3128-4092-85E3-F37C3D36CA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0529-08D5-4B03-9B64-FD723B95D1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9293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Линзы.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ила построения изображений, даваемых линзой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D:\my documents\anna\Мои результаты сканирования\2008-08 (авг)\сканирование0008.jpg"/>
          <p:cNvPicPr/>
          <p:nvPr/>
        </p:nvPicPr>
        <p:blipFill>
          <a:blip r:embed="rId1"/>
          <a:stretch/>
        </p:blipFill>
        <p:spPr>
          <a:xfrm>
            <a:off x="5357880" y="2357280"/>
            <a:ext cx="3500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йте изображение предмета, даваемое собирающей линзой, если …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предмет находится за двойным фокусным расстоянием линзы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предмет находится на двойном фокусном расстоян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предмет находится между точками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F</a:t>
            </a: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 2F</a:t>
            </a: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предмет помещен в фокус линзы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предмет находится между линзой и ее фокус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нтрольные вопро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Ход каких лучей используются при построении изображений, даваемых  линзой?  Как они себя «ведут» при прохождении через линзу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Сколько лучей необходимо построить, чтобы получить изображение точки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Какие типы изображений вы знаете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Какое изображение называют действительным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orbel"/>
              </a:rPr>
              <a:t>Какое изображение называют мнимым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68295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5500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ройте изображение предмета, даваемое рассеивающей линзой, если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предмет находится за двойным фокусным расстоянием линз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предмет находится на двойном фокусном расстоянии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предмет находится между точками </a:t>
            </a:r>
            <a:r>
              <a:rPr b="0" lang="en-US" sz="2800" spc="-1" strike="noStrike">
                <a:solidFill>
                  <a:srgbClr val="922223"/>
                </a:solidFill>
                <a:latin typeface="Gill Sans MT"/>
              </a:rPr>
              <a:t>F</a:t>
            </a: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 и </a:t>
            </a:r>
            <a:r>
              <a:rPr b="0" lang="en-US" sz="2800" spc="-1" strike="noStrike">
                <a:solidFill>
                  <a:srgbClr val="922223"/>
                </a:solidFill>
                <a:latin typeface="Gill Sans MT"/>
              </a:rPr>
              <a:t> 2F</a:t>
            </a: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предмет помещен в фокус линз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предмет находится между линзой и ее фокус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0" name="Picture 2" descr="D:\my documents\anna\Мои результаты сканирования\2008-08 (авг)\сканирование0001.jpg"/>
          <p:cNvPicPr/>
          <p:nvPr/>
        </p:nvPicPr>
        <p:blipFill>
          <a:blip r:embed="rId1"/>
          <a:stretch/>
        </p:blipFill>
        <p:spPr>
          <a:xfrm>
            <a:off x="6072120" y="2571840"/>
            <a:ext cx="2697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Что же такое «линза» и какой она может быть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440" y="450108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b1d15"/>
                </a:solidFill>
                <a:latin typeface="Corbel"/>
              </a:rPr>
              <a:t>Обычная капелька воды, размером чуть больше миллиметра, - это короткофокусная линза с очень гладкой поверхностью и почти сферической формо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3" descr="D:\my documents\anna\Мои результаты сканирования\2008-08 (авг)\w1045780496.7488.jpg"/>
          <p:cNvPicPr/>
          <p:nvPr/>
        </p:nvPicPr>
        <p:blipFill>
          <a:blip r:embed="rId1"/>
          <a:stretch/>
        </p:blipFill>
        <p:spPr>
          <a:xfrm>
            <a:off x="2260440" y="2019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D:\my documents\anna\Мои результаты сканирования\2008-08 (авг)\w1045780496.7488.jpg"/>
          <p:cNvPicPr/>
          <p:nvPr/>
        </p:nvPicPr>
        <p:blipFill>
          <a:blip r:embed="rId2"/>
          <a:stretch/>
        </p:blipFill>
        <p:spPr>
          <a:xfrm>
            <a:off x="785880" y="1143000"/>
            <a:ext cx="450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1214280"/>
            <a:ext cx="749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–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это прозрачное тело, ограниченное двумя сферическими поверхностям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5" descr="сканирование0007.jpg"/>
          <p:cNvPicPr/>
          <p:nvPr/>
        </p:nvPicPr>
        <p:blipFill>
          <a:blip r:embed="rId1"/>
          <a:stretch/>
        </p:blipFill>
        <p:spPr>
          <a:xfrm>
            <a:off x="1285920" y="3143160"/>
            <a:ext cx="785808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7"/>
          <p:cNvSpPr/>
          <p:nvPr/>
        </p:nvSpPr>
        <p:spPr>
          <a:xfrm>
            <a:off x="4429080" y="5214960"/>
            <a:ext cx="15001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78604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22223"/>
                </a:solidFill>
                <a:latin typeface="Corbel"/>
              </a:rPr>
              <a:t>ЛИНЗ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Виды линз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1617"/>
                </a:solidFill>
                <a:latin typeface="Corbel"/>
              </a:rPr>
              <a:t>Собирающие         </a:t>
            </a: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(линзы, которые преобразуют пучок  параллельных лучей в сходящийся и собирают его в одну точку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1 – двояковыпукл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2 – плосковыпукл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3 - вогнуто-выпукл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1617"/>
                </a:solidFill>
                <a:latin typeface="Corbel"/>
              </a:rPr>
              <a:t>Рассеивающие</a:t>
            </a:r>
            <a:r>
              <a:rPr b="0" lang="ru-RU" sz="2600" spc="-1" strike="noStrike">
                <a:solidFill>
                  <a:srgbClr val="1e190d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(линзы, которые преобразуют пучок  параллельных лучей в расходящийся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1 – двояковогнут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2 – плосковогнут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3 - выпукло-вогнута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11617"/>
                </a:solidFill>
                <a:latin typeface="Corbe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D:\my documents\anna\Мои результаты сканирования\2008-08 (авг)\сканирование0002.jpg"/>
          <p:cNvPicPr/>
          <p:nvPr/>
        </p:nvPicPr>
        <p:blipFill>
          <a:blip r:embed="rId1"/>
          <a:stretch/>
        </p:blipFill>
        <p:spPr>
          <a:xfrm>
            <a:off x="1714680" y="3000240"/>
            <a:ext cx="2949480" cy="13860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6"/>
          <p:cNvSpPr/>
          <p:nvPr/>
        </p:nvSpPr>
        <p:spPr>
          <a:xfrm>
            <a:off x="2071800" y="4286160"/>
            <a:ext cx="25002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1714680" y="42861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                 2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D:\my documents\anna\Мои результаты сканирования\2008-08 (авг)\сканирование0003.jpg"/>
          <p:cNvPicPr/>
          <p:nvPr/>
        </p:nvPicPr>
        <p:blipFill>
          <a:blip r:embed="rId2"/>
          <a:stretch/>
        </p:blipFill>
        <p:spPr>
          <a:xfrm>
            <a:off x="5500800" y="3000240"/>
            <a:ext cx="3214440" cy="14065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5857920" y="2857680"/>
            <a:ext cx="250020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0"/>
          <p:cNvSpPr/>
          <p:nvPr/>
        </p:nvSpPr>
        <p:spPr>
          <a:xfrm>
            <a:off x="5429160" y="4286160"/>
            <a:ext cx="3500640" cy="21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5572080" y="428616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                        2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2"/>
          <p:cNvSpPr/>
          <p:nvPr/>
        </p:nvSpPr>
        <p:spPr>
          <a:xfrm>
            <a:off x="8572680" y="2928960"/>
            <a:ext cx="2854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4357800" y="3214800"/>
            <a:ext cx="409320" cy="368280"/>
          </a:xfrm>
          <a:prstGeom prst="rect">
            <a:avLst/>
          </a:prstGeom>
          <a:solidFill>
            <a:srgbClr val="fdd7ba"/>
          </a:solidFill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5003640" y="3284640"/>
            <a:ext cx="498600" cy="337320"/>
          </a:xfrm>
          <a:prstGeom prst="rect">
            <a:avLst/>
          </a:prstGeom>
          <a:solidFill>
            <a:srgbClr val="fdd7ba"/>
          </a:solidFill>
          <a:ln w="9360">
            <a:solidFill>
              <a:srgbClr val="eaf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429000" y="3286080"/>
            <a:ext cx="511200" cy="337320"/>
          </a:xfrm>
          <a:prstGeom prst="rect">
            <a:avLst/>
          </a:prstGeom>
          <a:solidFill>
            <a:srgbClr val="fdd7ba"/>
          </a:solidFill>
          <a:ln w="9360">
            <a:solidFill>
              <a:srgbClr val="f2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940360" y="2924280"/>
            <a:ext cx="451080" cy="368280"/>
          </a:xfrm>
          <a:prstGeom prst="rect">
            <a:avLst/>
          </a:prstGeom>
          <a:solidFill>
            <a:srgbClr val="fdd7ba"/>
          </a:solidFill>
          <a:ln w="9360">
            <a:solidFill>
              <a:srgbClr val="f2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411280" y="2924280"/>
            <a:ext cx="390600" cy="368280"/>
          </a:xfrm>
          <a:prstGeom prst="rect">
            <a:avLst/>
          </a:prstGeom>
          <a:solidFill>
            <a:srgbClr val="fdd7ba"/>
          </a:solidFill>
          <a:ln w="9360">
            <a:solidFill>
              <a:srgbClr val="f2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81154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СНОВНЫЕ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                            ЭЛЕМЕНТЫ         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                                                        ЛИНЗ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58294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11617"/>
                </a:solidFill>
                <a:latin typeface="Corbel"/>
              </a:rPr>
              <a:t>Основные элементы рассмотрим на примере собирающей линзы               (у рассеивающей линзы все аналогично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28760" y="1928520"/>
            <a:ext cx="8153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Главная оптическая ось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(АВ) – прямая, проходящая через центры сферических поверхностей линз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Оптический центр линзы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(О) – точка пересечения главной оптической оси с линзо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Побочная оптическая ось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– любая прямая, проходящая через оптический центр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Фокус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точка, в которой после преломления собираются все лучи, падающие на линзу параллельно главной оптической оси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Фокусное расстояние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– расстояние от линзы до ее фоку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Оптическая сила линзы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– величина, обратная ее фокусному расстоянию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Corbel"/>
              </a:rPr>
              <a:t>Фокальная плоскость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– плоскость, проведенная через фокус, перпендикулярно главной оптической оси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7" name="AutoShape 2"/>
          <p:cNvCxnSpPr/>
          <p:nvPr/>
        </p:nvCxnSpPr>
        <p:spPr>
          <a:xfrm>
            <a:off x="2571840" y="3285720"/>
            <a:ext cx="370584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8" name="AutoShape 3"/>
          <p:cNvCxnSpPr/>
          <p:nvPr/>
        </p:nvCxnSpPr>
        <p:spPr>
          <a:xfrm>
            <a:off x="3786120" y="32857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49" name="AutoShape 4"/>
          <p:cNvCxnSpPr/>
          <p:nvPr/>
        </p:nvCxnSpPr>
        <p:spPr>
          <a:xfrm flipH="1">
            <a:off x="4428360" y="2500200"/>
            <a:ext cx="2520" cy="150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350" name="AutoShape 5"/>
          <p:cNvCxnSpPr/>
          <p:nvPr/>
        </p:nvCxnSpPr>
        <p:spPr>
          <a:xfrm>
            <a:off x="3714840" y="3285720"/>
            <a:ext cx="14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51" name="AutoShape 6"/>
          <p:cNvCxnSpPr/>
          <p:nvPr/>
        </p:nvCxnSpPr>
        <p:spPr>
          <a:xfrm flipV="1">
            <a:off x="3429000" y="2714040"/>
            <a:ext cx="201528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2" name="AutoShape 3"/>
          <p:cNvCxnSpPr/>
          <p:nvPr/>
        </p:nvCxnSpPr>
        <p:spPr>
          <a:xfrm>
            <a:off x="5142600" y="2428560"/>
            <a:ext cx="1080" cy="1608840"/>
          </a:xfrm>
          <a:prstGeom prst="straightConnector1">
            <a:avLst/>
          </a:prstGeom>
          <a:ln w="15840">
            <a:solidFill>
              <a:srgbClr val="000000"/>
            </a:solidFill>
            <a:prstDash val="lgDash"/>
            <a:miter/>
          </a:ln>
        </p:spPr>
      </p:cxnSp>
      <p:cxnSp>
        <p:nvCxnSpPr>
          <p:cNvPr id="353" name="AutoShape 3"/>
          <p:cNvCxnSpPr/>
          <p:nvPr/>
        </p:nvCxnSpPr>
        <p:spPr>
          <a:xfrm>
            <a:off x="5142600" y="2428560"/>
            <a:ext cx="1080" cy="1608840"/>
          </a:xfrm>
          <a:prstGeom prst="straightConnector1">
            <a:avLst/>
          </a:prstGeom>
          <a:ln w="15840">
            <a:solidFill>
              <a:srgbClr val="000000"/>
            </a:solidFill>
            <a:prstDash val="lgDash"/>
            <a:miter/>
          </a:ln>
        </p:spPr>
      </p:cxnSp>
      <p:sp>
        <p:nvSpPr>
          <p:cNvPr id="354" name="Прямая соединительная линия 17"/>
          <p:cNvSpPr/>
          <p:nvPr/>
        </p:nvSpPr>
        <p:spPr>
          <a:xfrm flipH="1">
            <a:off x="3714840" y="2357280"/>
            <a:ext cx="1440" cy="16434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7143840" y="5786280"/>
            <a:ext cx="79380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800" spc="-1" strike="noStrike">
                <a:solidFill>
                  <a:srgbClr val="611617"/>
                </a:solidFill>
                <a:latin typeface="Corbel"/>
              </a:rPr>
              <a:t>Построение изображений в линзах</a:t>
            </a:r>
            <a:br>
              <a:rPr sz="3600"/>
            </a:br>
            <a:r>
              <a:rPr b="0" lang="ru-RU" sz="1800" spc="-1" strike="noStrike">
                <a:solidFill>
                  <a:srgbClr val="922223"/>
                </a:solidFill>
                <a:latin typeface="Corbel"/>
              </a:rPr>
              <a:t>Для построения изображений обычно используются следующие </a:t>
            </a:r>
            <a:br>
              <a:rPr sz="1800"/>
            </a:br>
            <a:r>
              <a:rPr b="0" lang="ru-RU" sz="1800" spc="-1" strike="noStrike">
                <a:solidFill>
                  <a:srgbClr val="922223"/>
                </a:solidFill>
                <a:latin typeface="Corbel"/>
              </a:rPr>
              <a:t>лучи, ход которых после прохождения через линзу известен: </a:t>
            </a:r>
            <a:br>
              <a:rPr sz="39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523520"/>
            <a:ext cx="3657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роходящий через оптический центр линзы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не преломляется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араллельный главной оптической оси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проходит через фокус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араллельный побочной оптической оси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пересекается с ней в фокальной плоскости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143680" y="1500120"/>
            <a:ext cx="3657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роходящий через оптический центр линзы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не преломляется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араллельный главной оптической оси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проходит через фокус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Луч, параллельный побочной оптической оси </a:t>
            </a:r>
            <a:r>
              <a:rPr b="0" lang="ru-RU" sz="1100" spc="-1" strike="noStrike">
                <a:solidFill>
                  <a:srgbClr val="ff0000"/>
                </a:solidFill>
                <a:latin typeface="Corbel"/>
              </a:rPr>
              <a:t>(пересекается с ней в фокальной плоскости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1"/>
          <p:cNvSpPr/>
          <p:nvPr/>
        </p:nvSpPr>
        <p:spPr>
          <a:xfrm>
            <a:off x="1785960" y="2643120"/>
            <a:ext cx="221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17"/>
          <p:cNvCxnSpPr/>
          <p:nvPr/>
        </p:nvCxnSpPr>
        <p:spPr>
          <a:xfrm flipH="1">
            <a:off x="2855160" y="2143080"/>
            <a:ext cx="2520" cy="10008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2" name="Прямая со стрелкой 20"/>
          <p:cNvCxnSpPr/>
          <p:nvPr/>
        </p:nvCxnSpPr>
        <p:spPr>
          <a:xfrm>
            <a:off x="2428920" y="4357800"/>
            <a:ext cx="929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sm"/>
            <a:tailEnd len="med" type="oval" w="sm"/>
          </a:ln>
        </p:spPr>
      </p:cxnSp>
      <p:cxnSp>
        <p:nvCxnSpPr>
          <p:cNvPr id="363" name="Прямая со стрелкой 25"/>
          <p:cNvCxnSpPr/>
          <p:nvPr/>
        </p:nvCxnSpPr>
        <p:spPr>
          <a:xfrm flipV="1">
            <a:off x="1999800" y="2428200"/>
            <a:ext cx="1358280" cy="57204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64" name="Прямая соединительная линия 28"/>
          <p:cNvSpPr/>
          <p:nvPr/>
        </p:nvSpPr>
        <p:spPr>
          <a:xfrm flipV="1">
            <a:off x="2857680" y="2214720"/>
            <a:ext cx="1000080" cy="428400"/>
          </a:xfrm>
          <a:prstGeom prst="line">
            <a:avLst/>
          </a:prstGeom>
          <a:ln w="2232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31"/>
          <p:cNvSpPr/>
          <p:nvPr/>
        </p:nvSpPr>
        <p:spPr>
          <a:xfrm>
            <a:off x="5643720" y="2643120"/>
            <a:ext cx="221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32"/>
          <p:cNvCxnSpPr/>
          <p:nvPr/>
        </p:nvCxnSpPr>
        <p:spPr>
          <a:xfrm flipH="1">
            <a:off x="2856960" y="2143080"/>
            <a:ext cx="1080" cy="10008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7" name="Прямая со стрелкой 36"/>
          <p:cNvCxnSpPr/>
          <p:nvPr/>
        </p:nvCxnSpPr>
        <p:spPr>
          <a:xfrm>
            <a:off x="6643800" y="2071800"/>
            <a:ext cx="2160" cy="7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41"/>
          <p:cNvCxnSpPr/>
          <p:nvPr/>
        </p:nvCxnSpPr>
        <p:spPr>
          <a:xfrm flipV="1">
            <a:off x="6643800" y="3142440"/>
            <a:ext cx="2160" cy="723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9" name="Прямая соединительная линия 49"/>
          <p:cNvSpPr/>
          <p:nvPr/>
        </p:nvSpPr>
        <p:spPr>
          <a:xfrm flipH="1">
            <a:off x="6643800" y="2143080"/>
            <a:ext cx="1440" cy="1071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Прямая со стрелкой 50"/>
          <p:cNvCxnSpPr/>
          <p:nvPr/>
        </p:nvCxnSpPr>
        <p:spPr>
          <a:xfrm flipV="1">
            <a:off x="5785920" y="2428200"/>
            <a:ext cx="1358280" cy="57204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71" name="Прямая соединительная линия 51"/>
          <p:cNvSpPr/>
          <p:nvPr/>
        </p:nvSpPr>
        <p:spPr>
          <a:xfrm flipV="1">
            <a:off x="6643800" y="2214720"/>
            <a:ext cx="1000080" cy="428400"/>
          </a:xfrm>
          <a:prstGeom prst="line">
            <a:avLst/>
          </a:prstGeom>
          <a:ln w="2232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52"/>
          <p:cNvCxnSpPr/>
          <p:nvPr/>
        </p:nvCxnSpPr>
        <p:spPr>
          <a:xfrm flipH="1">
            <a:off x="2856960" y="3857760"/>
            <a:ext cx="1080" cy="100224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73" name="Прямая соединительная линия 53"/>
          <p:cNvSpPr/>
          <p:nvPr/>
        </p:nvSpPr>
        <p:spPr>
          <a:xfrm>
            <a:off x="1785960" y="4357800"/>
            <a:ext cx="221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54"/>
          <p:cNvCxnSpPr/>
          <p:nvPr/>
        </p:nvCxnSpPr>
        <p:spPr>
          <a:xfrm flipH="1">
            <a:off x="6643440" y="5428800"/>
            <a:ext cx="2160" cy="738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5" name="Прямая со стрелкой 65"/>
          <p:cNvCxnSpPr/>
          <p:nvPr/>
        </p:nvCxnSpPr>
        <p:spPr>
          <a:xfrm flipH="1" flipV="1">
            <a:off x="6643440" y="4714560"/>
            <a:ext cx="10080" cy="813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6" name="Прямая соединительная линия 69"/>
          <p:cNvSpPr/>
          <p:nvPr/>
        </p:nvSpPr>
        <p:spPr>
          <a:xfrm>
            <a:off x="5643720" y="4286160"/>
            <a:ext cx="221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Прямая со стрелкой 71"/>
          <p:cNvCxnSpPr/>
          <p:nvPr/>
        </p:nvCxnSpPr>
        <p:spPr>
          <a:xfrm>
            <a:off x="6143760" y="428580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sm"/>
            <a:tailEnd len="med" type="oval" w="sm"/>
          </a:ln>
        </p:spPr>
      </p:cxnSp>
      <p:cxnSp>
        <p:nvCxnSpPr>
          <p:cNvPr id="378" name="Прямая со стрелкой 75"/>
          <p:cNvCxnSpPr/>
          <p:nvPr/>
        </p:nvCxnSpPr>
        <p:spPr>
          <a:xfrm>
            <a:off x="1785960" y="4071960"/>
            <a:ext cx="714960" cy="216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79" name="Прямая соединительная линия 77"/>
          <p:cNvSpPr/>
          <p:nvPr/>
        </p:nvSpPr>
        <p:spPr>
          <a:xfrm>
            <a:off x="1785960" y="4071960"/>
            <a:ext cx="1071720" cy="1440"/>
          </a:xfrm>
          <a:prstGeom prst="line">
            <a:avLst/>
          </a:prstGeom>
          <a:ln w="2232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Прямая со стрелкой 79"/>
          <p:cNvCxnSpPr/>
          <p:nvPr/>
        </p:nvCxnSpPr>
        <p:spPr>
          <a:xfrm>
            <a:off x="2857320" y="4071960"/>
            <a:ext cx="1215000" cy="71496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81" name="Прямая соединительная линия 26"/>
          <p:cNvSpPr/>
          <p:nvPr/>
        </p:nvSpPr>
        <p:spPr>
          <a:xfrm>
            <a:off x="5572080" y="4000680"/>
            <a:ext cx="1071720" cy="1440"/>
          </a:xfrm>
          <a:prstGeom prst="line">
            <a:avLst/>
          </a:prstGeom>
          <a:ln w="2232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Прямая со стрелкой 27"/>
          <p:cNvCxnSpPr/>
          <p:nvPr/>
        </p:nvCxnSpPr>
        <p:spPr>
          <a:xfrm>
            <a:off x="5571720" y="4000680"/>
            <a:ext cx="715320" cy="216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83" name="Прямая соединительная линия 29"/>
          <p:cNvSpPr/>
          <p:nvPr/>
        </p:nvSpPr>
        <p:spPr>
          <a:xfrm flipV="1">
            <a:off x="6143760" y="4000320"/>
            <a:ext cx="500040" cy="285480"/>
          </a:xfrm>
          <a:prstGeom prst="line">
            <a:avLst/>
          </a:prstGeom>
          <a:ln w="22320">
            <a:solidFill>
              <a:srgbClr val="c32d2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33"/>
          <p:cNvCxnSpPr/>
          <p:nvPr/>
        </p:nvCxnSpPr>
        <p:spPr>
          <a:xfrm flipV="1">
            <a:off x="6643800" y="3642480"/>
            <a:ext cx="643320" cy="35820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85" name="Прямая соединительная линия 35"/>
          <p:cNvSpPr/>
          <p:nvPr/>
        </p:nvSpPr>
        <p:spPr>
          <a:xfrm>
            <a:off x="1643040" y="5929200"/>
            <a:ext cx="2714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Прямая со стрелкой 37"/>
          <p:cNvCxnSpPr/>
          <p:nvPr/>
        </p:nvCxnSpPr>
        <p:spPr>
          <a:xfrm flipH="1">
            <a:off x="2856960" y="5357520"/>
            <a:ext cx="1080" cy="1143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7" name="Прямая со стрелкой 42"/>
          <p:cNvCxnSpPr/>
          <p:nvPr/>
        </p:nvCxnSpPr>
        <p:spPr>
          <a:xfrm>
            <a:off x="2356920" y="5928840"/>
            <a:ext cx="1001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sm"/>
            <a:tailEnd len="med" type="oval" w="sm"/>
          </a:ln>
        </p:spPr>
      </p:cxnSp>
      <p:cxnSp>
        <p:nvCxnSpPr>
          <p:cNvPr id="388" name="Прямая со стрелкой 45"/>
          <p:cNvCxnSpPr/>
          <p:nvPr/>
        </p:nvCxnSpPr>
        <p:spPr>
          <a:xfrm>
            <a:off x="1499760" y="5785920"/>
            <a:ext cx="1358280" cy="42948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389" name="Прямая со стрелкой 47"/>
          <p:cNvCxnSpPr/>
          <p:nvPr/>
        </p:nvCxnSpPr>
        <p:spPr>
          <a:xfrm flipV="1">
            <a:off x="2857680" y="5857560"/>
            <a:ext cx="1643760" cy="35784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90" name="Прямая соединительная линия 48"/>
          <p:cNvSpPr/>
          <p:nvPr/>
        </p:nvSpPr>
        <p:spPr>
          <a:xfrm>
            <a:off x="5500800" y="5929200"/>
            <a:ext cx="221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56"/>
          <p:cNvSpPr/>
          <p:nvPr/>
        </p:nvSpPr>
        <p:spPr>
          <a:xfrm flipH="1">
            <a:off x="6643800" y="3859200"/>
            <a:ext cx="1440" cy="8571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57"/>
          <p:cNvCxnSpPr/>
          <p:nvPr/>
        </p:nvCxnSpPr>
        <p:spPr>
          <a:xfrm>
            <a:off x="6143760" y="592884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sm"/>
            <a:tailEnd len="med" type="oval" w="sm"/>
          </a:ln>
        </p:spPr>
      </p:cxnSp>
      <p:sp>
        <p:nvSpPr>
          <p:cNvPr id="393" name="Прямая соединительная линия 58"/>
          <p:cNvSpPr/>
          <p:nvPr/>
        </p:nvSpPr>
        <p:spPr>
          <a:xfrm flipH="1">
            <a:off x="6643800" y="5502240"/>
            <a:ext cx="1440" cy="927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64"/>
          <p:cNvCxnSpPr/>
          <p:nvPr/>
        </p:nvCxnSpPr>
        <p:spPr>
          <a:xfrm>
            <a:off x="5500440" y="5857920"/>
            <a:ext cx="1143720" cy="35784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395" name="Прямая со стрелкой 70"/>
          <p:cNvCxnSpPr/>
          <p:nvPr/>
        </p:nvCxnSpPr>
        <p:spPr>
          <a:xfrm flipH="1">
            <a:off x="6643440" y="3785760"/>
            <a:ext cx="2160" cy="738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6" name="Прямая со стрелкой 74"/>
          <p:cNvCxnSpPr/>
          <p:nvPr/>
        </p:nvCxnSpPr>
        <p:spPr>
          <a:xfrm flipV="1">
            <a:off x="6643800" y="6428520"/>
            <a:ext cx="2160" cy="723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7" name="Прямая соединительная линия 84"/>
          <p:cNvSpPr/>
          <p:nvPr/>
        </p:nvSpPr>
        <p:spPr>
          <a:xfrm flipH="1" flipV="1">
            <a:off x="6143400" y="5785920"/>
            <a:ext cx="500040" cy="428760"/>
          </a:xfrm>
          <a:prstGeom prst="line">
            <a:avLst/>
          </a:prstGeom>
          <a:ln w="22320">
            <a:solidFill>
              <a:srgbClr val="c32d2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Прямая со стрелкой 85"/>
          <p:cNvCxnSpPr/>
          <p:nvPr/>
        </p:nvCxnSpPr>
        <p:spPr>
          <a:xfrm>
            <a:off x="6642720" y="6214680"/>
            <a:ext cx="500760" cy="50076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99" name="Прямая соединительная линия 62"/>
          <p:cNvSpPr/>
          <p:nvPr/>
        </p:nvSpPr>
        <p:spPr>
          <a:xfrm>
            <a:off x="2000160" y="5643720"/>
            <a:ext cx="1857600" cy="6429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7"/>
          <p:cNvSpPr/>
          <p:nvPr/>
        </p:nvSpPr>
        <p:spPr>
          <a:xfrm flipH="1">
            <a:off x="3357720" y="5286240"/>
            <a:ext cx="1440" cy="1285920"/>
          </a:xfrm>
          <a:prstGeom prst="line">
            <a:avLst/>
          </a:prstGeom>
          <a:ln w="9360">
            <a:solidFill>
              <a:srgbClr val="3891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93"/>
          <p:cNvSpPr/>
          <p:nvPr/>
        </p:nvSpPr>
        <p:spPr>
          <a:xfrm flipH="1" flipV="1">
            <a:off x="5572080" y="5572080"/>
            <a:ext cx="1857600" cy="6429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95"/>
          <p:cNvSpPr/>
          <p:nvPr/>
        </p:nvSpPr>
        <p:spPr>
          <a:xfrm flipH="1">
            <a:off x="6143760" y="5357880"/>
            <a:ext cx="1440" cy="1285920"/>
          </a:xfrm>
          <a:prstGeom prst="line">
            <a:avLst/>
          </a:prstGeom>
          <a:ln w="9360">
            <a:solidFill>
              <a:srgbClr val="3891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Солнце 66"/>
          <p:cNvSpPr/>
          <p:nvPr/>
        </p:nvSpPr>
        <p:spPr>
          <a:xfrm>
            <a:off x="5572080" y="1500120"/>
            <a:ext cx="271440" cy="285840"/>
          </a:xfrm>
          <a:prstGeom prst="sun">
            <a:avLst>
              <a:gd name="adj" fmla="val 25000"/>
            </a:avLst>
          </a:prstGeom>
          <a:solidFill>
            <a:srgbClr val="f88631"/>
          </a:solidFill>
          <a:ln w="25560">
            <a:solidFill>
              <a:srgbClr val="f88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олнце 64"/>
          <p:cNvSpPr/>
          <p:nvPr/>
        </p:nvSpPr>
        <p:spPr>
          <a:xfrm>
            <a:off x="1000080" y="1500120"/>
            <a:ext cx="271440" cy="285840"/>
          </a:xfrm>
          <a:prstGeom prst="sun">
            <a:avLst>
              <a:gd name="adj" fmla="val 25000"/>
            </a:avLst>
          </a:prstGeom>
          <a:solidFill>
            <a:srgbClr val="f88631"/>
          </a:solidFill>
          <a:ln w="25560">
            <a:solidFill>
              <a:srgbClr val="f88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строение изображения точки, не лежащей на главной оптической ос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Собирающая лин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8000"/>
          </a:bodyPr>
          <a:p>
            <a:pPr marL="55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Рассеивающая лин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000080"/>
            <a:ext cx="4022640" cy="408456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5000"/>
          </a:bodyPr>
          <a:p>
            <a:pPr marL="37224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Строим луч, проходящий через оптический центр линз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Строим  ход луча, падающего на линзу параллельно главной оптической ос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Достраиваем полученное изображение точ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6000"/>
          </a:bodyPr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Строим луч, проходящий через оптический центр линз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Строим  ход луча, падающего на линзу параллельно главной оптической ос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2223"/>
                </a:solidFill>
                <a:latin typeface="Corbel"/>
              </a:rPr>
              <a:t>Достраиваем полученное изображение точ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20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Прямая соединительная линия 7"/>
          <p:cNvSpPr/>
          <p:nvPr/>
        </p:nvSpPr>
        <p:spPr>
          <a:xfrm>
            <a:off x="785880" y="2143080"/>
            <a:ext cx="3429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11"/>
          <p:cNvCxnSpPr/>
          <p:nvPr/>
        </p:nvCxnSpPr>
        <p:spPr>
          <a:xfrm flipH="1">
            <a:off x="2356560" y="1285920"/>
            <a:ext cx="1080" cy="1643760"/>
          </a:xfrm>
          <a:prstGeom prst="straightConnector1">
            <a:avLst/>
          </a:prstGeom>
          <a:ln w="1908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12" name="Прямая со стрелкой 15"/>
          <p:cNvCxnSpPr/>
          <p:nvPr/>
        </p:nvCxnSpPr>
        <p:spPr>
          <a:xfrm>
            <a:off x="1642680" y="2142720"/>
            <a:ext cx="1429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413" name="Прямая со стрелкой 19"/>
          <p:cNvCxnSpPr/>
          <p:nvPr/>
        </p:nvCxnSpPr>
        <p:spPr>
          <a:xfrm>
            <a:off x="1142640" y="1642680"/>
            <a:ext cx="3337560" cy="139932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14" name="Прямая со стрелкой 27"/>
          <p:cNvCxnSpPr/>
          <p:nvPr/>
        </p:nvCxnSpPr>
        <p:spPr>
          <a:xfrm>
            <a:off x="1143000" y="1642680"/>
            <a:ext cx="1249920" cy="108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15" name="Прямая со стрелкой 29"/>
          <p:cNvCxnSpPr/>
          <p:nvPr/>
        </p:nvCxnSpPr>
        <p:spPr>
          <a:xfrm>
            <a:off x="2356920" y="1642680"/>
            <a:ext cx="2072520" cy="150084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416" name="Прямая соединительная линия 14"/>
          <p:cNvSpPr/>
          <p:nvPr/>
        </p:nvSpPr>
        <p:spPr>
          <a:xfrm>
            <a:off x="5000760" y="2143080"/>
            <a:ext cx="3429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Прямая со стрелкой 16"/>
          <p:cNvCxnSpPr/>
          <p:nvPr/>
        </p:nvCxnSpPr>
        <p:spPr>
          <a:xfrm flipH="1">
            <a:off x="2356560" y="1285920"/>
            <a:ext cx="1080" cy="1642320"/>
          </a:xfrm>
          <a:prstGeom prst="straightConnector1">
            <a:avLst/>
          </a:prstGeom>
          <a:ln w="1908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18" name="Прямая со стрелкой 20"/>
          <p:cNvCxnSpPr/>
          <p:nvPr/>
        </p:nvCxnSpPr>
        <p:spPr>
          <a:xfrm flipH="1">
            <a:off x="6643440" y="1571400"/>
            <a:ext cx="2160" cy="1215000"/>
          </a:xfrm>
          <a:prstGeom prst="straightConnector1">
            <a:avLst/>
          </a:prstGeom>
          <a:ln w="19080">
            <a:solidFill>
              <a:srgbClr val="3891a7"/>
            </a:solidFill>
            <a:miter/>
          </a:ln>
        </p:spPr>
      </p:cxnSp>
      <p:cxnSp>
        <p:nvCxnSpPr>
          <p:cNvPr id="419" name="Прямая со стрелкой 28"/>
          <p:cNvCxnSpPr/>
          <p:nvPr/>
        </p:nvCxnSpPr>
        <p:spPr>
          <a:xfrm flipH="1">
            <a:off x="6643440" y="1499760"/>
            <a:ext cx="2160" cy="7236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0" name="Прямая со стрелкой 40"/>
          <p:cNvCxnSpPr/>
          <p:nvPr/>
        </p:nvCxnSpPr>
        <p:spPr>
          <a:xfrm flipV="1">
            <a:off x="6643800" y="2785320"/>
            <a:ext cx="2160" cy="7236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1" name="Прямая со стрелкой 44"/>
          <p:cNvCxnSpPr/>
          <p:nvPr/>
        </p:nvCxnSpPr>
        <p:spPr>
          <a:xfrm>
            <a:off x="5928840" y="2142720"/>
            <a:ext cx="1429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422" name="Прямая со стрелкой 46"/>
          <p:cNvCxnSpPr/>
          <p:nvPr/>
        </p:nvCxnSpPr>
        <p:spPr>
          <a:xfrm flipV="1">
            <a:off x="5713920" y="1642320"/>
            <a:ext cx="965880" cy="108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23" name="Прямая со стрелкой 49"/>
          <p:cNvCxnSpPr/>
          <p:nvPr/>
        </p:nvCxnSpPr>
        <p:spPr>
          <a:xfrm>
            <a:off x="5715000" y="1643040"/>
            <a:ext cx="2394720" cy="128664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24" name="Прямая со стрелкой 52"/>
          <p:cNvCxnSpPr/>
          <p:nvPr/>
        </p:nvCxnSpPr>
        <p:spPr>
          <a:xfrm flipV="1">
            <a:off x="5928840" y="1642320"/>
            <a:ext cx="715320" cy="500760"/>
          </a:xfrm>
          <a:prstGeom prst="straightConnector1">
            <a:avLst/>
          </a:prstGeom>
          <a:ln w="19080">
            <a:solidFill>
              <a:srgbClr val="c32d2e"/>
            </a:solidFill>
            <a:prstDash val="dash"/>
            <a:miter/>
          </a:ln>
        </p:spPr>
      </p:cxnSp>
      <p:cxnSp>
        <p:nvCxnSpPr>
          <p:cNvPr id="425" name="Прямая со стрелкой 55"/>
          <p:cNvCxnSpPr/>
          <p:nvPr/>
        </p:nvCxnSpPr>
        <p:spPr>
          <a:xfrm flipV="1">
            <a:off x="6643800" y="1142280"/>
            <a:ext cx="714960" cy="50076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426" name="Солнце 26"/>
          <p:cNvSpPr/>
          <p:nvPr/>
        </p:nvSpPr>
        <p:spPr>
          <a:xfrm flipH="1">
            <a:off x="3857040" y="2714760"/>
            <a:ext cx="293400" cy="285480"/>
          </a:xfrm>
          <a:prstGeom prst="sun">
            <a:avLst>
              <a:gd name="adj" fmla="val 25000"/>
            </a:avLst>
          </a:prstGeom>
          <a:solidFill>
            <a:srgbClr val="f88631">
              <a:alpha val="49000"/>
            </a:srgbClr>
          </a:solidFill>
          <a:ln w="25560">
            <a:solidFill>
              <a:srgbClr val="f8863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олнце 32"/>
          <p:cNvSpPr/>
          <p:nvPr/>
        </p:nvSpPr>
        <p:spPr>
          <a:xfrm flipH="1">
            <a:off x="6072120" y="1785960"/>
            <a:ext cx="293760" cy="285840"/>
          </a:xfrm>
          <a:prstGeom prst="sun">
            <a:avLst>
              <a:gd name="adj" fmla="val 25000"/>
            </a:avLst>
          </a:prstGeom>
          <a:solidFill>
            <a:srgbClr val="f88631">
              <a:alpha val="48000"/>
            </a:srgbClr>
          </a:solidFill>
          <a:ln w="25560">
            <a:solidFill>
              <a:srgbClr val="f88631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строение изображения точки,  лежащей на главной оптической ос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Собирающая лин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8000"/>
          </a:bodyPr>
          <a:p>
            <a:pPr marL="55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Рассеивающая лин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969480"/>
            <a:ext cx="4022640" cy="4673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8000"/>
          </a:bodyPr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Строим луч, параллельный главной оптической оси (в данном случае он идет вдоль главной оптической  оси)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Строим произвольный луч, падающий от точки на линзу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Изображаем побочную оптическую ось, параллельную построенному лучу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Изображаем фокальную плоскость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Строим ход преломленного луча, для этого соединяем точку падения  произвольного луча на линзу и точку пересечения побочной оптической оси с фокальной плоскостью 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22223"/>
                </a:solidFill>
                <a:latin typeface="Corbel"/>
              </a:rPr>
              <a:t>Строим изображение точки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84120" indent="-26712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64160" y="969480"/>
            <a:ext cx="4022640" cy="4673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Строим луч, параллельный главной оптической оси (в данном случае он идет вдоль главной оптической  оси)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Строим произвольный луч, падающий от точки на линзу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Изображаем побочную оптическую ось, параллельную построенному лучу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Изображаем фокальную плоскость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Строим ход преломленного луча, для этого соединяем точку падения  произвольного луча на линзу и точку пересечения побочной оптической оси с фокальной плоскостью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2223"/>
                </a:solidFill>
                <a:latin typeface="Corbel"/>
              </a:rPr>
              <a:t>Строим изображение точки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Прямая соединительная линия 6"/>
          <p:cNvSpPr/>
          <p:nvPr/>
        </p:nvSpPr>
        <p:spPr>
          <a:xfrm>
            <a:off x="428760" y="2143080"/>
            <a:ext cx="407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Прямая со стрелкой 7"/>
          <p:cNvCxnSpPr/>
          <p:nvPr/>
        </p:nvCxnSpPr>
        <p:spPr>
          <a:xfrm flipH="1">
            <a:off x="2356560" y="1285920"/>
            <a:ext cx="1080" cy="1642320"/>
          </a:xfrm>
          <a:prstGeom prst="straightConnector1">
            <a:avLst/>
          </a:prstGeom>
          <a:ln w="1908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5" name="Прямая со стрелкой 8"/>
          <p:cNvCxnSpPr/>
          <p:nvPr/>
        </p:nvCxnSpPr>
        <p:spPr>
          <a:xfrm>
            <a:off x="1642680" y="2142720"/>
            <a:ext cx="1429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436" name="Солнце 9"/>
          <p:cNvSpPr/>
          <p:nvPr/>
        </p:nvSpPr>
        <p:spPr>
          <a:xfrm>
            <a:off x="785880" y="2000160"/>
            <a:ext cx="271440" cy="285840"/>
          </a:xfrm>
          <a:prstGeom prst="sun">
            <a:avLst>
              <a:gd name="adj" fmla="val 30833"/>
            </a:avLst>
          </a:prstGeom>
          <a:solidFill>
            <a:srgbClr val="f88631"/>
          </a:solidFill>
          <a:ln w="25560">
            <a:solidFill>
              <a:srgbClr val="f88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V="1">
            <a:off x="928440" y="1642320"/>
            <a:ext cx="1464120" cy="50076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438" name="Прямая соединительная линия 13"/>
          <p:cNvSpPr/>
          <p:nvPr/>
        </p:nvSpPr>
        <p:spPr>
          <a:xfrm flipV="1">
            <a:off x="1143000" y="1785600"/>
            <a:ext cx="2214720" cy="7858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25"/>
          <p:cNvSpPr/>
          <p:nvPr/>
        </p:nvSpPr>
        <p:spPr>
          <a:xfrm flipH="1">
            <a:off x="3069720" y="1071720"/>
            <a:ext cx="1800" cy="1928520"/>
          </a:xfrm>
          <a:prstGeom prst="line">
            <a:avLst/>
          </a:prstGeom>
          <a:ln w="9360">
            <a:solidFill>
              <a:srgbClr val="3891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Прямая со стрелкой 26"/>
          <p:cNvCxnSpPr/>
          <p:nvPr/>
        </p:nvCxnSpPr>
        <p:spPr>
          <a:xfrm>
            <a:off x="2356920" y="1643040"/>
            <a:ext cx="2072520" cy="71496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441" name="Солнце 35"/>
          <p:cNvSpPr/>
          <p:nvPr/>
        </p:nvSpPr>
        <p:spPr>
          <a:xfrm>
            <a:off x="3643200" y="2000160"/>
            <a:ext cx="271440" cy="285840"/>
          </a:xfrm>
          <a:prstGeom prst="sun">
            <a:avLst>
              <a:gd name="adj" fmla="val 25000"/>
            </a:avLst>
          </a:prstGeom>
          <a:solidFill>
            <a:srgbClr val="f88631">
              <a:alpha val="50000"/>
            </a:srgbClr>
          </a:solidFill>
          <a:ln w="25560">
            <a:solidFill>
              <a:srgbClr val="f88631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Прямая со стрелкой 36"/>
          <p:cNvCxnSpPr/>
          <p:nvPr/>
        </p:nvCxnSpPr>
        <p:spPr>
          <a:xfrm>
            <a:off x="928800" y="2142720"/>
            <a:ext cx="3358080" cy="252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43" name="Прямая со стрелкой 43"/>
          <p:cNvCxnSpPr/>
          <p:nvPr/>
        </p:nvCxnSpPr>
        <p:spPr>
          <a:xfrm flipV="1">
            <a:off x="6643800" y="2785320"/>
            <a:ext cx="2160" cy="7236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44"/>
          <p:cNvCxnSpPr/>
          <p:nvPr/>
        </p:nvCxnSpPr>
        <p:spPr>
          <a:xfrm flipH="1">
            <a:off x="6643440" y="1499760"/>
            <a:ext cx="2160" cy="7236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45"/>
          <p:cNvCxnSpPr/>
          <p:nvPr/>
        </p:nvCxnSpPr>
        <p:spPr>
          <a:xfrm flipH="1">
            <a:off x="6643440" y="1571400"/>
            <a:ext cx="2160" cy="1215000"/>
          </a:xfrm>
          <a:prstGeom prst="straightConnector1">
            <a:avLst/>
          </a:prstGeom>
          <a:ln w="19080">
            <a:solidFill>
              <a:srgbClr val="3891a7"/>
            </a:solidFill>
            <a:miter/>
          </a:ln>
        </p:spPr>
      </p:cxnSp>
      <p:sp>
        <p:nvSpPr>
          <p:cNvPr id="446" name="Прямая соединительная линия 46"/>
          <p:cNvSpPr/>
          <p:nvPr/>
        </p:nvSpPr>
        <p:spPr>
          <a:xfrm>
            <a:off x="5000760" y="2143080"/>
            <a:ext cx="3429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Прямая со стрелкой 47"/>
          <p:cNvCxnSpPr/>
          <p:nvPr/>
        </p:nvCxnSpPr>
        <p:spPr>
          <a:xfrm>
            <a:off x="5928840" y="2142720"/>
            <a:ext cx="1429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448" name="Солнце 48"/>
          <p:cNvSpPr/>
          <p:nvPr/>
        </p:nvSpPr>
        <p:spPr>
          <a:xfrm>
            <a:off x="5214960" y="2000160"/>
            <a:ext cx="271440" cy="285840"/>
          </a:xfrm>
          <a:prstGeom prst="sun">
            <a:avLst>
              <a:gd name="adj" fmla="val 34847"/>
            </a:avLst>
          </a:prstGeom>
          <a:solidFill>
            <a:srgbClr val="f88631"/>
          </a:solidFill>
          <a:ln w="25560">
            <a:solidFill>
              <a:srgbClr val="f88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олнце 49"/>
          <p:cNvSpPr/>
          <p:nvPr/>
        </p:nvSpPr>
        <p:spPr>
          <a:xfrm>
            <a:off x="6072120" y="2000160"/>
            <a:ext cx="271440" cy="276480"/>
          </a:xfrm>
          <a:prstGeom prst="sun">
            <a:avLst>
              <a:gd name="adj" fmla="val 34847"/>
            </a:avLst>
          </a:prstGeom>
          <a:solidFill>
            <a:srgbClr val="f88631">
              <a:alpha val="62000"/>
            </a:srgbClr>
          </a:solidFill>
          <a:ln w="25560">
            <a:solidFill>
              <a:srgbClr val="f88631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50"/>
          <p:cNvSpPr/>
          <p:nvPr/>
        </p:nvSpPr>
        <p:spPr>
          <a:xfrm flipV="1">
            <a:off x="5500800" y="1785600"/>
            <a:ext cx="2214360" cy="7858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51"/>
          <p:cNvSpPr/>
          <p:nvPr/>
        </p:nvSpPr>
        <p:spPr>
          <a:xfrm flipH="1">
            <a:off x="5928840" y="1143000"/>
            <a:ext cx="1800" cy="1643040"/>
          </a:xfrm>
          <a:prstGeom prst="line">
            <a:avLst/>
          </a:prstGeom>
          <a:ln w="9360">
            <a:solidFill>
              <a:srgbClr val="3891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Прямая со стрелкой 52"/>
          <p:cNvCxnSpPr/>
          <p:nvPr/>
        </p:nvCxnSpPr>
        <p:spPr>
          <a:xfrm>
            <a:off x="5357520" y="2142720"/>
            <a:ext cx="2786760" cy="252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53" name="Прямая со стрелкой 54"/>
          <p:cNvCxnSpPr/>
          <p:nvPr/>
        </p:nvCxnSpPr>
        <p:spPr>
          <a:xfrm flipV="1">
            <a:off x="5357880" y="1714320"/>
            <a:ext cx="1286640" cy="42912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  <p:cxnSp>
        <p:nvCxnSpPr>
          <p:cNvPr id="454" name="Прямая со стрелкой 56"/>
          <p:cNvCxnSpPr/>
          <p:nvPr/>
        </p:nvCxnSpPr>
        <p:spPr>
          <a:xfrm flipV="1">
            <a:off x="5928120" y="1714320"/>
            <a:ext cx="715320" cy="714960"/>
          </a:xfrm>
          <a:prstGeom prst="straightConnector1">
            <a:avLst/>
          </a:prstGeom>
          <a:ln w="19080">
            <a:solidFill>
              <a:srgbClr val="c32d2e"/>
            </a:solidFill>
            <a:prstDash val="dash"/>
            <a:miter/>
          </a:ln>
        </p:spPr>
      </p:cxnSp>
      <p:cxnSp>
        <p:nvCxnSpPr>
          <p:cNvPr id="455" name="Прямая со стрелкой 58"/>
          <p:cNvCxnSpPr/>
          <p:nvPr/>
        </p:nvCxnSpPr>
        <p:spPr>
          <a:xfrm flipV="1">
            <a:off x="6642720" y="856800"/>
            <a:ext cx="857880" cy="858240"/>
          </a:xfrm>
          <a:prstGeom prst="straightConnector1">
            <a:avLst/>
          </a:prstGeom>
          <a:ln w="19080">
            <a:solidFill>
              <a:srgbClr val="c32d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Типы изображений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7" name="Содержимое 5" descr=""/>
          <p:cNvPicPr/>
          <p:nvPr/>
        </p:nvPicPr>
        <p:blipFill>
          <a:blip r:embed="rId1"/>
          <a:stretch/>
        </p:blipFill>
        <p:spPr>
          <a:xfrm>
            <a:off x="993600" y="1006560"/>
            <a:ext cx="8017200" cy="5870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D:\my documents\anna\Мои результаты сканирования\2008-08 (авг)\сканирование0005.jpg"/>
          <p:cNvPicPr/>
          <p:nvPr/>
        </p:nvPicPr>
        <p:blipFill>
          <a:blip r:embed="rId2"/>
          <a:stretch/>
        </p:blipFill>
        <p:spPr>
          <a:xfrm>
            <a:off x="4643280" y="4429080"/>
            <a:ext cx="785880" cy="1071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D:\my documents\anna\Мои результаты сканирования\2008-08 (авг)\сканирование0005.jpg"/>
          <p:cNvPicPr/>
          <p:nvPr/>
        </p:nvPicPr>
        <p:blipFill>
          <a:blip r:embed="rId3"/>
          <a:stretch/>
        </p:blipFill>
        <p:spPr>
          <a:xfrm>
            <a:off x="3429000" y="5214960"/>
            <a:ext cx="785880" cy="1071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D:\my documents\anna\Мои результаты сканирования\2008-08 (авг)\сканирование0005.jpg"/>
          <p:cNvPicPr/>
          <p:nvPr/>
        </p:nvPicPr>
        <p:blipFill>
          <a:blip r:embed="rId4"/>
          <a:stretch/>
        </p:blipFill>
        <p:spPr>
          <a:xfrm>
            <a:off x="2643120" y="5429160"/>
            <a:ext cx="357120" cy="571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D:\my documents\anna\Мои результаты сканирования\2008-08 (авг)\сканирование0005.jpg"/>
          <p:cNvPicPr/>
          <p:nvPr/>
        </p:nvPicPr>
        <p:blipFill>
          <a:blip r:embed="rId5"/>
          <a:stretch/>
        </p:blipFill>
        <p:spPr>
          <a:xfrm>
            <a:off x="1214280" y="5000760"/>
            <a:ext cx="1071720" cy="1714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D:\my documents\anna\Мои результаты сканирования\2008-08 (авг)\сканирование0005.jpg"/>
          <p:cNvPicPr/>
          <p:nvPr/>
        </p:nvPicPr>
        <p:blipFill>
          <a:blip r:embed="rId6"/>
          <a:stretch/>
        </p:blipFill>
        <p:spPr>
          <a:xfrm>
            <a:off x="7429680" y="5214960"/>
            <a:ext cx="785520" cy="1214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D:\my documents\anna\Мои результаты сканирования\2008-08 (авг)\сканирование0005.jpg"/>
          <p:cNvPicPr/>
          <p:nvPr/>
        </p:nvPicPr>
        <p:blipFill>
          <a:blip r:embed="rId7"/>
          <a:stretch/>
        </p:blipFill>
        <p:spPr>
          <a:xfrm>
            <a:off x="6215040" y="5214960"/>
            <a:ext cx="785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5:34:13Z</dcterms:created>
  <dc:creator>Анечка</dc:creator>
  <dc:description/>
  <dc:language>en-US</dc:language>
  <cp:lastModifiedBy>User</cp:lastModifiedBy>
  <dcterms:modified xsi:type="dcterms:W3CDTF">2013-09-24T13:02:05Z</dcterms:modified>
  <cp:revision>62</cp:revision>
  <dc:subject/>
  <dc:title>Линзы.  Правила построения изображений, даваемых линзой</dc:title>
</cp:coreProperties>
</file>