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2767-323C-4A68-9180-74929093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BBE0-EC5E-48A9-B8E3-4F3DEEF2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84DB-DDAF-4C6D-9729-DDC56273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6431-7046-4974-BFC6-FA7EF5A5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D2DB-AE06-442C-8E72-830B1AB1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F4C3-78D8-4741-A9D2-FAE95971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9E97-B9BA-45FA-9BC2-62488A37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111E-C92D-44C8-BF52-958BE47D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A3CE-9D65-49E3-8FCC-C8A8C4ED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10A7-CD17-4CD7-B00D-3AC30791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6543-43DB-42D6-B694-8F070CDB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7EED-85F9-478A-90AC-4F579568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6960-500F-4D1A-AB80-103195D3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755C-1B67-4166-B8F6-33EE1258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72A3-DAA2-4A41-986F-02641B46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812E-6CD4-403A-B20A-F1AE19AC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EB80-EF5B-4EAB-BAAD-451E1287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2769-4994-40BF-A3BB-9C052C65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8F9D-1740-4DB7-8896-399D7C41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8F9-24C8-4F98-A116-D166A529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6BDA-463E-4FC5-ACCE-E5042358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536B-5EB9-41CE-8F9B-F1BC5C88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1E4F-04CA-4EFF-9124-4C7759B8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F178-4F3D-4255-8AC4-3D295C20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B2BD-8831-4BD9-ACE9-72FD5CE6542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E923-7183-4D0A-9D4F-7A664143ED5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2349000"/>
            <a:ext cx="74880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Нестандартные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задачи</a:t>
            </a:r>
            <a:endParaRPr b="0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Берег, где находятся колхозники – А, другой берег – Б. Вначале оба мальчика переправляются на берег Б и один из них остается на нем. Второй мальчик доставляет лодку обратно, а сам высаживается  на берег А. В лодку садится один колхозник и переправляется через реку. Затем мальчик, оставшийся, на берегу Б, приводит лодку к берегу А, сажает на него второго мальчика и так дале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Развлечения и викторин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Задача 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Два отца и два сына разделили между собой три апельсина, что каждому досталось по одному апельсину. Как это могло случитьс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Ответ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Было три человека: отец, сын и дед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4152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Задача 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В каждом из четырех углов комнаты сидит кошка. Напротив каждой из этих кошек сидят три кошки. Сколько всего в этой комнате кошек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Ответ: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4 кош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69608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Задача 3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У отца шесть сыновей. Каждый сын имеет сестру. Сколько всего детей у отц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Ответ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Задача 4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Летела стая уток. Одна впереди и две позади, одна позади и две впереди, одна между двумя и три в ряд. Сколько летело уток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Ответ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Задача 5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На одном дереве сидели 40 сорок. Проходил охотник, выстрелил и убил 6 сорок. Сколько сорок осталось на дерев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Ответ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Ни одной, т.к. шесть убиты и упали на землю, а остальные улете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6960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Задача 6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В одной комнате три дочки и три их мамы, всего 4 женщины. В каком они родств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Ответ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дочь, мать, бабушка и прабабуш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Задача в стих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Жуки и пау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У меня водной коробке есть жу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И еще в одной коробке пау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Мало их, в одну минуту можно счесть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Пауков с жуками вместе -  только ше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Стал считаться в двух коробках, сколько н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Очень долго сосчитать я их не м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Оказалось, ног немало – сорок две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Ну, скажи теперь мне, сколько тут жуков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И еще сочти отдельно паук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Задача на наблюдательн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колько здесь треугольников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1042920" y="2708280"/>
            <a:ext cx="2808360" cy="2232000"/>
          </a:xfrm>
          <a:prstGeom prst="star5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042920" y="2707920"/>
            <a:ext cx="144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2708280"/>
            <a:ext cx="13669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42920" y="3573360"/>
            <a:ext cx="5763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19280" y="49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276720" y="3573000"/>
            <a:ext cx="5745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50920" y="35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908000" y="357336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8000" y="4076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484360" y="407628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24000" y="3573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71640" y="357336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4360" y="4508640"/>
            <a:ext cx="3456000" cy="1081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8000" y="4508640"/>
            <a:ext cx="1150920" cy="5047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3348000" y="5013000"/>
            <a:ext cx="1152720" cy="57636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4508640"/>
            <a:ext cx="1150920" cy="5047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4500360" y="5013000"/>
            <a:ext cx="1152360" cy="57636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51640" y="4508640"/>
            <a:ext cx="1150920" cy="5047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0800000">
            <a:off x="5651280" y="5013000"/>
            <a:ext cx="1152360" cy="57636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4508640"/>
            <a:ext cx="1150920" cy="5047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0800000">
            <a:off x="6804000" y="5013000"/>
            <a:ext cx="1152720" cy="57636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24360" y="4508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80360" y="4508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Comic Sans MS"/>
              </a:rPr>
              <a:t>Задачи «Концовки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. Если Саша по росту равен Пете, то Петя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2. Если Катя стоит левее Тани, то Таня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. Коля и Петя живут в соседних домах. Идя в школу, Коля вышел из дома одновременно с Петей, значит, Петя вышел из дома…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0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1. То Петя по росту равен Саш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2. То Таня стоит правее Ка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3. Петя вышел из дома одновременно с Кол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Задача «Смекалк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Как разъехаться разным поездам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В районе лесоразработок проходит одноколейная железная дорога. Однажды понадобилось пропустить по ней с двух сторон по два встречных соста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На дороге лишь один разъезд, вмещающий только один из этих состав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Как разъехаться поездам, чтобы каждому продолжить свой путь дальше по своему маршруту, если на основной линии между входом и выходом на разъезд вмещается тоже только один состав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7658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Решени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Состав №1 входит на линию разъезда, а в это время составы №3 и №4 проходят по основному пути направо за разъезд и останавливаются перед составом №2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Состав №1 выходит с линии разъезда налево и отправляется по своему назначени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Теперь составы №3 и №4 идут налево, освобождают вход на разъезд поезду №2. Состав №2 входит в разъезд, а составы №3 и №4 в это время по прямому пути отправляются направо по своему маршруту. Наконец состав №2 выходит с разъезда влево и отправляется вслед за поездом №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69456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Логическая задач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989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Коля, Боря, Вова и Юра заняли первые четыре места в соревновании, причем никакие два мальчика не делили между собой одно и то же место. На вопрос, какие места заняли ребята, трое ответили: Коля – не первое и не четвертое; Боря – второе; Вова – не был последним. Какое место занял каждый из мальчиков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Ответ на задач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Боря занял 2-е место; Коля – не 1-е, не 4-е, не 2-е, т.е. – 3-е. Так как Вова не на последнем месте, то он занял 1-е. значит, Юра – на 4-м мест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Головолом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Можно ли 5 яблок разделить между 6 мальчиками поровну так, чтобы не пришлось ни одного яблока резать больше, чем на три част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Ответ: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Каждый должен получить 5/6 яблока, но 5/6 = ½ + 1/3, значит, каждому нужно дать половину яблока и третью ча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Затруднительное поло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Четырем колхозникам нужно было переправиться через реку. Подойдя к ней, они увидели небольшую лодку, в которой плыли два мальчика. Колхозники попросили мальчиков перевезти их через реку, но оказалось, что в лодку могут сесть только два мальчика или даже один взрослый. Мальчикам очень хотелось помочь колхозникам, и они придумали, как это сделать. Через некоторое время колхозники на этой лодке переправились через реку. Что же придумали мальчик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0:14:24Z</dcterms:created>
  <dc:creator>Валентина</dc:creator>
  <dc:description/>
  <dc:language>en-US</dc:language>
  <cp:lastModifiedBy>Юлия и Дмитрий</cp:lastModifiedBy>
  <dcterms:modified xsi:type="dcterms:W3CDTF">2009-01-25T11:51:10Z</dcterms:modified>
  <cp:revision>8</cp:revision>
  <dc:subject/>
  <dc:title>Нестандартные  задачи</dc:title>
</cp:coreProperties>
</file>