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applause.wav" ContentType="audio/x-wav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19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1.jpeg" ContentType="image/jpeg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A21-04D9-4576-938D-227FDFBF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16E-FF22-4235-9B61-E1E09A50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8C6-5E2C-44F8-BA03-B77772D3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35C-5033-4755-B6A7-203CA16D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D927-056B-4ABB-A45E-60D6EDC2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2420-47AA-4FB1-AFFA-23854A1D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6244-B67A-4D01-86DF-A0667007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95FF-3CB8-43F0-9092-BB13BD71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A9C8-C0CB-4735-BFCC-F63C321A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CEAE-069B-4CF0-BCD2-2D4527B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614A-6E37-4903-829C-9039F67D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009-534D-4D37-8C92-11F220D6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6E93-6856-4F4E-8279-F04D4CF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1966-07E0-47DA-9226-28FB4C5E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6D41-BF80-4934-B950-0CE17332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65CF-8CB6-4A8B-9F0A-C00E48C8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F21C-A939-40E6-B26A-811794E5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32B-67B9-4335-8EB9-B0004B9C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F06-D90F-488B-AEAD-31093F4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778-77BC-494F-8A12-7C9A9B58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A7D-EBF9-496B-8BD3-AB2F6327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822-ADD9-4A62-A0F2-DD3575D2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150-A523-404A-9A78-C96FBC76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EA1-CA1D-4C62-8375-A2A16303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F83E-30DC-4327-B325-792EA86EF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05C3-2264-4827-A759-39994403948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5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"/>
              </a:rPr>
              <a:t>Обобщающий урок в 5-м классе по теме: «ФОРМУЛ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8520" y="276336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30829" t="29200" r="25483" b="17231"/>
          <a:stretch/>
        </p:blipFill>
        <p:spPr>
          <a:xfrm>
            <a:off x="6416640" y="3340080"/>
            <a:ext cx="2727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20760" y="235080"/>
            <a:ext cx="85068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68480" y="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300400" y="907920"/>
            <a:ext cx="684360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чень сильный шторм нанёс разрушения на площади, имеющей форму прямоугольника размерами 1200м на 1750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йти площадь разрушенного уча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338560" y="5037120"/>
            <a:ext cx="68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750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 0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338560" y="5661000"/>
            <a:ext cx="68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 площад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разрушенного уча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341000" y="974880"/>
            <a:ext cx="79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354680" y="6154560"/>
            <a:ext cx="78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050120" y="5175360"/>
            <a:ext cx="123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a+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243800" y="3081240"/>
            <a:ext cx="938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569880" y="4253040"/>
            <a:ext cx="1819440" cy="7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олн.по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ас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1051560" y="3703680"/>
            <a:ext cx="1194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(ab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983160" y="1550880"/>
            <a:ext cx="1258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2(a+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1395000" y="2044800"/>
            <a:ext cx="723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1462320" y="5672160"/>
            <a:ext cx="726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1220400" y="2544840"/>
            <a:ext cx="87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1308960" y="430200"/>
            <a:ext cx="90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1" descr="00044157"/>
          <p:cNvPicPr/>
          <p:nvPr/>
        </p:nvPicPr>
        <p:blipFill>
          <a:blip r:embed="rId1"/>
          <a:stretch/>
        </p:blipFill>
        <p:spPr>
          <a:xfrm>
            <a:off x="7464600" y="3951360"/>
            <a:ext cx="14936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2.39593E-006 C 0.03039 0.1938 0.06077 0.38783 0.13369 0.4741 C 0.20661 0.56036 0.32206 0.53885 0.43768 0.51734 E">
                                      <p:cBhvr>
                                        <p:cTn id="493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4" descr="1245218"/>
          <p:cNvPicPr/>
          <p:nvPr/>
        </p:nvPicPr>
        <p:blipFill>
          <a:blip r:embed="rId1"/>
          <a:stretch/>
        </p:blipFill>
        <p:spPr>
          <a:xfrm>
            <a:off x="2655720" y="4897440"/>
            <a:ext cx="2387880" cy="15908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98440" y="23508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6160" y="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300400" y="907920"/>
            <a:ext cx="684360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мобиль «Рено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 3 часа может проехать 360 км. Бескрылая птица страус – лучший бегун в мире - развивает скорость до 120 км/ч. Сравните скор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ауса и автомоби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259240" y="4924440"/>
            <a:ext cx="388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корость автомоб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5200560" y="601812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и рав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4"/>
          <p:cNvPicPr/>
          <p:nvPr/>
        </p:nvPicPr>
        <p:blipFill>
          <a:blip r:embed="rId2"/>
          <a:srcRect l="0" t="8320" r="0" b="8320"/>
          <a:stretch/>
        </p:blipFill>
        <p:spPr>
          <a:xfrm>
            <a:off x="7157880" y="279360"/>
            <a:ext cx="1833840" cy="1146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3"/>
          <p:cNvSpPr/>
          <p:nvPr/>
        </p:nvSpPr>
        <p:spPr>
          <a:xfrm>
            <a:off x="1341000" y="974880"/>
            <a:ext cx="79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1354680" y="6154560"/>
            <a:ext cx="78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050120" y="5175360"/>
            <a:ext cx="123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a+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243800" y="3081240"/>
            <a:ext cx="938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569880" y="4253040"/>
            <a:ext cx="1819440" cy="7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олн.по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ас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051560" y="3703680"/>
            <a:ext cx="1194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(ab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983160" y="1550880"/>
            <a:ext cx="1258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2(a+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395000" y="2044800"/>
            <a:ext cx="723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1462320" y="5672160"/>
            <a:ext cx="726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1219680" y="2544840"/>
            <a:ext cx="844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1308960" y="430200"/>
            <a:ext cx="90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6864E-006 C 0.01268 0.10245 0.02535 0.20513 0.1 0.24954 C 0.17466 0.29417 0.31129 0.28053 0.44809 0.26734 E">
                                      <p:cBhvr>
                                        <p:cTn id="514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6" dur="1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07800" y="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дача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300400" y="907920"/>
            <a:ext cx="6843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олько человек можно разместить в квадрате со стороной 100 м, если на 1 м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мещается 4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338560" y="4675320"/>
            <a:ext cx="6805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. 10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лощадь квад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000 : 4 = 2 500 (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338560" y="5721480"/>
            <a:ext cx="68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в квадрате можно разместит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2 500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341000" y="974880"/>
            <a:ext cx="79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354680" y="6154560"/>
            <a:ext cx="78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050120" y="5175360"/>
            <a:ext cx="123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a+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1243800" y="3081240"/>
            <a:ext cx="938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569880" y="4253040"/>
            <a:ext cx="1819440" cy="7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олн.по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ас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051560" y="3703680"/>
            <a:ext cx="1194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(ab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983160" y="1550880"/>
            <a:ext cx="1258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2(a+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395000" y="2044800"/>
            <a:ext cx="723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462320" y="5672160"/>
            <a:ext cx="726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1220400" y="2544840"/>
            <a:ext cx="87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1308960" y="430200"/>
            <a:ext cx="90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6735E-006 C 0.02084 0.08973 0.04167 0.1797 0.11684 0.23011 C 0.19202 0.28053 0.32136 0.29163 0.4507 0.30273 E">
                                      <p:cBhvr>
                                        <p:cTn id="534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5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309600" y="23508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57320" y="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300400" y="907920"/>
            <a:ext cx="6843600" cy="262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кая кров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ижется по артериям со скоростью 20 см/с. Какой путь она пройдет за 56 секун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338560" y="4322880"/>
            <a:ext cx="68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м 20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2338560" y="5265720"/>
            <a:ext cx="68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11м 20см пройдет кровь з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56 секу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1341000" y="974880"/>
            <a:ext cx="79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1354680" y="6154560"/>
            <a:ext cx="78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050120" y="5175360"/>
            <a:ext cx="123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a+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1243800" y="3081240"/>
            <a:ext cx="938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69880" y="4253040"/>
            <a:ext cx="1819440" cy="7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олн.по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ас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1051560" y="3703680"/>
            <a:ext cx="1194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(ab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983160" y="1550880"/>
            <a:ext cx="1258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2(a+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395000" y="2044800"/>
            <a:ext cx="723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1462320" y="5672160"/>
            <a:ext cx="726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1220400" y="2544840"/>
            <a:ext cx="87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1308960" y="430200"/>
            <a:ext cx="90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6.33673E-006 C 0.02865 -0.10616 0.0573 -0.21208 0.12587 -0.26134 C 0.19445 -0.3106 0.30296 -0.3032 0.41164 -0.2958 E">
                                      <p:cBhvr>
                                        <p:cTn id="560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56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320760" y="235080"/>
            <a:ext cx="85068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68480" y="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дача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300400" y="765000"/>
            <a:ext cx="6843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йти площадь четырехугольника АВ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338560" y="5022720"/>
            <a:ext cx="68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(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:2+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(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:2 =4+12+3=19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338560" y="5794200"/>
            <a:ext cx="680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 (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4303800" y="2421000"/>
            <a:ext cx="2466720" cy="95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6794640" y="2444760"/>
            <a:ext cx="973080" cy="928800"/>
          </a:xfrm>
          <a:prstGeom prst="rtTriangl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2"/>
          <p:cNvSpPr/>
          <p:nvPr/>
        </p:nvSpPr>
        <p:spPr>
          <a:xfrm flipH="1">
            <a:off x="3185280" y="2441520"/>
            <a:ext cx="1103400" cy="938160"/>
          </a:xfrm>
          <a:prstGeom prst="rtTriangl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5188320" y="1946160"/>
            <a:ext cx="57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032000" y="1820880"/>
            <a:ext cx="47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2685960" y="3154320"/>
            <a:ext cx="47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6572160" y="1846440"/>
            <a:ext cx="47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7778520" y="3052800"/>
            <a:ext cx="47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4299120" y="2682720"/>
            <a:ext cx="57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3499200" y="3394080"/>
            <a:ext cx="57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6940800" y="3406680"/>
            <a:ext cx="57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1341000" y="974880"/>
            <a:ext cx="79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1354680" y="6154560"/>
            <a:ext cx="78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1050120" y="5175360"/>
            <a:ext cx="123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a+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1243800" y="3081240"/>
            <a:ext cx="938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569880" y="4253040"/>
            <a:ext cx="1819440" cy="7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олн.по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ас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1051560" y="3703680"/>
            <a:ext cx="1194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(ab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983160" y="1550880"/>
            <a:ext cx="1258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2(a+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1395000" y="2044800"/>
            <a:ext cx="723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462320" y="5672160"/>
            <a:ext cx="726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1220400" y="2544840"/>
            <a:ext cx="87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1308960" y="430200"/>
            <a:ext cx="90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9408E-006 C 0.0434 0.05042 0.08681 0.10083 0.18958 0.11054 C 0.29236 0.12026 0.45469 0.0895 0.61701 0.05874 E">
                                      <p:cBhvr>
                                        <p:cTn id="586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58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43201E-006 C 0.24323 0.07678 0.48664 0.15379 0.52466 0.22988 C 0.56268 0.30596 0.39514 0.38113 0.22796 0.45675 E">
                                      <p:cBhvr>
                                        <p:cTn id="599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6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b65"/>
          <p:cNvPicPr/>
          <p:nvPr/>
        </p:nvPicPr>
        <p:blipFill>
          <a:blip r:embed="rId1"/>
          <a:stretch/>
        </p:blipFill>
        <p:spPr>
          <a:xfrm>
            <a:off x="0" y="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b65"/>
          <p:cNvPicPr/>
          <p:nvPr/>
        </p:nvPicPr>
        <p:blipFill>
          <a:blip r:embed="rId2"/>
          <a:stretch/>
        </p:blipFill>
        <p:spPr>
          <a:xfrm>
            <a:off x="3308400" y="251784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b65"/>
          <p:cNvPicPr/>
          <p:nvPr/>
        </p:nvPicPr>
        <p:blipFill>
          <a:blip r:embed="rId3"/>
          <a:stretch/>
        </p:blipFill>
        <p:spPr>
          <a:xfrm>
            <a:off x="5675400" y="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65"/>
          <p:cNvPicPr/>
          <p:nvPr/>
        </p:nvPicPr>
        <p:blipFill>
          <a:blip r:embed="rId4"/>
          <a:stretch/>
        </p:blipFill>
        <p:spPr>
          <a:xfrm>
            <a:off x="3298680" y="253044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b65"/>
          <p:cNvPicPr/>
          <p:nvPr/>
        </p:nvPicPr>
        <p:blipFill>
          <a:blip r:embed="rId5"/>
          <a:stretch/>
        </p:blipFill>
        <p:spPr>
          <a:xfrm>
            <a:off x="0" y="33894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b65"/>
          <p:cNvPicPr/>
          <p:nvPr/>
        </p:nvPicPr>
        <p:blipFill>
          <a:blip r:embed="rId6"/>
          <a:stretch/>
        </p:blipFill>
        <p:spPr>
          <a:xfrm>
            <a:off x="5675400" y="33894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AG00373_"/>
          <p:cNvPicPr/>
          <p:nvPr/>
        </p:nvPicPr>
        <p:blipFill>
          <a:blip r:embed="rId7"/>
          <a:stretch/>
        </p:blipFill>
        <p:spPr>
          <a:xfrm>
            <a:off x="3646440" y="4981680"/>
            <a:ext cx="1652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914400" y="18432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762120" y="-5076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2325600" y="0"/>
            <a:ext cx="6818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иц-турнир.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 = 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ч;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 - ?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2314440" y="2819520"/>
            <a:ext cx="2651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5969160" y="5483160"/>
            <a:ext cx="2984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6129360" y="3449520"/>
            <a:ext cx="298440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2344680" y="5283360"/>
            <a:ext cx="2782800" cy="10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3419640" y="1739880"/>
            <a:ext cx="0" cy="1092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2771640" y="1727280"/>
            <a:ext cx="2019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6238440" y="2017800"/>
            <a:ext cx="95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7"/>
          <p:cNvSpPr/>
          <p:nvPr/>
        </p:nvSpPr>
        <p:spPr>
          <a:xfrm>
            <a:off x="3642480" y="1171440"/>
            <a:ext cx="1133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9"/>
          <p:cNvSpPr/>
          <p:nvPr/>
        </p:nvSpPr>
        <p:spPr>
          <a:xfrm flipV="1">
            <a:off x="6845400" y="4393800"/>
            <a:ext cx="0" cy="11048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0"/>
          <p:cNvSpPr/>
          <p:nvPr/>
        </p:nvSpPr>
        <p:spPr>
          <a:xfrm flipV="1">
            <a:off x="7873920" y="4451040"/>
            <a:ext cx="0" cy="1033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7995240" y="3879720"/>
            <a:ext cx="1133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>
            <a:off x="7872480" y="4444920"/>
            <a:ext cx="1117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6159240" y="44100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6052680" y="3892680"/>
            <a:ext cx="95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5"/>
          <p:cNvSpPr/>
          <p:nvPr/>
        </p:nvSpPr>
        <p:spPr>
          <a:xfrm rot="16200000">
            <a:off x="7264440" y="5165280"/>
            <a:ext cx="190440" cy="965160"/>
          </a:xfrm>
          <a:custGeom>
            <a:avLst/>
            <a:gdLst>
              <a:gd name="textAreaLeft" fmla="*/ 121680 w 190440"/>
              <a:gd name="textAreaRight" fmla="*/ 190800 w 19044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903720" y="5626080"/>
            <a:ext cx="929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7"/>
          <p:cNvSpPr/>
          <p:nvPr/>
        </p:nvSpPr>
        <p:spPr>
          <a:xfrm flipV="1">
            <a:off x="6307200" y="1658520"/>
            <a:ext cx="1440" cy="17780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8"/>
          <p:cNvSpPr/>
          <p:nvPr/>
        </p:nvSpPr>
        <p:spPr>
          <a:xfrm>
            <a:off x="6281640" y="1658880"/>
            <a:ext cx="2032200" cy="1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6212160" y="1179360"/>
            <a:ext cx="1311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40"/>
          <p:cNvSpPr/>
          <p:nvPr/>
        </p:nvSpPr>
        <p:spPr>
          <a:xfrm>
            <a:off x="6319800" y="2484360"/>
            <a:ext cx="800280" cy="1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1" descr="J0076218"/>
          <p:cNvPicPr/>
          <p:nvPr/>
        </p:nvPicPr>
        <p:blipFill>
          <a:blip r:embed="rId1"/>
          <a:stretch/>
        </p:blipFill>
        <p:spPr>
          <a:xfrm>
            <a:off x="6405480" y="2689200"/>
            <a:ext cx="480960" cy="776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3"/>
          <p:cNvSpPr/>
          <p:nvPr/>
        </p:nvSpPr>
        <p:spPr>
          <a:xfrm>
            <a:off x="2461680" y="1184400"/>
            <a:ext cx="95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5" descr="J0336906"/>
          <p:cNvPicPr/>
          <p:nvPr/>
        </p:nvPicPr>
        <p:blipFill>
          <a:blip r:embed="rId2"/>
          <a:stretch/>
        </p:blipFill>
        <p:spPr>
          <a:xfrm rot="21064800">
            <a:off x="3468240" y="1831680"/>
            <a:ext cx="1073160" cy="1039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7" descr="J0296951"/>
          <p:cNvPicPr/>
          <p:nvPr/>
        </p:nvPicPr>
        <p:blipFill>
          <a:blip r:embed="rId3"/>
          <a:stretch/>
        </p:blipFill>
        <p:spPr>
          <a:xfrm>
            <a:off x="7964640" y="4613400"/>
            <a:ext cx="995040" cy="782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8" descr="J0076220"/>
          <p:cNvPicPr/>
          <p:nvPr/>
        </p:nvPicPr>
        <p:blipFill>
          <a:blip r:embed="rId4"/>
          <a:stretch/>
        </p:blipFill>
        <p:spPr>
          <a:xfrm>
            <a:off x="2887560" y="2062080"/>
            <a:ext cx="482760" cy="749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9" descr="J0076214"/>
          <p:cNvPicPr/>
          <p:nvPr/>
        </p:nvPicPr>
        <p:blipFill>
          <a:blip r:embed="rId5"/>
          <a:stretch/>
        </p:blipFill>
        <p:spPr>
          <a:xfrm>
            <a:off x="6327720" y="1658880"/>
            <a:ext cx="836640" cy="501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0" descr="J0076223"/>
          <p:cNvPicPr/>
          <p:nvPr/>
        </p:nvPicPr>
        <p:blipFill>
          <a:blip r:embed="rId6"/>
          <a:stretch/>
        </p:blipFill>
        <p:spPr>
          <a:xfrm>
            <a:off x="2658960" y="4525920"/>
            <a:ext cx="534960" cy="752400"/>
          </a:xfrm>
          <a:prstGeom prst="rect">
            <a:avLst/>
          </a:prstGeom>
          <a:ln w="0">
            <a:noFill/>
          </a:ln>
        </p:spPr>
      </p:pic>
      <p:sp>
        <p:nvSpPr>
          <p:cNvPr id="334" name="Line 61"/>
          <p:cNvSpPr/>
          <p:nvPr/>
        </p:nvSpPr>
        <p:spPr>
          <a:xfrm flipV="1">
            <a:off x="2583000" y="4231800"/>
            <a:ext cx="0" cy="11048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2"/>
          <p:cNvSpPr/>
          <p:nvPr/>
        </p:nvSpPr>
        <p:spPr>
          <a:xfrm flipV="1">
            <a:off x="3611520" y="4289040"/>
            <a:ext cx="0" cy="1033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3"/>
          <p:cNvSpPr/>
          <p:nvPr/>
        </p:nvSpPr>
        <p:spPr>
          <a:xfrm>
            <a:off x="3542400" y="3705120"/>
            <a:ext cx="1133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4"/>
          <p:cNvSpPr/>
          <p:nvPr/>
        </p:nvSpPr>
        <p:spPr>
          <a:xfrm>
            <a:off x="3598920" y="4272120"/>
            <a:ext cx="1117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5"/>
          <p:cNvSpPr/>
          <p:nvPr/>
        </p:nvSpPr>
        <p:spPr>
          <a:xfrm>
            <a:off x="2593800" y="42624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6"/>
          <p:cNvSpPr/>
          <p:nvPr/>
        </p:nvSpPr>
        <p:spPr>
          <a:xfrm>
            <a:off x="2395080" y="3716280"/>
            <a:ext cx="95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7"/>
          <p:cNvSpPr/>
          <p:nvPr/>
        </p:nvSpPr>
        <p:spPr>
          <a:xfrm rot="16200000">
            <a:off x="3001680" y="5003640"/>
            <a:ext cx="190800" cy="965160"/>
          </a:xfrm>
          <a:custGeom>
            <a:avLst/>
            <a:gdLst>
              <a:gd name="textAreaLeft" fmla="*/ 122040 w 190800"/>
              <a:gd name="textAreaRight" fmla="*/ 191160 w 19080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8"/>
          <p:cNvSpPr/>
          <p:nvPr/>
        </p:nvSpPr>
        <p:spPr>
          <a:xfrm>
            <a:off x="2641320" y="5464080"/>
            <a:ext cx="929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1" descr="J0076220"/>
          <p:cNvPicPr/>
          <p:nvPr/>
        </p:nvPicPr>
        <p:blipFill>
          <a:blip r:embed="rId7"/>
          <a:stretch/>
        </p:blipFill>
        <p:spPr>
          <a:xfrm>
            <a:off x="6315120" y="4721400"/>
            <a:ext cx="490320" cy="760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2" descr="BD13659_"/>
          <p:cNvPicPr/>
          <p:nvPr/>
        </p:nvPicPr>
        <p:blipFill>
          <a:blip r:embed="rId8"/>
          <a:stretch/>
        </p:blipFill>
        <p:spPr>
          <a:xfrm flipH="1">
            <a:off x="3668400" y="4562640"/>
            <a:ext cx="1485720" cy="6919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3"/>
          <p:cNvSpPr/>
          <p:nvPr/>
        </p:nvSpPr>
        <p:spPr>
          <a:xfrm>
            <a:off x="2307960" y="2940120"/>
            <a:ext cx="32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+3x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8x(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4"/>
          <p:cNvSpPr/>
          <p:nvPr/>
        </p:nvSpPr>
        <p:spPr>
          <a:xfrm>
            <a:off x="5821200" y="612612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+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+10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5"/>
          <p:cNvSpPr/>
          <p:nvPr/>
        </p:nvSpPr>
        <p:spPr>
          <a:xfrm>
            <a:off x="5463720" y="3516480"/>
            <a:ext cx="37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(1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•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(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6"/>
          <p:cNvSpPr/>
          <p:nvPr/>
        </p:nvSpPr>
        <p:spPr>
          <a:xfrm>
            <a:off x="2249280" y="585468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(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+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+10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7"/>
          <p:cNvSpPr/>
          <p:nvPr/>
        </p:nvSpPr>
        <p:spPr>
          <a:xfrm>
            <a:off x="5581800" y="1460520"/>
            <a:ext cx="0" cy="5213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8"/>
          <p:cNvSpPr/>
          <p:nvPr/>
        </p:nvSpPr>
        <p:spPr>
          <a:xfrm>
            <a:off x="2945160" y="885960"/>
            <a:ext cx="14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9"/>
          <p:cNvSpPr/>
          <p:nvPr/>
        </p:nvSpPr>
        <p:spPr>
          <a:xfrm>
            <a:off x="6779520" y="825480"/>
            <a:ext cx="15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I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b65"/>
          <p:cNvPicPr/>
          <p:nvPr/>
        </p:nvPicPr>
        <p:blipFill>
          <a:blip r:embed="rId1"/>
          <a:stretch/>
        </p:blipFill>
        <p:spPr>
          <a:xfrm>
            <a:off x="0" y="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b65"/>
          <p:cNvPicPr/>
          <p:nvPr/>
        </p:nvPicPr>
        <p:blipFill>
          <a:blip r:embed="rId2"/>
          <a:stretch/>
        </p:blipFill>
        <p:spPr>
          <a:xfrm>
            <a:off x="3308400" y="251784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b65"/>
          <p:cNvPicPr/>
          <p:nvPr/>
        </p:nvPicPr>
        <p:blipFill>
          <a:blip r:embed="rId3"/>
          <a:stretch/>
        </p:blipFill>
        <p:spPr>
          <a:xfrm>
            <a:off x="5675400" y="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b65"/>
          <p:cNvPicPr/>
          <p:nvPr/>
        </p:nvPicPr>
        <p:blipFill>
          <a:blip r:embed="rId4"/>
          <a:stretch/>
        </p:blipFill>
        <p:spPr>
          <a:xfrm>
            <a:off x="3298680" y="253044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b65"/>
          <p:cNvPicPr/>
          <p:nvPr/>
        </p:nvPicPr>
        <p:blipFill>
          <a:blip r:embed="rId5"/>
          <a:stretch/>
        </p:blipFill>
        <p:spPr>
          <a:xfrm>
            <a:off x="0" y="33894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b65"/>
          <p:cNvPicPr/>
          <p:nvPr/>
        </p:nvPicPr>
        <p:blipFill>
          <a:blip r:embed="rId6"/>
          <a:stretch/>
        </p:blipFill>
        <p:spPr>
          <a:xfrm>
            <a:off x="5675400" y="33894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AG00373_"/>
          <p:cNvPicPr/>
          <p:nvPr/>
        </p:nvPicPr>
        <p:blipFill>
          <a:blip r:embed="rId7"/>
          <a:stretch/>
        </p:blipFill>
        <p:spPr>
          <a:xfrm>
            <a:off x="3646440" y="4981680"/>
            <a:ext cx="1652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914400" y="18432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762120" y="-5076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актическ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"/>
          <p:cNvGrpSpPr/>
          <p:nvPr/>
        </p:nvGrpSpPr>
        <p:grpSpPr>
          <a:xfrm>
            <a:off x="2459160" y="1001880"/>
            <a:ext cx="2528640" cy="1564920"/>
            <a:chOff x="2459160" y="1001880"/>
            <a:chExt cx="2528640" cy="1564920"/>
          </a:xfrm>
        </p:grpSpPr>
        <p:sp>
          <p:nvSpPr>
            <p:cNvPr id="362" name="AutoShape 6"/>
            <p:cNvSpPr/>
            <p:nvPr/>
          </p:nvSpPr>
          <p:spPr>
            <a:xfrm>
              <a:off x="2459160" y="1001880"/>
              <a:ext cx="2528640" cy="156204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48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0800000">
              <a:off x="2459160" y="1004760"/>
              <a:ext cx="2528640" cy="1562040"/>
            </a:xfrm>
            <a:prstGeom prst="cube">
              <a:avLst>
                <a:gd name="adj" fmla="val 25000"/>
              </a:avLst>
            </a:prstGeom>
            <a:noFill/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8"/>
          <p:cNvSpPr/>
          <p:nvPr/>
        </p:nvSpPr>
        <p:spPr>
          <a:xfrm>
            <a:off x="3411720" y="246528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4736160" y="2259000"/>
            <a:ext cx="39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4567320" y="151920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5116680" y="849240"/>
            <a:ext cx="37940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 прямоугольный параллелепипед. Вычислите его объём и площадь полной поверхности, выполнив необходимые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2500200" y="3071880"/>
            <a:ext cx="34052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. Длина    а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Шири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Высота  с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2513160" y="4710240"/>
            <a:ext cx="6630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a 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2513160" y="5446800"/>
            <a:ext cx="66308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Monotype Corsiva"/>
              </a:rPr>
              <a:t>полн. пов.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= 2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5241600" y="3097080"/>
            <a:ext cx="8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5213160" y="3649680"/>
            <a:ext cx="8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5213160" y="4172040"/>
            <a:ext cx="8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4617720" y="4824360"/>
            <a:ext cx="28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6729840" y="55641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4175280" y="611496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2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b65"/>
          <p:cNvPicPr/>
          <p:nvPr/>
        </p:nvPicPr>
        <p:blipFill>
          <a:blip r:embed="rId1"/>
          <a:stretch/>
        </p:blipFill>
        <p:spPr>
          <a:xfrm>
            <a:off x="0" y="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b65"/>
          <p:cNvPicPr/>
          <p:nvPr/>
        </p:nvPicPr>
        <p:blipFill>
          <a:blip r:embed="rId2"/>
          <a:stretch/>
        </p:blipFill>
        <p:spPr>
          <a:xfrm>
            <a:off x="3308400" y="251784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b65"/>
          <p:cNvPicPr/>
          <p:nvPr/>
        </p:nvPicPr>
        <p:blipFill>
          <a:blip r:embed="rId3"/>
          <a:stretch/>
        </p:blipFill>
        <p:spPr>
          <a:xfrm>
            <a:off x="5675400" y="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b65"/>
          <p:cNvPicPr/>
          <p:nvPr/>
        </p:nvPicPr>
        <p:blipFill>
          <a:blip r:embed="rId4"/>
          <a:stretch/>
        </p:blipFill>
        <p:spPr>
          <a:xfrm>
            <a:off x="3298680" y="253044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b65"/>
          <p:cNvPicPr/>
          <p:nvPr/>
        </p:nvPicPr>
        <p:blipFill>
          <a:blip r:embed="rId5"/>
          <a:stretch/>
        </p:blipFill>
        <p:spPr>
          <a:xfrm>
            <a:off x="0" y="33894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b65"/>
          <p:cNvPicPr/>
          <p:nvPr/>
        </p:nvPicPr>
        <p:blipFill>
          <a:blip r:embed="rId6"/>
          <a:stretch/>
        </p:blipFill>
        <p:spPr>
          <a:xfrm>
            <a:off x="5675400" y="33894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AG00373_"/>
          <p:cNvPicPr/>
          <p:nvPr/>
        </p:nvPicPr>
        <p:blipFill>
          <a:blip r:embed="rId7"/>
          <a:stretch/>
        </p:blipFill>
        <p:spPr>
          <a:xfrm>
            <a:off x="3646440" y="4981680"/>
            <a:ext cx="1652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6040" y="113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читать и записывать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ть вычисления по форму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ть вычислительные навыки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е 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прямоугольного параллелепипе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914400" y="18432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762120" y="-5076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олни таблиц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308320" y="947880"/>
          <a:ext cx="6835680" cy="5641920"/>
        </p:xfrm>
        <a:graphic>
          <a:graphicData uri="http://schemas.openxmlformats.org/drawingml/2006/table">
            <a:tbl>
              <a:tblPr/>
              <a:tblGrid>
                <a:gridCol w="681120"/>
                <a:gridCol w="1117440"/>
                <a:gridCol w="1352520"/>
                <a:gridCol w="1231920"/>
                <a:gridCol w="1131840"/>
                <a:gridCol w="1320840"/>
              </a:tblGrid>
              <a:tr h="141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</a:tr>
              <a:tr h="141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см</a:t>
                      </a:r>
                      <a:r>
                        <a:rPr b="1" lang="ru-RU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дм</a:t>
                      </a:r>
                      <a:r>
                        <a:rPr b="1" lang="ru-RU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14400" y="18432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762120" y="-5076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олни таблиц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308320" y="947880"/>
          <a:ext cx="6835680" cy="5641920"/>
        </p:xfrm>
        <a:graphic>
          <a:graphicData uri="http://schemas.openxmlformats.org/drawingml/2006/table">
            <a:tbl>
              <a:tblPr/>
              <a:tblGrid>
                <a:gridCol w="681120"/>
                <a:gridCol w="1117440"/>
                <a:gridCol w="1365120"/>
                <a:gridCol w="1219320"/>
                <a:gridCol w="1131840"/>
                <a:gridCol w="1320840"/>
              </a:tblGrid>
              <a:tr h="141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</a:tr>
              <a:tr h="141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дм</a:t>
                      </a:r>
                      <a:r>
                        <a:rPr b="1" lang="ru-RU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дм</a:t>
                      </a:r>
                      <a:r>
                        <a:rPr b="1" lang="ru-RU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cc">
                        <a:alpha val="25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b65"/>
          <p:cNvPicPr/>
          <p:nvPr/>
        </p:nvPicPr>
        <p:blipFill>
          <a:blip r:embed="rId1"/>
          <a:stretch/>
        </p:blipFill>
        <p:spPr>
          <a:xfrm>
            <a:off x="0" y="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b65"/>
          <p:cNvPicPr/>
          <p:nvPr/>
        </p:nvPicPr>
        <p:blipFill>
          <a:blip r:embed="rId2"/>
          <a:stretch/>
        </p:blipFill>
        <p:spPr>
          <a:xfrm>
            <a:off x="3308400" y="251784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b65"/>
          <p:cNvPicPr/>
          <p:nvPr/>
        </p:nvPicPr>
        <p:blipFill>
          <a:blip r:embed="rId3"/>
          <a:stretch/>
        </p:blipFill>
        <p:spPr>
          <a:xfrm>
            <a:off x="5675400" y="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b65"/>
          <p:cNvPicPr/>
          <p:nvPr/>
        </p:nvPicPr>
        <p:blipFill>
          <a:blip r:embed="rId4"/>
          <a:stretch/>
        </p:blipFill>
        <p:spPr>
          <a:xfrm>
            <a:off x="3298680" y="253044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b65"/>
          <p:cNvPicPr/>
          <p:nvPr/>
        </p:nvPicPr>
        <p:blipFill>
          <a:blip r:embed="rId5"/>
          <a:stretch/>
        </p:blipFill>
        <p:spPr>
          <a:xfrm>
            <a:off x="0" y="33894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b65"/>
          <p:cNvPicPr/>
          <p:nvPr/>
        </p:nvPicPr>
        <p:blipFill>
          <a:blip r:embed="rId6"/>
          <a:stretch/>
        </p:blipFill>
        <p:spPr>
          <a:xfrm>
            <a:off x="5675400" y="33894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AG00373_"/>
          <p:cNvPicPr/>
          <p:nvPr/>
        </p:nvPicPr>
        <p:blipFill>
          <a:blip r:embed="rId7"/>
          <a:stretch/>
        </p:blipFill>
        <p:spPr>
          <a:xfrm>
            <a:off x="3646440" y="4981680"/>
            <a:ext cx="1652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3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дач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2612880" y="1335240"/>
            <a:ext cx="2830680" cy="1015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3529080" y="86508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 rot="16200000">
            <a:off x="2018880" y="1509840"/>
            <a:ext cx="759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5501160" y="1179360"/>
            <a:ext cx="3640320" cy="150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о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прямоугольник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Р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ABC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40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йти: а) АВ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б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ABC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2308320" y="2706840"/>
            <a:ext cx="6835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2300040" y="760320"/>
            <a:ext cx="47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2333520" y="2341440"/>
            <a:ext cx="47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5232240" y="728640"/>
            <a:ext cx="47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5276880" y="2282760"/>
            <a:ext cx="474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914400" y="18432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762120" y="-5076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2352600" y="3260880"/>
            <a:ext cx="6791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(x  +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)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 +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= 40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x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= 20 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 = 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 = x </a:t>
            </a:r>
            <a:r>
              <a:rPr b="1" i="1" lang="en-US" sz="2800" spc="-1" strike="noStrike">
                <a:solidFill>
                  <a:srgbClr val="000000"/>
                </a:solidFill>
                <a:latin typeface="Vrinda"/>
              </a:rPr>
              <a:t>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= 3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3·5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3·25 = 75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2444760" y="398520"/>
            <a:ext cx="6257880" cy="569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46000"/>
                  </a:srgbClr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4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2427120" y="1006560"/>
            <a:ext cx="6513840" cy="4543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Для чег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нужны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914400" y="18432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762120" y="-5076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2757600" y="635040"/>
            <a:ext cx="5533920" cy="64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Я люблю математику не только потому, что она находит применение в жизни, но и потому что она краси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етер Рос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 rot="16200000">
            <a:off x="-1719720" y="2838960"/>
            <a:ext cx="5118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омашне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2320920" y="149400"/>
            <a:ext cx="6823080" cy="404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ожно ли из прямоугольного листа фанеры длиной 6 дм и шириной 4дм вырезать круг радиуса 3дм, 2дм, 1д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1292400" y="1919160"/>
            <a:ext cx="68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2"/>
          <p:cNvPicPr/>
          <p:nvPr/>
        </p:nvPicPr>
        <p:blipFill>
          <a:blip r:embed="rId1"/>
          <a:stretch/>
        </p:blipFill>
        <p:spPr>
          <a:xfrm>
            <a:off x="3808440" y="4381560"/>
            <a:ext cx="3457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WordArt 2"/>
          <p:cNvSpPr txBox="1"/>
          <p:nvPr/>
        </p:nvSpPr>
        <p:spPr>
          <a:xfrm>
            <a:off x="3273480" y="576360"/>
            <a:ext cx="5100480" cy="31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у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2" name="Picture 3" descr="1"/>
          <p:cNvPicPr/>
          <p:nvPr/>
        </p:nvPicPr>
        <p:blipFill>
          <a:blip r:embed="rId1"/>
          <a:stretch/>
        </p:blipFill>
        <p:spPr>
          <a:xfrm>
            <a:off x="4092480" y="4064040"/>
            <a:ext cx="31384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ХОД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2120" y="1279440"/>
            <a:ext cx="840744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Организационный моме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Лабиринт вопросов тру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Разгадать помогут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Наши знания, ум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Со смекалкой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знаем тему нашего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дите значение выражений самым удобным способом, используя шифр, прочитайте сл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Решение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Блиц турн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ракт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Выполнение теста, заполнение таблиц по вариантам.</a:t>
            </a:r>
            <a:r>
              <a:rPr b="0" i="1" lang="ru-RU" sz="2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одведение итогов урока.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757600" y="635040"/>
            <a:ext cx="5533920" cy="64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Я люблю математику не только потому, что она находит применение в жизни, но и потому что она краси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етер Рос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916360" y="115920"/>
            <a:ext cx="590364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· 19 ·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4572000" y="115920"/>
            <a:ext cx="259092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90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6407280" y="115920"/>
            <a:ext cx="75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0"/>
          <p:cNvSpPr/>
          <p:nvPr/>
        </p:nvSpPr>
        <p:spPr>
          <a:xfrm>
            <a:off x="2916360" y="1052640"/>
            <a:ext cx="590364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· 15 · 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1"/>
          <p:cNvSpPr/>
          <p:nvPr/>
        </p:nvSpPr>
        <p:spPr>
          <a:xfrm>
            <a:off x="4572000" y="1052640"/>
            <a:ext cx="259092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500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6407280" y="1052640"/>
            <a:ext cx="69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3"/>
          <p:cNvSpPr/>
          <p:nvPr/>
        </p:nvSpPr>
        <p:spPr>
          <a:xfrm>
            <a:off x="2916360" y="1989000"/>
            <a:ext cx="590364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· 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4"/>
          <p:cNvSpPr/>
          <p:nvPr/>
        </p:nvSpPr>
        <p:spPr>
          <a:xfrm>
            <a:off x="4572000" y="1989000"/>
            <a:ext cx="259092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5"/>
          <p:cNvSpPr/>
          <p:nvPr/>
        </p:nvSpPr>
        <p:spPr>
          <a:xfrm>
            <a:off x="6407280" y="1989000"/>
            <a:ext cx="69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"/>
          <p:cNvSpPr/>
          <p:nvPr/>
        </p:nvSpPr>
        <p:spPr>
          <a:xfrm>
            <a:off x="2916360" y="2924280"/>
            <a:ext cx="590364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· 16 · 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4572000" y="2924280"/>
            <a:ext cx="259092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200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8"/>
          <p:cNvSpPr/>
          <p:nvPr/>
        </p:nvSpPr>
        <p:spPr>
          <a:xfrm>
            <a:off x="6407280" y="2924280"/>
            <a:ext cx="69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9"/>
          <p:cNvSpPr/>
          <p:nvPr/>
        </p:nvSpPr>
        <p:spPr>
          <a:xfrm>
            <a:off x="2916360" y="3860640"/>
            <a:ext cx="590364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· 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4541760" y="3860640"/>
            <a:ext cx="262116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000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6407280" y="3860640"/>
            <a:ext cx="69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2916360" y="4869000"/>
            <a:ext cx="590364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 4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4572000" y="4869000"/>
            <a:ext cx="259092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1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4"/>
          <p:cNvSpPr/>
          <p:nvPr/>
        </p:nvSpPr>
        <p:spPr>
          <a:xfrm>
            <a:off x="6407280" y="4869000"/>
            <a:ext cx="7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916360" y="5805360"/>
            <a:ext cx="590364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· 125 · 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4572000" y="5805360"/>
            <a:ext cx="2590920" cy="703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00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7"/>
          <p:cNvSpPr/>
          <p:nvPr/>
        </p:nvSpPr>
        <p:spPr>
          <a:xfrm>
            <a:off x="6372360" y="5805360"/>
            <a:ext cx="82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0"/>
          <p:cNvSpPr/>
          <p:nvPr/>
        </p:nvSpPr>
        <p:spPr>
          <a:xfrm>
            <a:off x="825480" y="5711760"/>
            <a:ext cx="89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1"/>
          <p:cNvSpPr/>
          <p:nvPr/>
        </p:nvSpPr>
        <p:spPr>
          <a:xfrm>
            <a:off x="762120" y="-5076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67245E-006 L -0.61059 0.05228 E">
                                      <p:cBhvr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7567E-006 L -0.6 0.04996 E">
                                      <p:cBhvr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9334E-006 L -0.60711 0.03908 E">
                                      <p:cBhvr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9706E-006 L -0.60104 0.03262 E">
                                      <p:cBhvr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19385E-006 L -0.60382 0.03308 E">
                                      <p:cBhvr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2852E-006 L -0.59531 0.01088 E">
                                      <p:cBhvr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531E-006 L -0.60469 -0.01018 E">
                                      <p:cBhvr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059 0.05228 L -0.60902 0.1765 E">
                                      <p:cBhvr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74 0.01226 C -0.57865 0.00972 -0.49983 0.05575 -0.48611 -0.00347 C -0.4724 -0.06269 -0.50938 -0.27851 -0.51493 -0.34351 C -0.52049 -0.40851 -0.5059 -0.3442 -0.5191 -0.39417 C -0.53229 -0.44413 -0.57813 -0.59125 -0.59375 -0.64307 E">
                                      <p:cBhvr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861 0.03077 C -0.6125 0.02059 -0.68073 -0.00925 -0.68212 -0.03169 C -0.68351 -0.05412 -0.62239 -0.08905 -0.60677 -0.10409 E">
                                      <p:cBhvr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469 -0.01018 C -0.55035 -0.06963 -0.49601 -0.12931 -0.49636 -0.19292 C -0.4967 -0.25653 -0.58386 -0.35068 -0.60695 -0.39232 E">
                                      <p:cBhvr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 0.04996 C -0.65903 0.1832 -0.71701 0.31922 -0.71788 0.38214 C -0.71875 0.44506 -0.62899 0.41776 -0.60555 0.42725 E">
                                      <p:cBhvr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364 0.03308 L -0.60677 0.14342 E">
                                      <p:cBhvr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712 0.03909 C -0.6533 0.05713 -0.69913 0.07518 -0.71024 0.10409 C -0.72101 0.13278 -0.67413 0.17418 -0.67361 0.21142 C -0.67309 0.24867 -0.70555 0.28614 -0.70677 0.32732 C -0.70816 0.36872 -0.69861 0.42355 -0.68194 0.45871 C -0.66528 0.49387 -0.62239 0.52186 -0.60677 0.53851 E">
                                      <p:cBhvr>
                                        <p:cTn id="16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6"/>
          <p:cNvSpPr/>
          <p:nvPr/>
        </p:nvSpPr>
        <p:spPr>
          <a:xfrm>
            <a:off x="914400" y="18432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62120" y="-5076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774880" y="314280"/>
            <a:ext cx="2621160" cy="14461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726240" y="334800"/>
            <a:ext cx="1506600" cy="1440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 flipH="1" rot="5400000">
            <a:off x="3475800" y="1264320"/>
            <a:ext cx="1878120" cy="3287880"/>
          </a:xfrm>
          <a:prstGeom prst="rtTriangl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6"/>
          <p:cNvGrpSpPr/>
          <p:nvPr/>
        </p:nvGrpSpPr>
        <p:grpSpPr>
          <a:xfrm>
            <a:off x="6292440" y="2251080"/>
            <a:ext cx="2529360" cy="1564920"/>
            <a:chOff x="6292440" y="2251080"/>
            <a:chExt cx="2529360" cy="1564920"/>
          </a:xfrm>
        </p:grpSpPr>
        <p:sp>
          <p:nvSpPr>
            <p:cNvPr id="119" name="AutoShape 11"/>
            <p:cNvSpPr/>
            <p:nvPr/>
          </p:nvSpPr>
          <p:spPr>
            <a:xfrm>
              <a:off x="6292800" y="2251080"/>
              <a:ext cx="2529000" cy="1562040"/>
            </a:xfrm>
            <a:prstGeom prst="cube">
              <a:avLst>
                <a:gd name="adj" fmla="val 25000"/>
              </a:avLst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2"/>
            <p:cNvSpPr/>
            <p:nvPr/>
          </p:nvSpPr>
          <p:spPr>
            <a:xfrm rot="10800000">
              <a:off x="6292440" y="2253960"/>
              <a:ext cx="2529000" cy="1562040"/>
            </a:xfrm>
            <a:prstGeom prst="cube">
              <a:avLst>
                <a:gd name="adj" fmla="val 25000"/>
              </a:avLst>
            </a:prstGeom>
            <a:noFill/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3"/>
          <p:cNvSpPr/>
          <p:nvPr/>
        </p:nvSpPr>
        <p:spPr>
          <a:xfrm>
            <a:off x="3528720" y="428760"/>
            <a:ext cx="1038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3232440" y="1085760"/>
            <a:ext cx="1681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=2(a+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6968880" y="477720"/>
            <a:ext cx="93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971400" y="1128600"/>
            <a:ext cx="1020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=4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2784960" y="3298680"/>
            <a:ext cx="1651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=a+b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956280" y="2760840"/>
            <a:ext cx="1236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=ab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373800" y="3951360"/>
            <a:ext cx="2463840" cy="10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полн.по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b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ас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2" descr="J0336906"/>
          <p:cNvPicPr/>
          <p:nvPr/>
        </p:nvPicPr>
        <p:blipFill>
          <a:blip r:embed="rId1"/>
          <a:stretch/>
        </p:blipFill>
        <p:spPr>
          <a:xfrm>
            <a:off x="2386080" y="4753080"/>
            <a:ext cx="1504800" cy="145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J0336904"/>
          <p:cNvPicPr/>
          <p:nvPr/>
        </p:nvPicPr>
        <p:blipFill>
          <a:blip r:embed="rId2"/>
          <a:stretch/>
        </p:blipFill>
        <p:spPr>
          <a:xfrm flipH="1">
            <a:off x="2331720" y="4940280"/>
            <a:ext cx="1297080" cy="1389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3"/>
          <p:cNvSpPr/>
          <p:nvPr/>
        </p:nvSpPr>
        <p:spPr>
          <a:xfrm>
            <a:off x="3353760" y="4614840"/>
            <a:ext cx="941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=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3323520" y="5264280"/>
            <a:ext cx="1059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293280" y="5904000"/>
            <a:ext cx="1059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584520" y="5167440"/>
            <a:ext cx="1233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3279600" y="5616720"/>
            <a:ext cx="1233720" cy="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3251160" y="711360"/>
            <a:ext cx="181296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3265560" y="1349280"/>
            <a:ext cx="181296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 flipV="1">
            <a:off x="6937200" y="725400"/>
            <a:ext cx="1086120" cy="144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 flipV="1">
            <a:off x="6996240" y="1349280"/>
            <a:ext cx="1069920" cy="1584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6850080" y="3035160"/>
            <a:ext cx="1349280" cy="144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4"/>
          <p:cNvSpPr/>
          <p:nvPr/>
        </p:nvSpPr>
        <p:spPr>
          <a:xfrm>
            <a:off x="6575400" y="4240080"/>
            <a:ext cx="181296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6"/>
          <p:cNvSpPr/>
          <p:nvPr/>
        </p:nvSpPr>
        <p:spPr>
          <a:xfrm>
            <a:off x="2825640" y="2778120"/>
            <a:ext cx="1593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=(ab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7"/>
          <p:cNvSpPr/>
          <p:nvPr/>
        </p:nvSpPr>
        <p:spPr>
          <a:xfrm>
            <a:off x="2889360" y="3571920"/>
            <a:ext cx="181296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0"/>
          <p:cNvSpPr/>
          <p:nvPr/>
        </p:nvSpPr>
        <p:spPr>
          <a:xfrm flipV="1">
            <a:off x="3005280" y="3035160"/>
            <a:ext cx="1361880" cy="144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1"/>
          <p:cNvSpPr/>
          <p:nvPr/>
        </p:nvSpPr>
        <p:spPr>
          <a:xfrm flipV="1">
            <a:off x="3324240" y="5532480"/>
            <a:ext cx="1203480" cy="144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 flipV="1">
            <a:off x="3249720" y="4878360"/>
            <a:ext cx="1258920" cy="144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 flipV="1">
            <a:off x="3236760" y="6170400"/>
            <a:ext cx="1216080" cy="1404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4007160" y="170640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3"/>
          <p:cNvSpPr/>
          <p:nvPr/>
        </p:nvSpPr>
        <p:spPr>
          <a:xfrm>
            <a:off x="5385240" y="777960"/>
            <a:ext cx="39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8185320" y="74772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5"/>
          <p:cNvSpPr/>
          <p:nvPr/>
        </p:nvSpPr>
        <p:spPr>
          <a:xfrm>
            <a:off x="7285320" y="164952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6"/>
          <p:cNvSpPr/>
          <p:nvPr/>
        </p:nvSpPr>
        <p:spPr>
          <a:xfrm>
            <a:off x="3919680" y="375300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2365920" y="2665440"/>
            <a:ext cx="39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7258320" y="334656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8569800" y="3508200"/>
            <a:ext cx="39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8337600" y="276876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50289E-006 L 0.40243 -1.50289E-006 E">
                                      <p:cBhvr>
                                        <p:cTn id="27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5607E-006 L 0.36893 -1.15607E-006 E">
                                      <p:cBhvr>
                                        <p:cTn id="27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0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2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2444760" y="398520"/>
            <a:ext cx="6257880" cy="569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46000"/>
                  </a:srgbClr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4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427120" y="1006560"/>
            <a:ext cx="6513840" cy="4543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Для чег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нужны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914400" y="18432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62120" y="-5076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60280" y="20808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40" y="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325600" y="0"/>
            <a:ext cx="681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дача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300400" y="741240"/>
            <a:ext cx="6843600" cy="38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ирина проезжей части дороги 15м. Чтобы успеть перейти дорогу, пешеход должен двигаться со скоростью не менее 7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/с. Какова продолжительность зелёного сигнала светоф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338560" y="5013360"/>
            <a:ext cx="68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 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150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338560" y="5549760"/>
            <a:ext cx="68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00 :7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J0076219"/>
          <p:cNvPicPr/>
          <p:nvPr/>
        </p:nvPicPr>
        <p:blipFill>
          <a:blip r:embed="rId1"/>
          <a:stretch/>
        </p:blipFill>
        <p:spPr>
          <a:xfrm>
            <a:off x="7591320" y="4809960"/>
            <a:ext cx="1308240" cy="1721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J0295169"/>
          <p:cNvPicPr/>
          <p:nvPr/>
        </p:nvPicPr>
        <p:blipFill>
          <a:blip r:embed="rId2"/>
          <a:stretch/>
        </p:blipFill>
        <p:spPr>
          <a:xfrm>
            <a:off x="2990880" y="0"/>
            <a:ext cx="890640" cy="870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1341000" y="974880"/>
            <a:ext cx="79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1354680" y="6154560"/>
            <a:ext cx="78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050120" y="5175360"/>
            <a:ext cx="123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a+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243800" y="3081240"/>
            <a:ext cx="938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569880" y="4253040"/>
            <a:ext cx="1819440" cy="7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олн.по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ас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1051560" y="3703680"/>
            <a:ext cx="1194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(ab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983160" y="1550880"/>
            <a:ext cx="1258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2(a+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395000" y="2044800"/>
            <a:ext cx="723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1462320" y="5672160"/>
            <a:ext cx="726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1220400" y="2544840"/>
            <a:ext cx="87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1308960" y="430200"/>
            <a:ext cx="90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>
            <a:off x="2338560" y="6108840"/>
            <a:ext cx="68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 секу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521E-008 C -0.01562 0.20606 -0.03107 0.41235 0.04028 0.51203 C 0.11163 0.6117 0.26997 0.605 0.42847 0.59852 E">
                                      <p:cBhvr>
                                        <p:cTn id="436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07800" y="235080"/>
            <a:ext cx="851040" cy="64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ОРМУ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55520" y="0"/>
            <a:ext cx="117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2325600" y="0"/>
            <a:ext cx="4762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300400" y="1103400"/>
            <a:ext cx="68436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Аквариум с золотистым водорослями хризофатами, имеющий форму прямоугольного параллелепипеда размеры которого 5 дм, 6 дм и 10 дм, заполнен на 2/3 водой. Сколько литров воды в аквариум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135160" y="4865760"/>
            <a:ext cx="7008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 = 3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300 (л)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ъём аквариум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120760" y="6045120"/>
            <a:ext cx="68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квариуме 200 литров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852920" y="5470560"/>
            <a:ext cx="6044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0 :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200 (л)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ъём вод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1341000" y="974880"/>
            <a:ext cx="79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1354680" y="6154560"/>
            <a:ext cx="78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050120" y="5175360"/>
            <a:ext cx="123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a+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243800" y="3081240"/>
            <a:ext cx="938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69880" y="4253040"/>
            <a:ext cx="1819440" cy="7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олн.по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ас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1051560" y="3625920"/>
            <a:ext cx="1194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(ab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983160" y="1550880"/>
            <a:ext cx="1258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=2(a+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395000" y="2044800"/>
            <a:ext cx="723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1462320" y="5672160"/>
            <a:ext cx="726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=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1220400" y="2544840"/>
            <a:ext cx="87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1308960" y="430200"/>
            <a:ext cx="90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=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1" descr="0ef8f2893dc059311952a1bb259a04aa"/>
          <p:cNvPicPr/>
          <p:nvPr/>
        </p:nvPicPr>
        <p:blipFill>
          <a:blip r:embed="rId1"/>
          <a:stretch/>
        </p:blipFill>
        <p:spPr>
          <a:xfrm>
            <a:off x="7147080" y="142920"/>
            <a:ext cx="18540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1.40611E-006 C 0.00902 0.08742 0.01805 0.17484 0.0934 0.20768 C 0.16874 0.24051 0.31024 0.21878 0.4519 0.19727 E">
                                      <p:cBhvr>
                                        <p:cTn id="467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6:30:29Z</dcterms:created>
  <dc:creator>expert</dc:creator>
  <dc:description/>
  <cp:keywords/>
  <dc:language>en-US</dc:language>
  <cp:lastModifiedBy>ТАТЬЯНА</cp:lastModifiedBy>
  <dcterms:modified xsi:type="dcterms:W3CDTF">2013-01-24T09:32:45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91049</vt:lpwstr>
  </property>
</Properties>
</file>