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D67-137E-4147-B08C-EF6C70C5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046-EDA5-455A-AEB8-2D286D4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A18-E98E-4A58-8569-4B11FD78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293-E438-448E-95A6-98EA6593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51C-26CD-4728-8CB3-E6DA576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1B1-58AA-439D-BEAE-E903C4D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963-3351-40D9-A8D8-1EAFBD81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EF5-D680-47F0-A810-D706619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1D0-7138-4F62-85A5-406830E8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C70-3B82-4A02-A6A7-AAE414C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DED-848B-47A9-BCAD-003A68C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1EF-27BD-4AE1-BE6B-C8EB84A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238-C91B-45D2-9050-383447049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facte.ru/30-faktov-pro-glaza-i-zrenie.html" TargetMode="External"/><Relationship Id="rId3" Type="http://schemas.openxmlformats.org/officeDocument/2006/relationships/hyperlink" Target="http://ru.wikipedia.org/wiki/%C3%EB%E0%E7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76092"/>
                </a:solidFill>
                <a:latin typeface="Calibri"/>
              </a:rPr>
              <a:t>Глаз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C:\Documents and Settings\User\Рабочий стол\Природа\3D_56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85840" y="542916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</a:rPr>
              <a:t>Автор: Александрова Н.В. преподаватель физ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</a:rPr>
              <a:t>ГБОУ СП СПО «ПКТи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mediasubs.ru/group/uploads/kl/klub-zhenskij-mir/image2/MzdjMGMx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нтернет - ресурс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071360"/>
            <a:ext cx="8400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acte.ru/30-faktov-pro-glaza-i-zrenie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.wikipedia.org/wiki/%C3%EB%E0%E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dic.academic.ru/dic.nsf/enc_colier/3754/%D0%93%D0%9B%D0%90%D0%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traditio-ru.org/wiki/%D0%93%D0%BB%D0%B0%D0%B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images.yandex.ru/yandsearch?text=глаза%20получение%20изображения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0на%20сетчатке&amp;uinfo=sw-997-sh-504-fw-772-fh-448-p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seeactive.by/fragments/bse-glaz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alibri"/>
              </a:rPr>
              <a:t>Строение глаз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глаза открытый урок\eye-771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глаза открытый урок\retina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глаза открытый урок\kschimme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глаза открытый урок\45260580_setchatka[1]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Arial"/>
              </a:rPr>
              <a:t>Сетчатка гла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alibri"/>
              </a:rPr>
              <a:t>Как мы види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глаза открытый урок\Glaz[1]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глаза открытый урок\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глаза открытый урок\297[1]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Segoe Script"/>
              </a:rPr>
              <a:t>Дефекты зр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глаза открытый урок\blizorukost-i-dalnozorkost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3:42:20Z</dcterms:created>
  <dc:creator>IRONMANN (AKA SHAMAN)</dc:creator>
  <dc:description/>
  <dc:language>en-US</dc:language>
  <cp:lastModifiedBy>User</cp:lastModifiedBy>
  <dcterms:modified xsi:type="dcterms:W3CDTF">2013-09-07T18:27:30Z</dcterms:modified>
  <cp:revision>12</cp:revision>
  <dc:subject/>
  <dc:title>глаза</dc:title>
</cp:coreProperties>
</file>