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Click to move the slide</a:t>
            </a: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7A5A-5731-4DC0-AA6C-BD656C004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1904-0B05-4335-8845-67D14E0D2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211037"/>
          <p:cNvPicPr/>
          <p:nvPr/>
        </p:nvPicPr>
        <p:blipFill>
          <a:blip r:embed="rId1"/>
          <a:stretch/>
        </p:blipFill>
        <p:spPr>
          <a:xfrm>
            <a:off x="3000240" y="1428840"/>
            <a:ext cx="6000840" cy="5214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324000" y="0"/>
            <a:ext cx="8208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Цвет – основа языка живопис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0" y="2714760"/>
            <a:ext cx="30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Автор: Александрова Н.В. преподаватель физ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БОУ СП СПО «ПКТи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. Балак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30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1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4"/>
          <p:cNvSpPr/>
          <p:nvPr/>
        </p:nvSpPr>
        <p:spPr>
          <a:xfrm>
            <a:off x="968760" y="403560"/>
            <a:ext cx="63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Ахроматические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Хроматические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1187280" y="242100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Левитан Золотая осе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571680" y="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УАНТИЛИЗМ В ЖИВО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ttp://im0-tub-ru.yandex.net/i?id=60279744-07-72&amp;n=21"/>
          <p:cNvPicPr/>
          <p:nvPr/>
        </p:nvPicPr>
        <p:blipFill>
          <a:blip r:embed="rId2"/>
          <a:stretch/>
        </p:blipFill>
        <p:spPr>
          <a:xfrm>
            <a:off x="5286240" y="2428920"/>
            <a:ext cx="38577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3-tub-ru.yandex.net/i?id=142315703-65-72&amp;n=21"/>
          <p:cNvPicPr/>
          <p:nvPr/>
        </p:nvPicPr>
        <p:blipFill>
          <a:blip r:embed="rId3"/>
          <a:stretch/>
        </p:blipFill>
        <p:spPr>
          <a:xfrm>
            <a:off x="5357880" y="4714920"/>
            <a:ext cx="3786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719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Интернет - ресурсы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560" y="1600200"/>
            <a:ext cx="3143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school.xvatit.com/index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rudocs.exdat.com/docs/index-354063.html?page=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ru.wikipedia.org/wiki/%CF%F3%E0%ED%F2%E8%EB%E8%E7%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iskusstvovidetmir.ru/igry-i-zadaniya/page-5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images.yandex.ru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001"/>
          <p:cNvPicPr/>
          <p:nvPr/>
        </p:nvPicPr>
        <p:blipFill>
          <a:blip r:embed="rId2"/>
          <a:stretch/>
        </p:blipFill>
        <p:spPr>
          <a:xfrm>
            <a:off x="3429000" y="1285920"/>
            <a:ext cx="5429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3:42:11Z</dcterms:created>
  <dc:creator>Администратор</dc:creator>
  <dc:description/>
  <dc:language>en-US</dc:language>
  <cp:lastModifiedBy>User</cp:lastModifiedBy>
  <dcterms:modified xsi:type="dcterms:W3CDTF">2013-09-07T19:11:39Z</dcterms:modified>
  <cp:revision>25</cp:revision>
  <dc:subject/>
  <dc:title>Цвет – основа языка живописи</dc:title>
</cp:coreProperties>
</file>