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A46-A416-4ED0-85EF-EA7BB98A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AFF-B710-44E7-AA78-287444A2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1DD-F88A-4F42-8A94-2197766E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8DD-4540-4A1B-8A97-4D615E2E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B2FC-7B5C-4727-86FA-17AD43E3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0A14-315D-4C50-9166-93E1297B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2852-C5E9-4D81-AA2B-A5C543A3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1E55-6E5F-4A5A-94CF-71662EB4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FC8B-CB91-4A1F-A5DA-708A28B9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5B76-C32F-4820-B288-62BA7712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3509-9C45-4D74-B82E-37013FE2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49E-2ED2-4D05-BDAD-2192EDE7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BC5A-850D-4259-93D7-5E92F20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B4F5-1404-4DEC-A72C-85D1F310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8824-232D-43C6-8959-D8B58342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7131-5D0A-43A7-BA6C-F350D932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EEF0-DF0B-4E12-A717-899E132B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8241-FF70-45A1-A7E2-8EC85F0E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A48E3-3471-4905-A865-EC976CBE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A7F5-C2D6-4B68-9C3A-5CD4F5E0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331C-5EB4-4424-93F7-A39EFB5E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EBA1-5745-4108-9B01-7397D256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43E-1636-49EE-8326-5A84D19E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D6EE-3894-46D5-A4C3-BFF802FC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2B1B0-DD8F-4BCA-A2D9-3F7A38AC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6EA3-9DAD-472A-AB73-4FA5EA6D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6BBC-576C-4F48-A7D1-2855587C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B0CF-9C86-4DDA-B274-02D1D783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7814-A31B-4D78-A718-DE5BD76D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70FB-CDD9-42D0-BD58-1730A3BE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61314-22D3-4F9C-A8E0-4F47F2BB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80259-A463-4814-83BD-A00C87CC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9220B-7794-44ED-92BD-856FF61D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B3C-518C-4C42-8AE9-B07547FC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8A55-E09F-4C76-A466-137BE304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FED41-88B7-4960-BC3F-B77DF9A3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ECD3-51F0-434E-925C-67818CC3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2C394-CF13-4386-B4D7-BA69FE1A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41E8B-DB03-49A9-B737-926E8E58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FB740-CE32-4689-8C31-8871A56F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51D0-27AC-49BF-A54D-125C91C6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A7663-EC13-4BC7-B63B-B4E49B3E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45725-00B1-4FB9-9C73-D21D08CA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B6E7C-D088-4116-BDAB-A0C3AC5E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CBE-CA81-4544-B513-1432FBA5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287FD-236E-4270-986A-3C13056F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27BFF-867C-41DC-9561-005E2637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9517B-5DFF-4B76-9ED0-85DCA18B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36093-9DFB-421C-B91F-A6E8BC82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5BBF3-FBFF-40F5-AFD2-8013739E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728B1-C72E-45B6-AD07-C2D9B010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63B18-BE8B-40C6-A57A-7CABBD6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9D177-814F-4B1F-8DF2-AAF910D5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7EE4-26BD-48BA-86E2-B2F62BCB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7D05-4344-4349-9F74-6FC92A18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805-93CE-49AD-A418-C7454102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42828-9E04-4D05-98A8-97437B2C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B72-98D5-4D91-9F8E-A2FDB185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7AB-CC28-4481-A151-05B4231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714-56F0-4E68-859D-93933404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BA6A-CE41-40BD-8997-CC96C4852E8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260B-7097-4922-8E37-849188CC41C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D3AE-2F53-42F9-9E00-D133F0516860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2602-38A0-46EE-A408-E5EA7A62413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E277-65A4-4661-B8B4-24657BDD7740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248840"/>
          </a:xfrm>
          <a:prstGeom prst="rect">
            <a:avLst/>
          </a:prstGeom>
          <a:ln w="0">
            <a:noFill/>
          </a:ln>
        </p:spPr>
      </p:pic>
      <p:sp>
        <p:nvSpPr>
          <p:cNvPr id="223" name="Содержимое 2"/>
          <p:cNvSpPr/>
          <p:nvPr/>
        </p:nvSpPr>
        <p:spPr>
          <a:xfrm>
            <a:off x="4267080" y="3505320"/>
            <a:ext cx="4648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2c3e"/>
                </a:solidFill>
                <a:latin typeface="Arial"/>
              </a:rPr>
              <a:t>Автор: Александрова Н.В. преподаватель физ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2c3e"/>
                </a:solidFill>
                <a:latin typeface="Arial"/>
              </a:rPr>
              <a:t>ГБОУ СП СПО «ПКТи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2c3e"/>
                </a:solidFill>
                <a:latin typeface="Arial"/>
              </a:rPr>
              <a:t>г. Балаково Сара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3657600" y="83808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РАДУ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2" descr="Радуга: Рис.5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унная радуг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3280" y="1447920"/>
            <a:ext cx="8183520" cy="3270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990720" y="457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ЛУННАЯ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РАД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гненная радуг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4191120" y="152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cc"/>
                </a:solidFill>
                <a:latin typeface="Arial"/>
              </a:rPr>
              <a:t>ОГНЕННАЯ РАД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Туманная радуг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4191120" y="152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9d9d9"/>
                </a:solidFill>
                <a:latin typeface="Arial"/>
              </a:rPr>
              <a:t>ТУМАННАЯ РАД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2" descr="http://www.lescontamines.ru/zametki/photo_zametki_2/800px-Zirkum.JPG"/>
          <p:cNvPicPr/>
          <p:nvPr/>
        </p:nvPicPr>
        <p:blipFill>
          <a:blip r:embed="rId1"/>
          <a:srcRect l="0" t="0" r="0" b="422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1371600" y="685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141b"/>
                </a:solidFill>
                <a:latin typeface="Arial"/>
              </a:rPr>
              <a:t>Интернет -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6"/>
          <p:cNvSpPr/>
          <p:nvPr/>
        </p:nvSpPr>
        <p:spPr>
          <a:xfrm>
            <a:off x="533520" y="1523880"/>
            <a:ext cx="807696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ru.wikipedia.org/wiki/%D0%E0%E4%F3%E3%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traditio-ru.org/wiki/%D0%A0%D0%B0%D0%B4%D1%83%D0%B3%D0%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lifeglobe.net/blogs/details?id=4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2855880" cy="5331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Радуг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0" y="12193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17000"/>
          </a:bodyPr>
          <a:p>
            <a:pPr marL="45000" indent="-4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425d"/>
                </a:solidFill>
                <a:latin typeface="Verdana"/>
              </a:rPr>
              <a:t>Радуга и солнышко у меня в ладошке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00" indent="-4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425d"/>
                </a:solidFill>
                <a:latin typeface="Verdana"/>
              </a:rPr>
              <a:t>Чудо настоящее, а не понарошку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00" indent="-4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425d"/>
                </a:solidFill>
                <a:latin typeface="Verdana"/>
              </a:rPr>
              <a:t>Никогда не видел я- он такой красив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00" indent="-4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425d"/>
                </a:solidFill>
                <a:latin typeface="Verdana"/>
              </a:rPr>
              <a:t>Здесь он ярко-красный, а здесь вот синий-синий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00" indent="-4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http://img1.liveinternet.ru/images/attach/c/1/59/871/59871226_6634776b1c4a.jpg"/>
          <p:cNvPicPr/>
          <p:nvPr/>
        </p:nvPicPr>
        <p:blipFill>
          <a:blip r:embed="rId1"/>
          <a:stretch/>
        </p:blipFill>
        <p:spPr>
          <a:xfrm>
            <a:off x="228600" y="380880"/>
            <a:ext cx="4419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Картинка 4 из 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Картинка 7 из 1111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18036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2" descr="Файл:Rainbow1.svg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photogrpah-a-rainbow.jpg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Рисунок 3" descr="http://festival.1september.ru/articles/534726/f_clip_image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9:31:55Z</dcterms:created>
  <dc:creator>Acer</dc:creator>
  <dc:description/>
  <dc:language>en-US</dc:language>
  <cp:lastModifiedBy>User</cp:lastModifiedBy>
  <dcterms:modified xsi:type="dcterms:W3CDTF">2013-10-01T16:51:1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