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4B1-F448-4932-926F-95180395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B3F-B955-431B-BBE2-4C8C3FDA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2CA-84A0-467E-9763-3324AFD5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50A-FA2F-4B04-957F-5F444D90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C2B9-C99A-4A0B-9615-19131EA2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CFDC-4B0E-4FBE-8EA1-6442180E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96F0-7758-4246-9E8D-E7C98DBC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4462-E9AD-4FA3-A7A7-D3756398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1F57-75DD-47E4-A0DB-F10F5DCD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FDE3-D34E-49C7-9DAC-BFB51F4B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8C15-8CC9-4698-BECF-0F380174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E50-3F63-47A0-8F29-575580D0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BC92-585B-48B6-9D1F-A9469B1C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4A77-E8F7-462F-8D1F-2DD23700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5058-008D-427B-9506-47ADBF8D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33FB-28EE-43A8-90A6-B0E152CA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AC27-7B78-4180-9B36-DB056833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2F078-3755-4E74-8399-77DCF680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EB54-BC81-4C2A-9227-66F30E5D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E822-AB7E-4AD5-BC69-9CC0B7F0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83452-F294-492D-BCA3-3BBABC07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2E8B1-45F0-4611-B0B7-E057D580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6E7-858F-45D1-9734-C21878CD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40402-F094-4278-9D1D-FDCAD855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38C0-0662-4B07-841D-52D94AF9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3F4F4-CB60-4557-936A-BF518A63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D3FC-C7C4-480D-8435-8AC1F65D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CEBA-6642-4F02-90D1-5F74CE7D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0F9C8-0ECF-4830-9E76-64043989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8C2B-1294-42BF-A9A2-E3D92D55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2677-6C6A-4964-B6D5-8F705979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9BCAE-F791-436C-BD8E-9808AA1A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40047-921A-439B-8906-AF895387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0E2-F9F7-4050-92C6-5A27646B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204FF-03E5-4DB7-80FE-8DA67294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4E6F2-4094-4388-9A55-5959F6AF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75C0-D9EF-474B-9426-A2778D93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95CF-F8FE-431A-8990-730448F1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8B27-549D-450A-9FE4-85D3A138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B4FEC-E184-4B3C-9742-A5B25803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FE458-E942-4D47-8BDB-068F79AA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3187-8DFB-4A3D-BB7C-3F3CF16A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9ACA9-2441-4A95-88B5-BA852C33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D8097-860F-451C-B5C7-F265682D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F49-DA17-4823-9D1D-66153CD9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781D1-1F8E-46B5-BCC9-6790E59E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86613-B141-4535-B7C0-CE6CCC6B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9112B-0197-427A-9E06-06FC0D36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8D2BA-5E54-413B-9C0C-EBB8FCA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D3715-6CD0-41CD-9554-AA106380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E271-5136-4E45-802E-DE931BE8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72CEA-7551-471C-BA4B-FECAD1F0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411E7-7AC7-430A-B294-81005831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D711E-23E5-445F-8CDB-ADA9C932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76591-BE0C-4736-91C9-02E0A57F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B95-B735-4EDB-BFD4-E7EB901F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6A9A-8B8F-4052-87C7-113E7EDA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92F-8AE9-4709-B33B-B7827726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010-B911-4220-BF64-35EFF29F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41D-3660-4B6D-88D3-6786B7F1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7296-6F2A-4951-B394-22D5D6FACAC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FD41-E09F-485E-BF97-89A2895629F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4B7C-E92D-4B19-BF7E-F8F9DC8EF53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A613-4673-47E3-9DDD-4E7BAFC8329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BE26-1FBF-4529-8F44-28573847C59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248840"/>
          </a:xfrm>
          <a:prstGeom prst="rect">
            <a:avLst/>
          </a:prstGeom>
          <a:ln w="0">
            <a:noFill/>
          </a:ln>
        </p:spPr>
      </p:pic>
      <p:sp>
        <p:nvSpPr>
          <p:cNvPr id="223" name="Содержимое 2"/>
          <p:cNvSpPr/>
          <p:nvPr/>
        </p:nvSpPr>
        <p:spPr>
          <a:xfrm>
            <a:off x="4267080" y="3505320"/>
            <a:ext cx="4648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2c3e"/>
                </a:solidFill>
                <a:latin typeface="Arial"/>
              </a:rPr>
              <a:t>Автор: Александрова Н.В. преподаватель физ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2c3e"/>
                </a:solidFill>
                <a:latin typeface="Arial"/>
              </a:rPr>
              <a:t>ГБОУ СП СПО «ПКТи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2c3e"/>
                </a:solidFill>
                <a:latin typeface="Arial"/>
              </a:rPr>
              <a:t>г. Балаково Сара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3657600" y="83808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РАДУ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2" descr="Радуга: Рис.5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унная радуг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3280" y="1447920"/>
            <a:ext cx="8183520" cy="3270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990720" y="457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ЛУННАЯ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РАД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гненная радуг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4191120" y="152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cc"/>
                </a:solidFill>
                <a:latin typeface="Arial"/>
              </a:rPr>
              <a:t>ОГНЕННАЯ РАД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Туманная радуг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4191120" y="152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9d9d9"/>
                </a:solidFill>
                <a:latin typeface="Arial"/>
              </a:rPr>
              <a:t>ТУМАННАЯ РАД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2" descr="http://www.lescontamines.ru/zametki/photo_zametki_2/800px-Zirkum.JPG"/>
          <p:cNvPicPr/>
          <p:nvPr/>
        </p:nvPicPr>
        <p:blipFill>
          <a:blip r:embed="rId1"/>
          <a:srcRect l="0" t="0" r="0" b="422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1371600" y="685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141b"/>
                </a:solidFill>
                <a:latin typeface="Arial"/>
              </a:rPr>
              <a:t>Интернет -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6"/>
          <p:cNvSpPr/>
          <p:nvPr/>
        </p:nvSpPr>
        <p:spPr>
          <a:xfrm>
            <a:off x="533520" y="1523880"/>
            <a:ext cx="807696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ru.wikipedia.org/wiki/%D0%E0%E4%F3%E3%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traditio-ru.org/wiki/%D0%A0%D0%B0%D0%B4%D1%83%D0%B3%D0%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lifeglobe.net/blogs/details?id=4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2855880" cy="5331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Радуг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0" y="12193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17000"/>
          </a:bodyPr>
          <a:p>
            <a:pPr marL="45000" indent="-4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425d"/>
                </a:solidFill>
                <a:latin typeface="Verdana"/>
              </a:rPr>
              <a:t>Радуга и солнышко у меня в ладошке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00" indent="-4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425d"/>
                </a:solidFill>
                <a:latin typeface="Verdana"/>
              </a:rPr>
              <a:t>Чудо настоящее, а не понарошку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00" indent="-4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425d"/>
                </a:solidFill>
                <a:latin typeface="Verdana"/>
              </a:rPr>
              <a:t>Никогда не видел я- он такой красив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00" indent="-4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425d"/>
                </a:solidFill>
                <a:latin typeface="Verdana"/>
              </a:rPr>
              <a:t>Здесь он ярко-красный, а здесь вот синий-синий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00" indent="-4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http://img1.liveinternet.ru/images/attach/c/1/59/871/59871226_6634776b1c4a.jpg"/>
          <p:cNvPicPr/>
          <p:nvPr/>
        </p:nvPicPr>
        <p:blipFill>
          <a:blip r:embed="rId1"/>
          <a:stretch/>
        </p:blipFill>
        <p:spPr>
          <a:xfrm>
            <a:off x="228600" y="380880"/>
            <a:ext cx="4419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Картинка 4 из 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Картинка 7 из 1111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18036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2" descr="Файл:Rainbow1.svg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photogrpah-a-rainbow.jpg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Рисунок 3" descr="http://festival.1september.ru/articles/534726/f_clip_image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9:31:55Z</dcterms:created>
  <dc:creator>Acer</dc:creator>
  <dc:description/>
  <dc:language>en-US</dc:language>
  <cp:lastModifiedBy>User</cp:lastModifiedBy>
  <dcterms:modified xsi:type="dcterms:W3CDTF">2013-10-01T16:51:1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