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80F-30FC-45CE-B76B-53562FD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369-93AD-49AC-8627-88D95D7D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7C07-6A8C-425A-A2B0-B96272F8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98551-904C-477A-9ECA-023AFE8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B253C-0D27-4278-BD85-B00C6CB3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82C69-9247-41DC-A859-8B34B83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80AC4-9ABE-47BB-A603-2B493CF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01982-0661-43A2-AA26-6CE31AB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81E3-1809-4E53-A365-4831A380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3252E-47FF-4F0D-BCC5-A7DEA264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F1921-0699-45AE-8324-D260AF9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AC11CF-2DD6-4B7A-B35D-28F9C5AF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F1B-1877-462C-9A41-BD53368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CAF27-89BF-4568-8B51-CAECC2F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B4D7C5-28B1-417F-A53E-6E745F6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57318-EE2D-4FBA-917A-75E1A6D7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7BA802-23F5-49A8-86F6-8E192599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A4575-0E55-4C4F-94D7-FE219FD2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1ACAD1-7121-484D-9B45-4D963B2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607744-73FC-4813-AA0D-6111107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7D4DB-02A4-4E4D-8939-C2603B5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CA2CE-61E3-4D1B-BABC-7DF4743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EE1DF-8D34-4854-AC8C-86D84F5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8BE-2B53-4367-BF1C-13DF03A3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1368BE-ECD2-413B-95CA-1E8C8F8A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63EA-43B8-4E48-AA9F-871CBEBB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324-9ECD-4565-9003-B27D0667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F427-FD43-48DC-9F5C-C3351FCD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067-4993-4510-9D68-3FABF7C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D504-DBFA-40A7-A746-7BDAD5C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4BA0-51C1-408F-9E49-DF1505E2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8954-38E8-4369-B067-1C26203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A0B-5784-41F1-A7A7-1186143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2F39-90D9-4DF3-9015-8A60964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AEF-7F3C-4790-93B6-6A3894B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4EF-8E69-415D-959C-524CED3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6AA-10E0-4A44-A086-3E39FC41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D37-BD8F-45FB-BE89-36D8991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C835-C4D6-4903-A211-2029932E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440C-A6DC-49C9-AD2D-A1415F3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9561-FC2B-4FB5-9CA6-90A309ED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1697-6DD9-4B24-AD4C-97722221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A343-577B-4D39-A78F-44A0C7D0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8B2-A9B7-423B-86D4-2788312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934B-5440-4DA8-B37D-531488F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CEE9-780C-4BA4-8CB9-0F7E87A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6F69-5511-42A2-8016-8737B9F3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696A-96CC-4E60-ACEA-2C0E2EA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E04B-9D38-4B09-9FB4-E94F6B4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44E8-514F-425D-A340-60702873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E1B1-3A53-4614-8159-ADF0DD27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5ED8-CF4B-4575-9129-EFE8D5C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24D6-340C-478B-A174-5204CEC4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0E44-ABEE-4901-9C7D-E8898436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5CA-6411-4E84-9DAF-7925033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A0DC-B6E6-410B-AED8-324FB7E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0625-97BF-4A65-9E08-18D74E2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4E54-9BE6-4082-9F18-BE39D8B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46E7-20FE-4F51-87E2-A8932BE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9848-119A-4509-9FC4-3C84D8A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F45C-0391-475F-83F1-9B88F1D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E9D1-043C-4414-99BC-532E12D1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46CB-0E4A-40B3-B933-C0F5E849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6EFE-A063-436F-B4D3-0E599175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BD28-7CC4-4814-BFBB-B3B63136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7A2-1FD4-41A3-AF17-2AB8D65C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485F2-6A2F-4A03-8B06-02C1D84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D257-96D1-40FD-84E9-6ABA4A4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B8CC-435D-46F4-951A-EF69960C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40F8-701E-4F8B-A8B0-CC729AB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7897-50C6-47EA-B03F-C876FF8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7F3F-096E-4829-92D1-45A6CA3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C7E7-325A-4FDC-B3A3-5019835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B5CC-F896-4C55-9DDB-0223B97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795E-4E8B-44AA-9198-8D033A3B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CF3D-BCD8-4A70-BAF4-3164E7ED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66D-89AB-4233-B112-84CFAD44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2CB9-E98E-4C06-BFF0-56AD8B89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B95C-6A78-4835-B839-A08D6AB1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87F4-BBC7-409C-8D0C-EDCF835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693C-AB58-449E-AD32-394D7B0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9474-968F-4154-8F95-EC4A799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F880-0B5A-4398-B5AE-0167B31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A21B-E252-4608-9463-2545DCF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5689-AE43-4B9C-A36F-65E7279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1E2C-10F9-4ECF-8493-7F37C92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A6632-9B3D-4AF7-9446-A8D83336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30B-7A96-4FD8-AE39-290DA38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5357-C9C6-4E0E-A0E4-B0298FE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9616-4777-4A40-8444-B5AC3E2C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70AC-4BA1-4116-A56D-836BF3C5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E114-0783-4AB2-8321-5A17D84A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D05F-C26B-462A-AB48-88A44FE7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B8C5E-3D30-4EC8-94B6-0D403C85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3831-2B8D-404A-A96D-56296E77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4964-08BA-420A-A876-3586B93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5FC8-27B7-4011-ACAF-AEEAEBF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E6FE-42D9-482A-AE9E-6F1DE6E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801-DD66-407B-8F33-D6025F2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92C6-D5C6-4402-B263-B7C8A9C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62FA-BBD6-44D3-B7E2-D250741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1CFB-C18A-428D-B66C-EC5CCD0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F95AC-FD23-42A0-B00C-101201C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AB346-43AE-4A98-AD36-8B443A62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8483-694C-4217-BB83-C58BED47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B4E1-AADB-4F23-9AF2-5C588D5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E7D1B-94DB-469F-86DE-CC87014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DD4DE-73FF-43D1-AC2A-0CC6C90D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24B55-AAFF-4B5C-B07F-D33644F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098-63CD-4EC4-9FFD-0B91062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3002-4B12-49AE-8535-7B617F01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0975-FD40-4485-A8CD-8058C79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7BBE0-9836-45AD-9CBC-10B13CC8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73CB2-39E4-4F67-A0FC-A0EA9EB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F56EF-3067-4C5F-A56C-ACB2142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9969-5EF1-4A75-B1F3-2B708E4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35E7-FC92-43F0-96EB-BDE037A8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E43A8-38F3-4969-88CE-63C2A6F4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D745A-951A-4415-80A7-8DE2766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71E9A-72B7-47A7-A30C-E2589D4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8A1D-D357-4CC3-A2DB-F8ED2252EA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F1C-481C-4BA2-9501-FF73C26D94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415-68CA-499A-97C3-4F53EE57EC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B93F-06E8-48B3-9CB6-735AEE2A54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51A-F3AD-4761-80F2-C7EDFF641E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C17D-3CAD-44BE-9A68-B00AFC8B2E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118-557D-45DA-81D8-F7084025BB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8B7-1524-444E-848B-EFAFE0AD4D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7AF8-76B4-462F-B304-578BD16253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5CD7-415C-4DA8-A892-2769F3F279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ru.wikipedia.org/wiki/%CC%E8%F0%E0%E6" TargetMode="External"/><Relationship Id="rId3" Type="http://schemas.openxmlformats.org/officeDocument/2006/relationships/hyperlink" Target="http://optika8.narod.ru/16.Miragi.htm" TargetMode="External"/><Relationship Id="rId4" Type="http://schemas.openxmlformats.org/officeDocument/2006/relationships/hyperlink" Target="http://log-in.ru/articles/mirazhi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3" descr="http://www.molomo.ru/img/mirage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2150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785880" y="642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МИРАЖ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4786200" y="521496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Автор: Александрова Н.В. преподаватель физик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ГБОУ СП СПО «ПКТиМ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http://physik.ucoz.ru/images/gia1/3_50.jpg"/>
          <p:cNvPicPr/>
          <p:nvPr/>
        </p:nvPicPr>
        <p:blipFill>
          <a:blip r:embed="rId1"/>
          <a:srcRect l="0" t="40329" r="0" b="0"/>
          <a:stretch/>
        </p:blipFill>
        <p:spPr>
          <a:xfrm>
            <a:off x="611280" y="1428840"/>
            <a:ext cx="8074080" cy="48085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5"/>
          <p:cNvSpPr/>
          <p:nvPr/>
        </p:nvSpPr>
        <p:spPr>
          <a:xfrm>
            <a:off x="357120" y="14292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Схема возникнов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нижнего (а) и верхнего (б) мир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214200" y="2142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6" descr="http://school32-volzhsky.narod.ru/images/kry1.JPG"/>
          <p:cNvPicPr/>
          <p:nvPr/>
        </p:nvPicPr>
        <p:blipFill>
          <a:blip r:embed="rId1"/>
          <a:stretch/>
        </p:blipFill>
        <p:spPr>
          <a:xfrm>
            <a:off x="214200" y="500040"/>
            <a:ext cx="8572680" cy="564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5"/>
          <p:cNvSpPr/>
          <p:nvPr/>
        </p:nvSpPr>
        <p:spPr>
          <a:xfrm>
            <a:off x="785880" y="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Искривление светового луча в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оптически неоднородной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среде</a:t>
            </a:r>
            <a:r>
              <a:rPr b="0" i="1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6" descr="http://www.skeptik.net/ufo/optic/3.jpg"/>
          <p:cNvPicPr/>
          <p:nvPr/>
        </p:nvPicPr>
        <p:blipFill>
          <a:blip r:embed="rId1"/>
          <a:stretch/>
        </p:blipFill>
        <p:spPr>
          <a:xfrm>
            <a:off x="571680" y="1143000"/>
            <a:ext cx="7858080" cy="5403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3"/>
          <p:cNvSpPr/>
          <p:nvPr/>
        </p:nvSpPr>
        <p:spPr>
          <a:xfrm>
            <a:off x="714240" y="785880"/>
            <a:ext cx="77155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Прямая соединительная линия 7"/>
          <p:cNvSpPr/>
          <p:nvPr/>
        </p:nvSpPr>
        <p:spPr>
          <a:xfrm>
            <a:off x="714240" y="1928880"/>
            <a:ext cx="7715520" cy="712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Прямая соединительная линия 12"/>
          <p:cNvSpPr/>
          <p:nvPr/>
        </p:nvSpPr>
        <p:spPr>
          <a:xfrm>
            <a:off x="714240" y="4143240"/>
            <a:ext cx="7715520" cy="716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73" name="Прямая со стрелкой 14"/>
          <p:cNvCxnSpPr/>
          <p:nvPr/>
        </p:nvCxnSpPr>
        <p:spPr>
          <a:xfrm flipH="1" flipV="1">
            <a:off x="6500160" y="1999800"/>
            <a:ext cx="1429560" cy="16437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74" name="Прямая со стрелкой 16"/>
          <p:cNvCxnSpPr/>
          <p:nvPr/>
        </p:nvCxnSpPr>
        <p:spPr>
          <a:xfrm flipH="1">
            <a:off x="4785480" y="2071800"/>
            <a:ext cx="1715400" cy="20718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75" name="Прямая со стрелкой 18"/>
          <p:cNvCxnSpPr/>
          <p:nvPr/>
        </p:nvCxnSpPr>
        <p:spPr>
          <a:xfrm flipH="1" flipV="1">
            <a:off x="3214080" y="1999440"/>
            <a:ext cx="1572120" cy="2143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6" name="Прямая со стрелкой 20"/>
          <p:cNvCxnSpPr/>
          <p:nvPr/>
        </p:nvCxnSpPr>
        <p:spPr>
          <a:xfrm flipH="1">
            <a:off x="1285560" y="2000160"/>
            <a:ext cx="1929600" cy="185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7" name="Прямая со стрелкой 22"/>
          <p:cNvCxnSpPr/>
          <p:nvPr/>
        </p:nvCxnSpPr>
        <p:spPr>
          <a:xfrm flipH="1">
            <a:off x="6500160" y="2428920"/>
            <a:ext cx="1429560" cy="1715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78" name="Прямая со стрелкой 24"/>
          <p:cNvCxnSpPr/>
          <p:nvPr/>
        </p:nvCxnSpPr>
        <p:spPr>
          <a:xfrm flipH="1" flipV="1">
            <a:off x="4857480" y="1999440"/>
            <a:ext cx="1643760" cy="21438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79" name="Прямая со стрелкой 26"/>
          <p:cNvCxnSpPr/>
          <p:nvPr/>
        </p:nvCxnSpPr>
        <p:spPr>
          <a:xfrm flipH="1">
            <a:off x="3214440" y="1999800"/>
            <a:ext cx="1643760" cy="21438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80" name="Прямая со стрелкой 28"/>
          <p:cNvCxnSpPr/>
          <p:nvPr/>
        </p:nvCxnSpPr>
        <p:spPr>
          <a:xfrm flipH="1" flipV="1">
            <a:off x="1428120" y="2285280"/>
            <a:ext cx="1786680" cy="18579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500040" y="0"/>
            <a:ext cx="75722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1" i="1" lang="ru-RU" sz="2200" spc="-1" strike="noStrike">
                <a:solidFill>
                  <a:srgbClr val="002060"/>
                </a:solidFill>
                <a:latin typeface="Franklin Gothic Book"/>
              </a:rPr>
              <a:t>Миражи второго класса, лучи которых загибаются за линию горизонта. Их называют верхними(они возникают прямо в небе) или миражами дальнего видения, их наблюдают в северных широтах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6" descr="http://scorpicora1.narod.ru/astronomia/img/mirag2.jpg"/>
          <p:cNvPicPr/>
          <p:nvPr/>
        </p:nvPicPr>
        <p:blipFill>
          <a:blip r:embed="rId1"/>
          <a:stretch/>
        </p:blipFill>
        <p:spPr>
          <a:xfrm>
            <a:off x="142920" y="1143000"/>
            <a:ext cx="8715240" cy="5500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0" descr="http://900igr.net/data/priroda/5-JAvlenija-1.files/0007-010-Mirazh.jpg"/>
          <p:cNvPicPr/>
          <p:nvPr/>
        </p:nvPicPr>
        <p:blipFill>
          <a:blip r:embed="rId1"/>
          <a:stretch/>
        </p:blipFill>
        <p:spPr>
          <a:xfrm>
            <a:off x="785880" y="1000080"/>
            <a:ext cx="7521480" cy="508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http://optika8.narod.ru/images/im16.10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Рисунок 3" descr="http://udacha1965.com/wp-content/uploads/2012/01/31987261ed54038cfea51749d8e595fd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3" descr="http://festival.1september.ru/files/articles/51/5169/516967/5.jpg"/>
          <p:cNvPicPr/>
          <p:nvPr/>
        </p:nvPicPr>
        <p:blipFill>
          <a:blip r:embed="rId1"/>
          <a:stretch/>
        </p:blipFill>
        <p:spPr>
          <a:xfrm>
            <a:off x="0" y="357120"/>
            <a:ext cx="8715240" cy="628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298440" y="360360"/>
            <a:ext cx="6638760" cy="998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213840" y="2285640"/>
            <a:ext cx="4357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ru.wikipedia.org/wiki/%CC%E8%F0%E0%E6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optika8.narod.ru/16.Miragi.htm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log-in.ru/articles/mirazhi/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http://images.yandex.ru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9" name="Рисунок 3" descr="http://festival.1september.ru/files/articles/51/5169/516967/5.jpg"/>
          <p:cNvPicPr/>
          <p:nvPr/>
        </p:nvPicPr>
        <p:blipFill>
          <a:blip r:embed="rId6"/>
          <a:stretch/>
        </p:blipFill>
        <p:spPr>
          <a:xfrm>
            <a:off x="4572000" y="1571760"/>
            <a:ext cx="4429080" cy="43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1" descr="http://planetarium-kharkov.org/files/images/troynoy-voshod-solnca.preview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9" descr="http://coolreferat.com/ref-2_1335066016-19589.coolpic"/>
          <p:cNvPicPr/>
          <p:nvPr/>
        </p:nvPicPr>
        <p:blipFill>
          <a:blip r:embed="rId1"/>
          <a:stretch/>
        </p:blipFill>
        <p:spPr>
          <a:xfrm>
            <a:off x="214200" y="642960"/>
            <a:ext cx="8664840" cy="559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3" descr="http://optika8.narod.ru/images/im16.8.jpg"/>
          <p:cNvPicPr/>
          <p:nvPr/>
        </p:nvPicPr>
        <p:blipFill>
          <a:blip r:embed="rId1"/>
          <a:stretch/>
        </p:blipFill>
        <p:spPr>
          <a:xfrm>
            <a:off x="571680" y="571680"/>
            <a:ext cx="7929360" cy="588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http://s004.radikal.ru/i206/1010/48/424233fa9325.jpg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42916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0"/>
          <p:cNvSpPr/>
          <p:nvPr/>
        </p:nvSpPr>
        <p:spPr>
          <a:xfrm>
            <a:off x="114300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Нижние мираж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http://media.log-in.ru/images/articles/article_486/06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http://mtdata.ru/u11/photoAB5C/20196656033-0/big.jpeg"/>
          <p:cNvPicPr/>
          <p:nvPr/>
        </p:nvPicPr>
        <p:blipFill>
          <a:blip r:embed="rId2"/>
          <a:stretch/>
        </p:blipFill>
        <p:spPr>
          <a:xfrm>
            <a:off x="357120" y="1000080"/>
            <a:ext cx="8501040" cy="564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Рисунок 3" descr="http://optika8.narod.ru/images/im16.11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28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2" descr="http://optika8.narod.ru/images/im16.9.jpg"/>
          <p:cNvPicPr/>
          <p:nvPr/>
        </p:nvPicPr>
        <p:blipFill>
          <a:blip r:embed="rId2"/>
          <a:stretch/>
        </p:blipFill>
        <p:spPr>
          <a:xfrm>
            <a:off x="214200" y="107172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0:36:44Z</dcterms:created>
  <dc:creator>Марина</dc:creator>
  <dc:description/>
  <dc:language>en-US</dc:language>
  <cp:lastModifiedBy>User</cp:lastModifiedBy>
  <dcterms:modified xsi:type="dcterms:W3CDTF">2013-09-07T19:12:28Z</dcterms:modified>
  <cp:revision>92</cp:revision>
  <dc:subject/>
  <dc:title>ДЕЛОВАЯ ЭТИКА</dc:title>
</cp:coreProperties>
</file>