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1AF-A3D9-416A-830E-029367804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F04E-C5DD-4B00-AC83-0A021596AF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6300-7B7C-4273-9650-2FF9C236C8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F665-8C81-4E15-8BF0-9791D7990D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8F11-85C4-46ED-8FCF-ED58A9C64C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573C-9D7A-479B-B155-CF79FFCF6C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5428-C960-44C0-9F19-A5573BBEB6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96B8-BF4E-491F-971A-C7C73B1591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5CE7-6233-4474-8424-1308C7251C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8930-4EA1-4B38-9C6F-E15966DBBB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2AB-6123-41A9-8D91-7B8206B7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672-1B3A-41A0-9BEA-5EC263B2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FAE-5B13-4C00-B20E-06683A7E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E51-1A36-4BD7-B1B5-1D94334A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6C22-1E07-45AC-A017-2612144A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F28D-CD43-4933-9D3B-0C57E027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186B-5DC2-4947-9BB3-6755D62D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23DA-5DFC-41F4-BC06-B4730768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EF07-FC82-4CC5-A8D7-8FD44227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97CF-9BDD-4979-9DB9-EA8784BD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7348-EAC0-4050-9E26-1C74961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0CD-17E5-4983-89BD-1D6C23EF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A4D4-D271-4725-B46E-369BD91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D7D1-28C3-4FD7-923F-2C07031B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86FB-B389-429D-9418-70D344A2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C8C8-3E3A-4AD0-B5F2-BDD89A44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D1AE-02BD-4FC0-8B64-2000F9C3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AE3-EA03-4A4F-BC96-5FA68435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79F-BB89-4293-9F6A-30BF8C9A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304-17D1-4403-8F29-4E2516F7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DD1-213D-4EC5-90B6-C34E9BB1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448-1154-4B1F-BB4C-6F63DB90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1B9-056A-46F1-BBB5-5CB91E13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9C1-2D1E-4975-92DD-1D8D6B9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265-265A-479E-A74C-76E404DC9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D0F3-B9E5-4A5A-9327-0D2C169AA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Times New Roman"/>
              </a:rPr>
              <a:t>День пожилого </a:t>
            </a:r>
            <a:br>
              <a:rPr sz="8000"/>
            </a:br>
            <a:r>
              <a:rPr b="1" lang="en-US" sz="8000" spc="-1" strike="noStrike">
                <a:solidFill>
                  <a:srgbClr val="feec94"/>
                </a:solidFill>
                <a:latin typeface="Times New Roman"/>
              </a:rPr>
              <a:t>человека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45925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рова С.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цей№2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нкт-Петербург 20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6"/>
          <p:cNvSpPr/>
          <p:nvPr/>
        </p:nvSpPr>
        <p:spPr>
          <a:xfrm>
            <a:off x="971640" y="836640"/>
            <a:ext cx="396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ь проведения Дня пожилых людей - привлечение внимания общественности к проблемам людей пожилого возраста; повышение степени информирования общественности о проблеме демографического старения общества, индивидуальных и социальных потребностях пожилых людей, их вкладе в развитие общества, необходимости изменения отношения к пожилым людям; обеспечение людям пожилого возраста независимости, участия в общественной, экономической, культурной и духовной жизни общества, необходимого ухода, условий для реализации внутреннего потенциала и поддержания их достоин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42472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жилым быть – поверьте – не значит пожит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ь у вас впереди еще годы для счасть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прожитых дней календарь ворош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здыхать о былых огорченьях – ненасть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у а можно с улыбкой туда заглянут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одить то, что было: всему срок кончаться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без грусти, светло и свободно вздохнут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мечтать о заслуженном будущем счасть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сть же молодость ваш живет в сыновьях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дочерях пусть живет красота молода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 носили детей на руках и в сердц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 наследство им молодость вашу отда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ж быть пожилым – не значит прожит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ь пожить – накопить Клод не тленный, бесцен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ний, опыта клад и уменья прож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ть свой жизненный, славный единственно верны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20866800">
            <a:off x="6084720" y="2852640"/>
            <a:ext cx="2664000" cy="1773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 rot="443400">
            <a:off x="6443640" y="475920"/>
            <a:ext cx="2160720" cy="1650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788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сть каждый день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отвела судьба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осит радость с солнечным восходом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светит вам счастливая звезда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раня от бед и жизненной невзгоды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ачи вам и искреннего смеха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я вам на долгие года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лаем вам во всех делах успеха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рады встрече с вами мы всегда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083120" cy="4082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347640" y="404640"/>
            <a:ext cx="7093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хотим быть обузой для вас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ворят старики повсеместн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текут тихо слезы из гла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 ведь нам рядом с вами не тес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нам с вами напротив свет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це ярче сияет на неб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нам с вами уютно теп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прожить столько каждый хотел б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бье лето пусть щедро не ра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арит вас теплом, не дождям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ти, внуки пусть радуют ва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им вас старики будьте с нами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382200">
            <a:off x="178920" y="620640"/>
            <a:ext cx="3059280" cy="2227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rot="21091200">
            <a:off x="178920" y="349992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619280" y="4005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звать вас пожил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й язык, поверьте, отказыва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 активные, вы живы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 красавцы все и красавицы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1116000" y="1268280"/>
            <a:ext cx="71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71640" y="2276640"/>
            <a:ext cx="74102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и и задач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0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ривлечение внимания к проблемам людей пожилого возраст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возможность улучшения качества жизни людей преклонного возра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укрепление связи между поколениями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Формирование доброго, уважительного отношения к старшему поколению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2700360" y="836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C:\Users\Светлана\Pictures\разное\дпл-фото\0_b0c5a_b183bced_X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2700360" y="836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356000" y="980640"/>
            <a:ext cx="4788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юди пожилые, сердцем молоды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олько повидали  вы путей, дор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рячо любили, и  детей растил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 надеждой жили:  меньше бы тревог!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Users\Светлана\Pictures\разное\дпл-фото\den_poh1.jpg"/>
          <p:cNvPicPr/>
          <p:nvPr/>
        </p:nvPicPr>
        <p:blipFill>
          <a:blip r:embed="rId1"/>
          <a:stretch/>
        </p:blipFill>
        <p:spPr>
          <a:xfrm>
            <a:off x="250920" y="476280"/>
            <a:ext cx="4427280" cy="562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8"/>
          <p:cNvSpPr/>
          <p:nvPr/>
        </p:nvSpPr>
        <p:spPr>
          <a:xfrm>
            <a:off x="2700360" y="836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42920" y="4525920"/>
            <a:ext cx="91440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юди пожилые, матушка Рос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ас не баловала  легкою судьб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ай вам Бог покоя,  чтобы над реко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лнце озаряло  купол  голуб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C:\Users\Светлана\Pictures\разное\дпл-фото\PA010406.jpg"/>
          <p:cNvPicPr/>
          <p:nvPr/>
        </p:nvPicPr>
        <p:blipFill>
          <a:blip r:embed="rId1"/>
          <a:stretch/>
        </p:blipFill>
        <p:spPr>
          <a:xfrm>
            <a:off x="684360" y="333360"/>
            <a:ext cx="6983280" cy="4165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8"/>
          <p:cNvSpPr/>
          <p:nvPr/>
        </p:nvSpPr>
        <p:spPr>
          <a:xfrm>
            <a:off x="2700360" y="836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84360" y="620640"/>
            <a:ext cx="73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Люди пожилые,  вы во всем такие:        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тдаете душу, опыт и любовь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Дорогому дому,  миру молодому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И всему, что сердце  вспоминает вновь.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Содержимое 12" descr="0_294_e6dc798b_xl.jpg"/>
          <p:cNvPicPr/>
          <p:nvPr/>
        </p:nvPicPr>
        <p:blipFill>
          <a:blip r:embed="rId1"/>
          <a:stretch/>
        </p:blipFill>
        <p:spPr>
          <a:xfrm>
            <a:off x="539640" y="4437000"/>
            <a:ext cx="3400560" cy="2187720"/>
          </a:xfrm>
          <a:prstGeom prst="rect">
            <a:avLst/>
          </a:prstGeom>
          <a:ln w="0">
            <a:noFill/>
          </a:ln>
        </p:spPr>
      </p:pic>
      <p:pic>
        <p:nvPicPr>
          <p:cNvPr id="143" name="Содержимое 14" descr="image391505.jpg"/>
          <p:cNvPicPr/>
          <p:nvPr/>
        </p:nvPicPr>
        <p:blipFill>
          <a:blip r:embed="rId2"/>
          <a:stretch/>
        </p:blipFill>
        <p:spPr>
          <a:xfrm>
            <a:off x="4284720" y="4149720"/>
            <a:ext cx="4067280" cy="2276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Светлана\Pictures\разное\дпл-фото\78361464_large_Kopiya_70596334_1297543726_shutterstock_7769704625x416.jpg"/>
          <p:cNvPicPr/>
          <p:nvPr/>
        </p:nvPicPr>
        <p:blipFill>
          <a:blip r:embed="rId3"/>
          <a:stretch/>
        </p:blipFill>
        <p:spPr>
          <a:xfrm rot="20721600">
            <a:off x="1692000" y="2420640"/>
            <a:ext cx="2663640" cy="177480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13" descr="0_5d955_4321b1fd_XL.jpeg"/>
          <p:cNvPicPr/>
          <p:nvPr/>
        </p:nvPicPr>
        <p:blipFill>
          <a:blip r:embed="rId4"/>
          <a:stretch/>
        </p:blipFill>
        <p:spPr>
          <a:xfrm rot="737400">
            <a:off x="5364000" y="2349360"/>
            <a:ext cx="1695600" cy="2136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4"/>
          <p:cNvSpPr/>
          <p:nvPr/>
        </p:nvSpPr>
        <p:spPr>
          <a:xfrm>
            <a:off x="0" y="285264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Содержимое 6" descr="IMG_0883.JPG"/>
          <p:cNvPicPr/>
          <p:nvPr/>
        </p:nvPicPr>
        <p:blipFill>
          <a:blip r:embed="rId1"/>
          <a:stretch/>
        </p:blipFill>
        <p:spPr>
          <a:xfrm>
            <a:off x="3995640" y="260280"/>
            <a:ext cx="4389480" cy="58532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3502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юди пожилы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усть года был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удут вам опоро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ети — все пойму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 поклон вам низ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 родных и близ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 от всей отчиз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 бесценный труд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6"/>
          <p:cNvSpPr txBox="1"/>
          <p:nvPr/>
        </p:nvSpPr>
        <p:spPr>
          <a:xfrm>
            <a:off x="900000" y="2276640"/>
            <a:ext cx="7581960" cy="21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0" name="Picture 11" descr="BD21329_"/>
          <p:cNvPicPr/>
          <p:nvPr/>
        </p:nvPicPr>
        <p:blipFill>
          <a:blip r:embed="rId1"/>
          <a:stretch/>
        </p:blipFill>
        <p:spPr>
          <a:xfrm>
            <a:off x="4486320" y="33433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68360" y="1886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народный день пожилых людей отмечается ежегодно 1 октября с 1991 года согласно решению Генеральной Ассамблеи Организации Объединенных Наций (резолюции 45/106 от 14 декабря 1990 года). Изначально День пожилых людей было принято проводить только в Европе, однако со временем такой праздник перекочевал и в страны Америки. День пожилых людей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зднуется с большим размахом в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андинавских странах. В этот день многие теле- и радиопрограммы транслируют передачи с учетом вкусов пожилых людей. С девяностых годов прошлого столетия о нем заговорили, как о международно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оссии в 1992 г. принято специальное постановление президиума Верховного Совета «О проблемах пожилых людей», в котором на основе значимости рекомендаций ООН 1 октября объявлено Днём пожилых людей. В этом постановлении правительству предложено проводить приуроченные к Международному дню пожилых людей специальные мероприятия, для координации которых постановлено организовать специальную комисс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9:31:04Z</dcterms:created>
  <dc:creator>internet</dc:creator>
  <dc:description/>
  <dc:language>en-US</dc:language>
  <cp:lastModifiedBy>User</cp:lastModifiedBy>
  <dcterms:modified xsi:type="dcterms:W3CDTF">2013-10-01T09:19:47Z</dcterms:modified>
  <cp:revision>38</cp:revision>
  <dc:subject/>
  <dc:title>Слайд 1</dc:title>
</cp:coreProperties>
</file>