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E373-CBF3-4865-83E8-1C66AE454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85CA-0DBE-4568-BAD9-3FE180FDD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F791-0B88-4DCA-AED6-DB7C87BC9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CC62-F35F-4259-A1FB-7734553BA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8FD3-7910-4FAD-8FB1-E5A7CBDB6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B309-F62A-4100-8C12-444DF0486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6FF5-695F-407E-8F8A-E1E1A663E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C3EC-4033-4122-A967-9020F312F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A777-7F64-4297-98E2-69ED0CB3F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B9FC-4B59-4FB0-B0FA-F86611F10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D9D7-2598-4E10-B6D3-4B04DB4D0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7BCD-378B-4E20-94D7-F93D81B73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83055-A3E2-4DC0-9D42-FA8D59C7EB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0;&#1085;&#1075;&#1083;&#1080;&#1081;&#1089;&#1082;&#1080;&#1081;_&#1103;&#1079;&#1099;&#1082;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CIMG0001"/>
          <p:cNvPicPr/>
          <p:nvPr/>
        </p:nvPicPr>
        <p:blipFill>
          <a:blip r:embed="rId1"/>
          <a:stretch/>
        </p:blipFill>
        <p:spPr>
          <a:xfrm>
            <a:off x="0" y="0"/>
            <a:ext cx="9144000" cy="52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SDC1029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SDC1030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SDC103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SDC103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SDC1033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SDC10345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58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ервенство района по технике лыжного туризма памяти героя-земляка Ф.В.Васьки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SDC10368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SDC1033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SDC10376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ткрытое первенство города Перми по рогейн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SDC1038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5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Бал цвет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SDC104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SDC104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SDC1042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22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Большая георгиевская игра 20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SDC10435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SDC1043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SDC10444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SDC10446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280" y="620640"/>
            <a:ext cx="569916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000000"/>
                </a:solidFill>
                <a:latin typeface="Arial"/>
              </a:rPr>
              <a:t>Рогейн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1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англ.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Rogaining) —</a:t>
            </a:r>
            <a:br>
              <a:rPr sz="2100"/>
            </a:b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амостоятельный вид спорта, достаточно близкий к спортивному ориентированию, приключенческим гонкам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3213000"/>
            <a:ext cx="8229600" cy="29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Рогейн — командный вид спорта. Численность команды от двух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до пяти человек, не имеющих права разделяться на дистанци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Основная задача — набрать за ограниченный промежуток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ремени (обычно до 24 часов) максимальную сумму очков,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которые присуждаются за посещение контрольных пунктов,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установленных на местности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Rogaine_Logo"/>
          <p:cNvPicPr/>
          <p:nvPr/>
        </p:nvPicPr>
        <p:blipFill>
          <a:blip r:embed="rId2"/>
          <a:stretch/>
        </p:blipFill>
        <p:spPr>
          <a:xfrm>
            <a:off x="6413400" y="189000"/>
            <a:ext cx="273060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SDC1045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CIMG0876"/>
          <p:cNvPicPr/>
          <p:nvPr/>
        </p:nvPicPr>
        <p:blipFill>
          <a:blip r:embed="rId1"/>
          <a:stretch/>
        </p:blipFill>
        <p:spPr>
          <a:xfrm>
            <a:off x="0" y="0"/>
            <a:ext cx="9144000" cy="515448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5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Соревнования про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ходили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11 октября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009 год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в окрестностях города Перми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CIMG0037"/>
          <p:cNvPicPr/>
          <p:nvPr/>
        </p:nvPicPr>
        <p:blipFill>
          <a:blip r:embed="rId1"/>
          <a:stretch/>
        </p:blipFill>
        <p:spPr>
          <a:xfrm>
            <a:off x="0" y="0"/>
            <a:ext cx="9144000" cy="515448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5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и заключались в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про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хождении командой в течение 6 часов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контрольны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пункт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ов,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расположенных на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пересечённ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ой лесистой местности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CIMG0033"/>
          <p:cNvPicPr/>
          <p:nvPr/>
        </p:nvPicPr>
        <p:blipFill>
          <a:blip r:embed="rId1"/>
          <a:stretch/>
        </p:blipFill>
        <p:spPr>
          <a:xfrm>
            <a:off x="0" y="0"/>
            <a:ext cx="9144000" cy="557208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5"/>
          <p:cNvSpPr/>
          <p:nvPr/>
        </p:nvSpPr>
        <p:spPr>
          <a:xfrm>
            <a:off x="0" y="558972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где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ного логов, оврагов с ручьями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лесны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дорог, тропин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к, просек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CIMG0053"/>
          <p:cNvPicPr/>
          <p:nvPr/>
        </p:nvPicPr>
        <p:blipFill>
          <a:blip r:embed="rId1"/>
          <a:stretch/>
        </p:blipFill>
        <p:spPr>
          <a:xfrm>
            <a:off x="0" y="0"/>
            <a:ext cx="9144000" cy="515448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5"/>
          <p:cNvSpPr/>
          <p:nvPr/>
        </p:nvSpPr>
        <p:spPr>
          <a:xfrm>
            <a:off x="0" y="558972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Наши заслуженные награды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kwdf2010"/>
          <p:cNvPicPr/>
          <p:nvPr/>
        </p:nvPicPr>
        <p:blipFill>
          <a:blip r:embed="rId1"/>
          <a:stretch/>
        </p:blipFill>
        <p:spPr>
          <a:xfrm>
            <a:off x="3071880" y="571680"/>
            <a:ext cx="30002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SDC10282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2T14:21:54Z</dcterms:created>
  <dc:creator>Татьяна</dc:creator>
  <dc:description/>
  <dc:language>en-US</dc:language>
  <cp:lastModifiedBy>Татьяна</cp:lastModifiedBy>
  <dcterms:modified xsi:type="dcterms:W3CDTF">2013-09-30T17:14:55Z</dcterms:modified>
  <cp:revision>67</cp:revision>
  <dc:subject/>
  <dc:title>Слайд 1</dc:title>
</cp:coreProperties>
</file>