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1E9-BD45-4501-B729-FEAFED24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0D2-59DA-4485-8DD6-3D8EA991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CB5-BAAA-480B-B2AD-DEC89F8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3C4-6203-4154-94D5-1A0DDB2F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19E-3D17-4B36-8DB0-4070550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C47-184D-4E55-A121-01EAB7DB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314E-F534-40B6-AEF9-4D9B471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BEB9-C27C-4A18-9225-193BD968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7C75-4046-45D3-8F72-7747BE99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8995-4C05-4531-8F7A-E820570F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FD3B-00FD-4EF9-9BA3-8288E5E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FC9-B819-42FA-AEFD-CAF0FB11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F53-C82E-471D-9613-5E079B3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1A07-FFCF-4114-AD91-7F1ED7F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6C0-BCE7-43FC-A758-18FB53FE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8BF4-9A23-4F81-918D-7D1C6CA8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2CA-1853-4C4D-A426-0374FF05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0351-84BE-4040-ACFE-5219DA5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9FE5-21C6-4BD5-A35C-B4F5515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4D6C-9989-43E8-91F1-1C4844F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61DA-EB6F-4DB8-A136-5DAC008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94D9-A496-4244-A6C6-1851E454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F39-B0A8-4BF8-BB59-DA30F69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6FBB-B2F2-4111-9B70-A0D2327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440F-1543-4EA0-9CA3-E9EBFF9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D321-BB89-49AA-B3F6-72F0278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4DD5-D56B-46F0-BD78-A3F9A68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6B00-DB72-4350-9A9C-2C8AB2A4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CC94-E7BE-47FC-A895-E679E452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69B2-97A1-403A-9C06-89400FF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AE79-DE77-4FD0-AD48-7FC54E5F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D055-BE22-45F7-9D1A-4C415A2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DA83-D1F1-4A9D-88DE-5E560DA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EF1-AB35-4CDE-A9D3-746A2FB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DC03-BBF2-476F-92BB-EE6AB07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7889-F8E6-4234-9960-FBAEFA1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3596-5AF9-4DB1-8133-A285855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84CF-6407-443C-82BD-B159871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ACB1-348B-4600-B9C8-A6263E9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9CEB-E9F2-4836-BD36-B745EB5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239D1-2DBE-4899-89FB-6CFE5864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989F-3A12-47AE-9ADD-564BED69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3DEE-78F4-4E5B-BB6C-4807D870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C71-F9E9-48F7-AB20-81692E0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415-7726-4BD5-910D-471C2D3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25D-F3EE-4903-AFCF-EA49DED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BF4-8137-44C7-BF79-F3D65944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3B3-2F40-417E-94CE-820619B3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5C21-5048-4589-B98C-FC1B5346044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A89-601D-4319-8903-C582AE41C94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8D6-D762-4314-9056-409AD50F6E7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E53-ACFE-4D32-908B-412558C3141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tryclub.com.ua/upload/poem_all/002137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50920" y="404640"/>
            <a:ext cx="8497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Части речи.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Правила дорожного движения.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www.poetryclub.com.ua/upload/poem_all/002137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3105000" cy="3810240"/>
          </a:xfrm>
          <a:prstGeom prst="rect">
            <a:avLst/>
          </a:prstGeom>
          <a:ln w="0">
            <a:noFill/>
          </a:ln>
        </p:spPr>
      </p:pic>
      <p:sp>
        <p:nvSpPr>
          <p:cNvPr id="216" name="Овал 4"/>
          <p:cNvSpPr/>
          <p:nvPr/>
        </p:nvSpPr>
        <p:spPr>
          <a:xfrm>
            <a:off x="3564000" y="600120"/>
            <a:ext cx="5040360" cy="11732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Стрелка вниз 5"/>
          <p:cNvSpPr/>
          <p:nvPr/>
        </p:nvSpPr>
        <p:spPr>
          <a:xfrm>
            <a:off x="3798720" y="1557360"/>
            <a:ext cx="503280" cy="15843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Стрелка вниз 7"/>
          <p:cNvSpPr/>
          <p:nvPr/>
        </p:nvSpPr>
        <p:spPr>
          <a:xfrm>
            <a:off x="5688000" y="1773360"/>
            <a:ext cx="504720" cy="1368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Стрелка вниз 8"/>
          <p:cNvSpPr/>
          <p:nvPr/>
        </p:nvSpPr>
        <p:spPr>
          <a:xfrm>
            <a:off x="7796160" y="1557360"/>
            <a:ext cx="504720" cy="1473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Скругленный прямоугольник 6"/>
          <p:cNvSpPr/>
          <p:nvPr/>
        </p:nvSpPr>
        <p:spPr>
          <a:xfrm>
            <a:off x="3276720" y="3303720"/>
            <a:ext cx="1655640" cy="1349280"/>
          </a:xfrm>
          <a:prstGeom prst="roundRect">
            <a:avLst>
              <a:gd name="adj" fmla="val 16667"/>
            </a:avLst>
          </a:prstGeom>
          <a:solidFill>
            <a:srgbClr val="f78d7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Trebuchet MS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Скругленный прямоугольник 10"/>
          <p:cNvSpPr/>
          <p:nvPr/>
        </p:nvSpPr>
        <p:spPr>
          <a:xfrm>
            <a:off x="5219640" y="3284640"/>
            <a:ext cx="1656000" cy="136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e00"/>
                </a:solidFill>
                <a:latin typeface="Trebuchet MS"/>
              </a:rPr>
              <a:t>Жёлт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кругленный прямоугольник 11"/>
          <p:cNvSpPr/>
          <p:nvPr/>
        </p:nvSpPr>
        <p:spPr>
          <a:xfrm>
            <a:off x="7164360" y="3284640"/>
            <a:ext cx="1728720" cy="1368360"/>
          </a:xfrm>
          <a:prstGeom prst="roundRect">
            <a:avLst>
              <a:gd name="adj" fmla="val 16667"/>
            </a:avLst>
          </a:prstGeom>
          <a:solidFill>
            <a:srgbClr val="caf297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8d11"/>
                </a:solidFill>
                <a:latin typeface="Trebuchet MS"/>
              </a:rPr>
              <a:t>Зелё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2927520"/>
                <a:gridCol w="2928960"/>
                <a:gridCol w="2928960"/>
              </a:tblGrid>
              <a:tr h="640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я 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ту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Шо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с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еш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я  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ут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шеств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ерех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блюд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Ех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79280" y="260280"/>
            <a:ext cx="86407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14124"/>
                </a:solidFill>
                <a:uFillTx/>
                <a:latin typeface="Times New Roman"/>
                <a:ea typeface="Times New Roman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тельный падеж, единственное чис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и нарицатель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 и неодушевлен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– женский, мужской, средн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, множественное чис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тель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то?) (Что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го?) (Чего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ель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му?) (Чему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тель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го?) (Что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тель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ем?) (Чем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ный падеж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 ком?) (О чём?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, второстепенный член предлож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08000" y="189000"/>
            <a:ext cx="88567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14124"/>
                </a:solidFill>
                <a:uFillTx/>
                <a:latin typeface="Times New Roman"/>
                <a:ea typeface="Times New Roman"/>
              </a:rPr>
              <a:t>Глагол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редме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ределенная форм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врем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ет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ее врем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л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врем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ет? Что будет делать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е лиц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- 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е лиц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 - В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лиц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, Она, Оно - О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, множественное чис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08000" y="189000"/>
            <a:ext cx="8856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14124"/>
                </a:solidFill>
                <a:uFillTx/>
                <a:latin typeface="Times New Roman"/>
                <a:ea typeface="Times New Roman"/>
              </a:rPr>
              <a:t>Имя прилагательное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 предмет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? Какая? Какое? Какие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, мужской род, именительный падеж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илагательны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одам и числам в зависимости от существительног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ый член предложе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11592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ы    ходят   только  по    тр</a:t>
            </a:r>
            <a:r>
              <a:rPr b="0" lang="ru-RU" sz="40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ру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40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у    при    переходе   у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    о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льно  надо 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   сначала  налево, а  потом  направо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  обочинам    люди    идут    навстречу   движущемуся    транс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у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ь   у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  можно  только  по  пеш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ным  перех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м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5:02:55Z</dcterms:created>
  <dc:creator>user</dc:creator>
  <dc:description/>
  <dc:language>en-US</dc:language>
  <cp:lastModifiedBy>User</cp:lastModifiedBy>
  <dcterms:modified xsi:type="dcterms:W3CDTF">2013-10-01T06:14:38Z</dcterms:modified>
  <cp:revision>14</cp:revision>
  <dc:subject/>
  <dc:title>Презентация PowerPoint</dc:title>
</cp:coreProperties>
</file>