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1FA4-33BD-4822-94E6-9C744D1B9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3C4F-F06F-45A9-83A5-7E8277A58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AB4-74C1-4A52-B176-9DBF7544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DB8-6BA4-4CD3-B14B-25BDB50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AF3-3DE3-4AF6-8FD9-7D90E81C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F26-256E-4D72-B04A-36E14183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EA3-98A5-4827-BF6B-D3CCA68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3E6-0470-4051-8441-9E5D12F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DC3-978D-446E-A16B-3987C1D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184-815B-4A38-8021-3915E796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B8B-F2F0-4857-8761-F62DB577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D34-48F0-4465-9248-D3769B24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7EE-D72B-460D-8F13-D47529C2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CCC-C93E-4B72-BEE5-1682401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8DBF-02BE-43F4-A17B-B6577A8A0F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309760"/>
            <a:ext cx="80773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785880" y="4786200"/>
            <a:ext cx="1857240" cy="7858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5786280" y="714240"/>
            <a:ext cx="2428920" cy="18576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Управляющая кнопка: настраиваемая 3"/>
          <p:cNvGrpSpPr/>
          <p:nvPr/>
        </p:nvGrpSpPr>
        <p:grpSpPr>
          <a:xfrm>
            <a:off x="6437160" y="4462560"/>
            <a:ext cx="1474920" cy="1395360"/>
            <a:chOff x="6437160" y="4462560"/>
            <a:chExt cx="1474920" cy="1395360"/>
          </a:xfrm>
        </p:grpSpPr>
        <p:pic>
          <p:nvPicPr>
            <p:cNvPr id="91" name="Управляющая кнопка: настраиваемая 3" descr=""/>
            <p:cNvPicPr/>
            <p:nvPr/>
          </p:nvPicPr>
          <p:blipFill>
            <a:blip r:embed="rId1"/>
            <a:stretch/>
          </p:blipFill>
          <p:spPr>
            <a:xfrm>
              <a:off x="6437160" y="4462560"/>
              <a:ext cx="147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500880" y="4500720"/>
              <a:ext cx="13572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071720" y="3071880"/>
            <a:ext cx="1857240" cy="7858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2" descr=""/>
          <p:cNvPicPr/>
          <p:nvPr/>
        </p:nvPicPr>
        <p:blipFill>
          <a:blip r:embed="rId1"/>
          <a:stretch/>
        </p:blipFill>
        <p:spPr>
          <a:xfrm>
            <a:off x="2975040" y="2908440"/>
            <a:ext cx="4889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214960" y="571680"/>
            <a:ext cx="2428920" cy="18572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Управляющая кнопка: настраиваемая 2"/>
          <p:cNvGrpSpPr/>
          <p:nvPr/>
        </p:nvGrpSpPr>
        <p:grpSpPr>
          <a:xfrm>
            <a:off x="3651120" y="4322880"/>
            <a:ext cx="1474920" cy="1395360"/>
            <a:chOff x="3651120" y="4322880"/>
            <a:chExt cx="1474920" cy="1395360"/>
          </a:xfrm>
        </p:grpSpPr>
        <p:pic>
          <p:nvPicPr>
            <p:cNvPr id="97" name="Управляющая кнопка: настраиваемая 2" descr=""/>
            <p:cNvPicPr/>
            <p:nvPr/>
          </p:nvPicPr>
          <p:blipFill>
            <a:blip r:embed="rId1"/>
            <a:stretch/>
          </p:blipFill>
          <p:spPr>
            <a:xfrm>
              <a:off x="3651120" y="4322880"/>
              <a:ext cx="147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714840" y="4357800"/>
              <a:ext cx="13572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Прямоугольник 1"/>
          <p:cNvGrpSpPr/>
          <p:nvPr/>
        </p:nvGrpSpPr>
        <p:grpSpPr>
          <a:xfrm>
            <a:off x="1225440" y="1103400"/>
            <a:ext cx="7332840" cy="4687920"/>
            <a:chOff x="1225440" y="1103400"/>
            <a:chExt cx="7332840" cy="4687920"/>
          </a:xfrm>
        </p:grpSpPr>
        <p:pic>
          <p:nvPicPr>
            <p:cNvPr id="10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25440" y="1103400"/>
              <a:ext cx="733284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85920" y="1143000"/>
              <a:ext cx="7215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</a:rPr>
                <a:t>Выполнить задания на перфокартах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Управляющая кнопка: настраиваемая 1"/>
          <p:cNvGrpSpPr/>
          <p:nvPr/>
        </p:nvGrpSpPr>
        <p:grpSpPr>
          <a:xfrm>
            <a:off x="2127240" y="798480"/>
            <a:ext cx="5175360" cy="4956120"/>
            <a:chOff x="2127240" y="798480"/>
            <a:chExt cx="5175360" cy="4956120"/>
          </a:xfrm>
        </p:grpSpPr>
        <p:pic>
          <p:nvPicPr>
            <p:cNvPr id="103" name="Управляющая кнопка: настраиваемая 1" descr=""/>
            <p:cNvPicPr/>
            <p:nvPr/>
          </p:nvPicPr>
          <p:blipFill>
            <a:blip r:embed="rId1"/>
            <a:stretch/>
          </p:blipFill>
          <p:spPr>
            <a:xfrm>
              <a:off x="2127240" y="798480"/>
              <a:ext cx="51753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14720" y="857160"/>
              <a:ext cx="500040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ая соединительная линия 3"/>
          <p:cNvSpPr/>
          <p:nvPr/>
        </p:nvSpPr>
        <p:spPr>
          <a:xfrm>
            <a:off x="2214720" y="857160"/>
            <a:ext cx="5000400" cy="478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"/>
          <p:cNvSpPr/>
          <p:nvPr/>
        </p:nvSpPr>
        <p:spPr>
          <a:xfrm flipV="1">
            <a:off x="2214720" y="857160"/>
            <a:ext cx="5000400" cy="478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3214440"/>
            <a:ext cx="7772400" cy="26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54061"/>
                </a:solidFill>
                <a:latin typeface="Calibri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Управляющая кнопка: настраиваемая 3"/>
          <p:cNvGrpSpPr/>
          <p:nvPr/>
        </p:nvGrpSpPr>
        <p:grpSpPr>
          <a:xfrm>
            <a:off x="225360" y="822240"/>
            <a:ext cx="1116000" cy="1109880"/>
            <a:chOff x="225360" y="822240"/>
            <a:chExt cx="1116000" cy="1109880"/>
          </a:xfrm>
        </p:grpSpPr>
        <p:pic>
          <p:nvPicPr>
            <p:cNvPr id="109" name="Управляющая кнопка: настраиваемая 3" descr=""/>
            <p:cNvPicPr/>
            <p:nvPr/>
          </p:nvPicPr>
          <p:blipFill>
            <a:blip r:embed="rId1"/>
            <a:stretch/>
          </p:blipFill>
          <p:spPr>
            <a:xfrm>
              <a:off x="225360" y="822240"/>
              <a:ext cx="11160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85840" y="857160"/>
              <a:ext cx="10000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Равнобедренный треугольник 4"/>
          <p:cNvSpPr/>
          <p:nvPr/>
        </p:nvSpPr>
        <p:spPr>
          <a:xfrm>
            <a:off x="1571760" y="428760"/>
            <a:ext cx="1428480" cy="1428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3357720" y="785880"/>
            <a:ext cx="1643040" cy="10713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7929720" y="1285920"/>
            <a:ext cx="857160" cy="3571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Блок-схема: узел 7"/>
          <p:cNvGrpSpPr/>
          <p:nvPr/>
        </p:nvGrpSpPr>
        <p:grpSpPr>
          <a:xfrm>
            <a:off x="5151600" y="390600"/>
            <a:ext cx="1687320" cy="1609560"/>
            <a:chOff x="5151600" y="390600"/>
            <a:chExt cx="1687320" cy="1609560"/>
          </a:xfrm>
        </p:grpSpPr>
        <p:pic>
          <p:nvPicPr>
            <p:cNvPr id="115" name="Блок-схема: узел 7" descr=""/>
            <p:cNvPicPr/>
            <p:nvPr/>
          </p:nvPicPr>
          <p:blipFill>
            <a:blip r:embed="rId2"/>
            <a:stretch/>
          </p:blipFill>
          <p:spPr>
            <a:xfrm>
              <a:off x="5151600" y="390600"/>
              <a:ext cx="16873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445000" y="647640"/>
              <a:ext cx="11113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Управляющая кнопка: настраиваемая 8"/>
          <p:cNvGrpSpPr/>
          <p:nvPr/>
        </p:nvGrpSpPr>
        <p:grpSpPr>
          <a:xfrm>
            <a:off x="6937200" y="963720"/>
            <a:ext cx="835200" cy="822240"/>
            <a:chOff x="6937200" y="963720"/>
            <a:chExt cx="835200" cy="822240"/>
          </a:xfrm>
        </p:grpSpPr>
        <p:pic>
          <p:nvPicPr>
            <p:cNvPr id="118" name="Управляющая кнопка: настраиваемая 8" descr=""/>
            <p:cNvPicPr/>
            <p:nvPr/>
          </p:nvPicPr>
          <p:blipFill>
            <a:blip r:embed="rId3"/>
            <a:stretch/>
          </p:blipFill>
          <p:spPr>
            <a:xfrm>
              <a:off x="6937200" y="963720"/>
              <a:ext cx="8352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00920" y="1000080"/>
              <a:ext cx="7142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Управляющая кнопка: настраиваемая 1"/>
          <p:cNvGrpSpPr/>
          <p:nvPr/>
        </p:nvGrpSpPr>
        <p:grpSpPr>
          <a:xfrm>
            <a:off x="798480" y="963720"/>
            <a:ext cx="1828800" cy="1895400"/>
            <a:chOff x="798480" y="963720"/>
            <a:chExt cx="1828800" cy="1895400"/>
          </a:xfrm>
        </p:grpSpPr>
        <p:pic>
          <p:nvPicPr>
            <p:cNvPr id="50" name="Управляющая кнопка: настраиваемая 1" descr=""/>
            <p:cNvPicPr/>
            <p:nvPr/>
          </p:nvPicPr>
          <p:blipFill>
            <a:blip r:embed="rId1"/>
            <a:stretch/>
          </p:blipFill>
          <p:spPr>
            <a:xfrm>
              <a:off x="798480" y="963720"/>
              <a:ext cx="182880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7160" y="1000080"/>
              <a:ext cx="17146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Равнобедренный треугольник 2"/>
          <p:cNvSpPr/>
          <p:nvPr/>
        </p:nvSpPr>
        <p:spPr>
          <a:xfrm>
            <a:off x="3286080" y="714240"/>
            <a:ext cx="2143080" cy="207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6143760" y="928800"/>
            <a:ext cx="2428920" cy="18572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857160" y="4643280"/>
            <a:ext cx="1857600" cy="7858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Блок-схема: узел 5"/>
          <p:cNvGrpSpPr/>
          <p:nvPr/>
        </p:nvGrpSpPr>
        <p:grpSpPr>
          <a:xfrm>
            <a:off x="3297240" y="3822840"/>
            <a:ext cx="2328840" cy="2249280"/>
            <a:chOff x="3297240" y="3822840"/>
            <a:chExt cx="2328840" cy="2249280"/>
          </a:xfrm>
        </p:grpSpPr>
        <p:pic>
          <p:nvPicPr>
            <p:cNvPr id="56" name="Блок-схема: узел 5" descr=""/>
            <p:cNvPicPr/>
            <p:nvPr/>
          </p:nvPicPr>
          <p:blipFill>
            <a:blip r:embed="rId2"/>
            <a:stretch/>
          </p:blipFill>
          <p:spPr>
            <a:xfrm>
              <a:off x="3297240" y="3822840"/>
              <a:ext cx="232884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681360" y="4172040"/>
              <a:ext cx="156708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Управляющая кнопка: настраиваемая 6"/>
          <p:cNvGrpSpPr/>
          <p:nvPr/>
        </p:nvGrpSpPr>
        <p:grpSpPr>
          <a:xfrm>
            <a:off x="6437160" y="4395960"/>
            <a:ext cx="1474920" cy="1395360"/>
            <a:chOff x="6437160" y="4395960"/>
            <a:chExt cx="1474920" cy="1395360"/>
          </a:xfrm>
        </p:grpSpPr>
        <p:pic>
          <p:nvPicPr>
            <p:cNvPr id="59" name="Управляющая кнопка: настраиваемая 6" descr=""/>
            <p:cNvPicPr/>
            <p:nvPr/>
          </p:nvPicPr>
          <p:blipFill>
            <a:blip r:embed="rId3"/>
            <a:stretch/>
          </p:blipFill>
          <p:spPr>
            <a:xfrm>
              <a:off x="6437160" y="4395960"/>
              <a:ext cx="147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500880" y="4429080"/>
              <a:ext cx="13572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Управляющая кнопка: настраиваемая 2"/>
          <p:cNvSpPr/>
          <p:nvPr/>
        </p:nvSpPr>
        <p:spPr>
          <a:xfrm>
            <a:off x="2071800" y="642960"/>
            <a:ext cx="5429160" cy="5143320"/>
          </a:xfrm>
          <a:custGeom>
            <a:avLst/>
            <a:gdLst>
              <a:gd name="textAreaLeft" fmla="*/ 333360 w 5429160"/>
              <a:gd name="textAreaRight" fmla="*/ 5095800 w 5429160"/>
              <a:gd name="textAreaTop" fmla="*/ 333360 h 5143320"/>
              <a:gd name="textAreaBottom" fmla="*/ 4809960 h 5143320"/>
            </a:gdLst>
            <a:ahLst/>
            <a:rect l="textAreaLeft" t="textAreaTop" r="textAreaRight" b="textAreaBottom"/>
            <a:pathLst>
              <a:path w="22800" h="21600">
                <a:moveTo>
                  <a:pt x="0" y="0"/>
                </a:moveTo>
                <a:lnTo>
                  <a:pt x="22800" y="0"/>
                </a:lnTo>
                <a:lnTo>
                  <a:pt x="22800" y="21600"/>
                </a:lnTo>
                <a:lnTo>
                  <a:pt x="0" y="21600"/>
                </a:lnTo>
                <a:close/>
              </a:path>
              <a:path fill="lightenLess" w="22800" h="21600">
                <a:moveTo>
                  <a:pt x="0" y="0"/>
                </a:moveTo>
                <a:lnTo>
                  <a:pt x="22800" y="0"/>
                </a:lnTo>
                <a:lnTo>
                  <a:pt x="21400" y="1400"/>
                </a:lnTo>
                <a:lnTo>
                  <a:pt x="1400" y="1400"/>
                </a:lnTo>
                <a:close/>
              </a:path>
              <a:path fill="darken" w="22800" h="21600">
                <a:moveTo>
                  <a:pt x="22800" y="0"/>
                </a:moveTo>
                <a:lnTo>
                  <a:pt x="22800" y="21600"/>
                </a:lnTo>
                <a:lnTo>
                  <a:pt x="21400" y="20200"/>
                </a:lnTo>
                <a:lnTo>
                  <a:pt x="21400" y="1400"/>
                </a:lnTo>
                <a:close/>
              </a:path>
              <a:path fill="darkenLess" w="22800" h="21600">
                <a:moveTo>
                  <a:pt x="22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00" y="20200"/>
                </a:lnTo>
                <a:close/>
              </a:path>
              <a:path fill="lighten" w="22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1920960" y="1841400"/>
            <a:ext cx="56498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15   30   79   17   20 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14   20   16   28   9 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Равнобедренный треугольник 2"/>
          <p:cNvSpPr/>
          <p:nvPr/>
        </p:nvSpPr>
        <p:spPr>
          <a:xfrm>
            <a:off x="3286080" y="714240"/>
            <a:ext cx="2143080" cy="207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143760" y="928800"/>
            <a:ext cx="2428920" cy="18572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857160" y="4643280"/>
            <a:ext cx="1857600" cy="7858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Блок-схема: узел 5"/>
          <p:cNvGrpSpPr/>
          <p:nvPr/>
        </p:nvGrpSpPr>
        <p:grpSpPr>
          <a:xfrm>
            <a:off x="3297240" y="3822840"/>
            <a:ext cx="2328840" cy="2249280"/>
            <a:chOff x="3297240" y="3822840"/>
            <a:chExt cx="2328840" cy="2249280"/>
          </a:xfrm>
        </p:grpSpPr>
        <p:pic>
          <p:nvPicPr>
            <p:cNvPr id="69" name="Блок-схема: узел 5" descr=""/>
            <p:cNvPicPr/>
            <p:nvPr/>
          </p:nvPicPr>
          <p:blipFill>
            <a:blip r:embed="rId1"/>
            <a:stretch/>
          </p:blipFill>
          <p:spPr>
            <a:xfrm>
              <a:off x="3297240" y="3822840"/>
              <a:ext cx="232884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681360" y="4172040"/>
              <a:ext cx="156708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Управляющая кнопка: настраиваемая 6"/>
          <p:cNvGrpSpPr/>
          <p:nvPr/>
        </p:nvGrpSpPr>
        <p:grpSpPr>
          <a:xfrm>
            <a:off x="6437160" y="4395960"/>
            <a:ext cx="1474920" cy="1395360"/>
            <a:chOff x="6437160" y="4395960"/>
            <a:chExt cx="1474920" cy="1395360"/>
          </a:xfrm>
        </p:grpSpPr>
        <p:pic>
          <p:nvPicPr>
            <p:cNvPr id="72" name="Управляющая кнопка: настраиваемая 6" descr=""/>
            <p:cNvPicPr/>
            <p:nvPr/>
          </p:nvPicPr>
          <p:blipFill>
            <a:blip r:embed="rId2"/>
            <a:stretch/>
          </p:blipFill>
          <p:spPr>
            <a:xfrm>
              <a:off x="6437160" y="4395960"/>
              <a:ext cx="147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500880" y="4429080"/>
              <a:ext cx="13572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Блок-схема: узел 1"/>
          <p:cNvGrpSpPr/>
          <p:nvPr/>
        </p:nvGrpSpPr>
        <p:grpSpPr>
          <a:xfrm>
            <a:off x="1865160" y="822240"/>
            <a:ext cx="5334120" cy="5108760"/>
            <a:chOff x="1865160" y="822240"/>
            <a:chExt cx="5334120" cy="5108760"/>
          </a:xfrm>
        </p:grpSpPr>
        <p:pic>
          <p:nvPicPr>
            <p:cNvPr id="75" name="Блок-схема: узел 1" descr=""/>
            <p:cNvPicPr/>
            <p:nvPr/>
          </p:nvPicPr>
          <p:blipFill>
            <a:blip r:embed="rId1"/>
            <a:stretch/>
          </p:blipFill>
          <p:spPr>
            <a:xfrm>
              <a:off x="1865160" y="822240"/>
              <a:ext cx="533412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692440" y="1589040"/>
              <a:ext cx="3687840" cy="35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оставить по чертежу и решить задач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ь и реши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первый.jpg"/>
          <p:cNvPicPr/>
          <p:nvPr/>
        </p:nvPicPr>
        <p:blipFill>
          <a:blip r:embed="rId1"/>
          <a:stretch/>
        </p:blipFill>
        <p:spPr>
          <a:xfrm>
            <a:off x="-376200" y="1214280"/>
            <a:ext cx="9817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785880" y="4786200"/>
            <a:ext cx="1857240" cy="7858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Управляющая кнопка: настраиваемая 4"/>
          <p:cNvGrpSpPr/>
          <p:nvPr/>
        </p:nvGrpSpPr>
        <p:grpSpPr>
          <a:xfrm>
            <a:off x="6437160" y="4395960"/>
            <a:ext cx="1474920" cy="1395360"/>
            <a:chOff x="6437160" y="4395960"/>
            <a:chExt cx="1474920" cy="1395360"/>
          </a:xfrm>
        </p:grpSpPr>
        <p:pic>
          <p:nvPicPr>
            <p:cNvPr id="81" name="Управляющая кнопка: настраиваемая 4" descr=""/>
            <p:cNvPicPr/>
            <p:nvPr/>
          </p:nvPicPr>
          <p:blipFill>
            <a:blip r:embed="rId1"/>
            <a:stretch/>
          </p:blipFill>
          <p:spPr>
            <a:xfrm>
              <a:off x="6437160" y="4395960"/>
              <a:ext cx="147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500880" y="4429080"/>
              <a:ext cx="13572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Равнобедренный треугольник 6"/>
          <p:cNvSpPr/>
          <p:nvPr/>
        </p:nvSpPr>
        <p:spPr>
          <a:xfrm>
            <a:off x="3286080" y="714240"/>
            <a:ext cx="2143080" cy="207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6143760" y="928800"/>
            <a:ext cx="2428920" cy="18572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Равнобедренный треугольник 1"/>
          <p:cNvGrpSpPr/>
          <p:nvPr/>
        </p:nvGrpSpPr>
        <p:grpSpPr>
          <a:xfrm>
            <a:off x="1865160" y="749160"/>
            <a:ext cx="5546880" cy="5254920"/>
            <a:chOff x="1865160" y="749160"/>
            <a:chExt cx="5546880" cy="5254920"/>
          </a:xfrm>
        </p:grpSpPr>
        <p:pic>
          <p:nvPicPr>
            <p:cNvPr id="86" name="Равнобедренный треугольник 1" descr=""/>
            <p:cNvPicPr/>
            <p:nvPr/>
          </p:nvPicPr>
          <p:blipFill>
            <a:blip r:embed="rId1"/>
            <a:stretch/>
          </p:blipFill>
          <p:spPr>
            <a:xfrm>
              <a:off x="1865160" y="749160"/>
              <a:ext cx="5546880" cy="52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286080" y="3357720"/>
              <a:ext cx="271476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c000"/>
                  </a:solidFill>
                  <a:latin typeface="Calibri"/>
                </a:rPr>
                <a:t>Математическая игра «Светофор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w</cp:lastModifiedBy>
  <dcterms:modified xsi:type="dcterms:W3CDTF">2008-02-08T06:54:22Z</dcterms:modified>
  <cp:revision>26</cp:revision>
  <dc:subject/>
  <dc:title>Слайд 1</dc:title>
</cp:coreProperties>
</file>