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AE8-800C-4C4D-8940-7897C7117D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7A0-3B77-4C20-AFCD-70502A48C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E09-3DF5-4BE3-B905-31B13DBE9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152-579F-419C-9D74-75622FB65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AE3-86A7-4B55-85D7-594E7C0FE0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95B7-1704-4EA8-ADBC-A518FFF55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F38-0062-4534-8983-9EB86DE3A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F729-9747-4A29-AF03-569ADA0018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7026-840B-4095-935E-00FB215B3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C8B3-A885-4404-A273-E8DA1065B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A6E-6AFE-4F62-A9AD-696D76485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552-FCAE-467A-BF08-E896BCCFFA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3B57-81EC-4DC9-B126-183D2FCC4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DCA-99F9-4A17-8A37-2D1F1ED5D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7D89-D20C-4845-83B2-DFCFF832F9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2D8-AB4E-4BB5-97DC-201F113AA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8590-67EC-4A23-AE81-9B21C75121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0B7-1531-42F1-B823-7BF4D0F6FB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F8CF-B2AB-49A2-B928-DCCC8F6E1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056-0CA4-4AB9-A103-BBD782852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F90B-BF9C-49EC-A16B-A6B3E8941F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23D-1690-418E-9607-931D2C7E3A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A59-354D-4DA0-81EF-670B136EE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7A45-AB4C-4D6C-813D-6A39826439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1EB-2E31-420A-8861-28D2180ABA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FC6B-18A0-4470-98D7-E9E3CC6903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2AC-5CC8-4809-A738-BD3276C7E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141-1175-4B0F-B9BD-914AD7FC67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2FE-8258-48FB-A677-F55888502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FF63-79AE-428D-B2D9-5D24DFAC6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BE1-F411-4E9B-ACA3-BB9CCBE66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923B-A487-4C8B-8219-82033E010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2F85-5C20-42D5-A491-2C08D9065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97E-EB20-4B5E-9120-F0FC628B29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579A-54AC-4F10-8CBB-23FD644E1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C7CE-2B09-4B74-A5AD-F2AB87CD65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ABD-FF82-4EF1-AA4E-CC0496447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86E6-5691-4D0B-A1B2-C850EF1A23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81F-E75B-4092-A8DD-B7C56EB2C6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52D-F6BE-4EEF-B02B-9BA45A2A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C67-9EF2-4E20-B933-C2CDEAD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A7C-6573-42E2-89A5-D40A065B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0A0-2922-41B7-94B6-8D7B1357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137-8D27-4983-95F0-2C6F32E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DF3B-2675-48D2-8C65-E6AE248B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C0A-C215-48AD-8ABC-A467EF5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A6AD-9D38-4901-9F9C-C3F1A345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3FC7-98E2-401D-8156-CF6B2A6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491B-D572-452B-A86B-4319C5C9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D05-42C6-4C87-8126-F7ED521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2F6-6356-475A-AB37-BE090A00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BAF-0E66-4802-BBB2-64D4D2A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4BD-A92E-45CF-90B2-3EF21FE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795-8435-4997-8965-719A77F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5E7-02A7-40AF-A517-53F9D344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C72-143F-4DDD-9592-BA907F73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6FEA-7E78-4FC3-AEDA-2AAE960D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9C9C-CA13-4C5B-810C-FFE3F49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5029-D81C-430A-8DE8-883251B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632F-7145-42E1-A53B-DE99BB4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70AE-DAEC-46A3-9059-55902E9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D9A-F4B5-4348-A225-C67A9E32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764A-26CD-4F8A-88EE-06EF1E79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8C73-DE4E-457E-8BC8-98A74FF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433C-1FED-4007-930E-E3F5517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46A0-4611-4000-9ABE-F6E5AC8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9A48-197F-4745-81B1-80EC655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4A00-6E06-4BCC-8FCF-6DC31AA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A274-4A2D-4C38-AB5A-F524A479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41E-227E-4896-AAF5-30DA204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BAE-9ABC-4FA0-94CB-5A77F56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821-EE68-4740-8CCF-9F15EC0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A31-901F-4382-B9D0-345B1D7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C31-7955-49B7-8AB7-4821757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C58-D283-46A6-82AB-3146B3D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FD8-6336-4849-8E4C-56BA66FAAE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35B-095E-4E5A-83EA-452212E6DAC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AFB-7117-411F-BB02-69D24DD0E9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.В. Путин заметил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« …дети не должны наполняться знаниями механически, мы должны научить их добывать знания, научить их учиться…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73840" y="5207040"/>
            <a:ext cx="2270160" cy="165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90400" y="1557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ервое условие, которое надлежит выполнять в математике, - это быть точным, второе - быть ясным и, насколько можно, простым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Л. Карно)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Летучка» для группы «Статистика»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(Отвечать быстро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Перечисли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тистические характерист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ност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между наибольшим и наименьшим значением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астн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т деления суммы слагаемых на их количество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Наиболе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аст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стречающееся число в ряде чисел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реди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порядоченного ряда нечётного числа чис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Медиана упорядоченного ряд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ётног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ла чисел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Перечисли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глядно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ставление статистической информ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г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это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Гистограмм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Рисунок 5" descr=""/>
          <p:cNvPicPr/>
          <p:nvPr/>
        </p:nvPicPr>
        <p:blipFill>
          <a:blip r:embed="rId1"/>
          <a:stretch/>
        </p:blipFill>
        <p:spPr>
          <a:xfrm>
            <a:off x="5643720" y="5214960"/>
            <a:ext cx="29289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: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 Самопроверка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Среднее арифметическое , мода, размах, меди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м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Среднее арифметическо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 М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 Меди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 Среднее арифметическое двух чисел, записанных посередин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 Круговые и столбчатые диаграммы 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игоны, гистограм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   ломаная ли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 ступенчатая фигура из сомкнутых  прямоугольников; имеет значение ширина прямоугольни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072120" y="4143240"/>
            <a:ext cx="292896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Летучка»  группе «Комбинаторика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ри вида комбинаций . Перечисли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оложение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ВСЕХ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элементов в определённом порядк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означ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какой формуле вычисляется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мбинация из 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лементов по  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взятых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 в определённом порядк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означ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какой формуле вычисляется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мбинация из 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лементов по  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тличается только элементами,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порядок размещения не имеет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знач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означ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какой формуле вычисляется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358040" y="5429160"/>
            <a:ext cx="15969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рестановки. Размещения. Сочет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рестанов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n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мещ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чет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-2714760" y="0"/>
            <a:ext cx="542880" cy="390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643040" y="4572000"/>
            <a:ext cx="1371600" cy="5000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1643040" y="5857920"/>
            <a:ext cx="1073160" cy="571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0" descr=""/>
          <p:cNvPicPr/>
          <p:nvPr/>
        </p:nvPicPr>
        <p:blipFill>
          <a:blip r:embed="rId4"/>
          <a:stretch/>
        </p:blipFill>
        <p:spPr>
          <a:xfrm>
            <a:off x="5357880" y="3357720"/>
            <a:ext cx="378612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так, 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если важен порядок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элементов в комбинации – это…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если порядок не имеет никакого значения, то это…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имани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  вами секретный пакет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крыть ег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зашифровано в нё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3" descr=""/>
          <p:cNvPicPr/>
          <p:nvPr/>
        </p:nvPicPr>
        <p:blipFill>
          <a:blip r:embed="rId1"/>
          <a:stretch/>
        </p:blipFill>
        <p:spPr>
          <a:xfrm>
            <a:off x="1357200" y="4000680"/>
            <a:ext cx="6143760" cy="1785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Летучка группе «Вероятность»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бытие, которое может произойти, а может и не произойт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бытие, которое при рассматриваемых условиях происходит все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бытие, которое при рассматриваемых условиях не происходит ни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ему равна вероятность достоверного событи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ему равна вероятность невозможного событи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колько равновозможных исходов при бросании одного куб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колько равновозможных исходов при бросании одной монеты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колько равновозможных исходов при бросании двух монет? Какие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колько равновозможных исходов при бросании двух кубиков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колько равновозможных исходов при бросании  трёх кубиков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ношение числа благоприятных исходов к числу всех равновозможных исходов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учай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вер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возмож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 ( оо   ор   ро   рр 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1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ОЯТ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6534000"/>
            <a:ext cx="528840" cy="32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6000"/>
          </a:bodyPr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но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возможно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 ( оо   ор   ро   рр 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1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520" indent="-20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ЕРОЯТНОС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42920" y="2143080"/>
            <a:ext cx="3119400" cy="311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«Вся сила математики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- в разумном сочетани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интуиции и строгости.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Я. Стюар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терея «</a:t>
            </a: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частливый случай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адание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обрать билеты, которые не могут участвовать в розыгрыш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яснить , поче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нение экспер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714240" y="4214880"/>
            <a:ext cx="47865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4617b"/>
                </a:solidFill>
                <a:uFillTx/>
                <a:latin typeface="Calibri"/>
              </a:rPr>
              <a:t>Уметь учиться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это значит, уметь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самостоятельно осваивать новые знания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, организовывать свою учебную деятельность,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контролировать и оценивать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ё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0800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285840"/>
            <a:ext cx="822960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Задание 2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числить вероятность выигрыша одного лотерейного билета «Счастливый случай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прос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орядок зачёркивания чисел важен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Какую формулу выбираем: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nstantia"/>
              </a:rPr>
              <a:t>;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nstantia"/>
              </a:rPr>
              <a:t>  ;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С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nstantia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-25000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onstantia"/>
              </a:rPr>
              <a:t>3.  Чему равно  число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onstantia"/>
              </a:rPr>
              <a:t> k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onstantia"/>
              </a:rPr>
              <a:t>  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му равно число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2"/>
          <a:stretch/>
        </p:blipFill>
        <p:spPr>
          <a:xfrm>
            <a:off x="214200" y="4786200"/>
            <a:ext cx="2286000" cy="18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9570960" y="1857240"/>
            <a:ext cx="10731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500040" y="1928880"/>
          <a:ext cx="8358120" cy="4643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5560"/>
                <a:gridCol w="1193760"/>
                <a:gridCol w="1193760"/>
                <a:gridCol w="11937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5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: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Задание 3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 бросаете два кубика. Какова вероятность того, что выпадет а)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, б)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, в)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6043680" cy="36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Всякая хорошо решённая математическая задача доставляет умственное наслаждени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Г. Гессе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528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иглашается группа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Статистика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3857760" y="3500280"/>
            <a:ext cx="4762440" cy="2476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162864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1214280" y="3714840"/>
            <a:ext cx="2143440" cy="1947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4"/>
          <a:stretch/>
        </p:blipFill>
        <p:spPr>
          <a:xfrm>
            <a:off x="7143840" y="907920"/>
            <a:ext cx="2000160" cy="181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-304920" y="-6480"/>
            <a:ext cx="9723600" cy="4005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556000" y="4292280"/>
            <a:ext cx="64008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1.Рунгис Юри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2.Слугин Дмитри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3.Шувалов Дмитри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4.Павлов Александр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5.Лагутёв Павел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6.Щербаков Дмитр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татистика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это наука, которая занимается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получением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обработкой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и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анализом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количественных данных о разнообразных массовых явлениях, происходящих в природе и обществ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лово «статистика» происходит от латинского слова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atus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, которое означает «состояние, положение вещей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386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Статистические характеристики:</a:t>
            </a:r>
            <a:br>
              <a:rPr sz="4800"/>
            </a:br>
            <a:br>
              <a:rPr sz="1800"/>
            </a:b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Среднее арифметическое</a:t>
            </a:r>
            <a:br>
              <a:rPr sz="4800"/>
            </a:b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-Размах</a:t>
            </a:r>
            <a:br>
              <a:rPr sz="4800"/>
            </a:b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-Мода</a:t>
            </a:r>
            <a:br>
              <a:rPr sz="4800"/>
            </a:b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-Медиана упорядоченного ряда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редним арифметическим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яда чисел называют частное от деления суммы этих чисел на число слагаемых.</a:t>
            </a:r>
            <a:br>
              <a:rPr sz="3600"/>
            </a:br>
            <a:r>
              <a:rPr b="0" i="1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Пример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реднее арифметическое оценок по математики за февраль Иванова Вас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2+3+2+3+3+2+3+3)/8=2.625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махом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ряда чисел называют разность между наибольшим и наименьшим из этих чисел.</a:t>
            </a:r>
            <a:br>
              <a:rPr sz="3400"/>
            </a:br>
            <a:r>
              <a:rPr b="0" i="1" lang="ru-RU" sz="3400" spc="-1" strike="noStrike" u="sng">
                <a:solidFill>
                  <a:srgbClr val="04617b"/>
                </a:solidFill>
                <a:uFillTx/>
                <a:latin typeface="Calibri"/>
              </a:rPr>
              <a:t>Пример:</a:t>
            </a:r>
            <a:br>
              <a:rPr sz="34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азмах колебания температуры воздуха в течении недели с 18 февраля по 22 февраля: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Н -7;ВТ -6;СР -11;ЧТ -8; ПТ -13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6-(-13)=7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начит размах колебания температуры воздуха равен 7 градусам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дой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ряда чисел называется число, наиболее часто встречающееся в данном ряду.</a:t>
            </a:r>
            <a:br>
              <a:rPr sz="4000"/>
            </a:br>
            <a:r>
              <a:rPr b="0" i="1" lang="ru-RU" sz="4000" spc="-1" strike="noStrike" u="sng">
                <a:solidFill>
                  <a:srgbClr val="04617b"/>
                </a:solidFill>
                <a:uFillTx/>
                <a:latin typeface="Calibri"/>
              </a:rPr>
              <a:t>Пример:</a:t>
            </a:r>
            <a:br>
              <a:rPr sz="40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ряду чисел- оценок по математике Иванова Вас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2;3;2;3;3;2;3;3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одой является оценка «3» она встречается 5 раз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лавная методическая цель урока-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оздание условий для проявления познавательной актив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пособствовать развитию интеллект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к общеметодологической направленности предполагает структурирование и систематизацию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едиана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упорядоченного ряда чисел с </a:t>
            </a:r>
            <a:r>
              <a:rPr b="0" i="1" lang="ru-RU" sz="4400" spc="-1" strike="noStrike" u="sng">
                <a:solidFill>
                  <a:srgbClr val="04617b"/>
                </a:solidFill>
                <a:uFillTx/>
                <a:latin typeface="Calibri"/>
              </a:rPr>
              <a:t>нечетным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числом членов называется число, записанное посередине.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едиана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упорядоченного ряда чисел </a:t>
            </a:r>
            <a:r>
              <a:rPr b="0" i="1" lang="ru-RU" sz="4400" spc="-1" strike="noStrike" u="sng">
                <a:solidFill>
                  <a:srgbClr val="04617b"/>
                </a:solidFill>
                <a:uFillTx/>
                <a:latin typeface="Calibri"/>
              </a:rPr>
              <a:t>с четным 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числом членов называется </a:t>
            </a: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среднее арифметическое двух чисел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, записанных посередине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Чтобы найти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медиану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ряда чисел сначала ряд чисел надо упорядочить.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04617b"/>
                </a:solidFill>
                <a:latin typeface="Calibri"/>
              </a:rPr>
              <a:t>Упорядочим оценки по математики Иванова Васи:</a:t>
            </a:r>
            <a:br>
              <a:rPr sz="4800"/>
            </a:br>
            <a:r>
              <a:rPr b="0" i="1" lang="ru-RU" sz="4800" spc="-1" strike="noStrike">
                <a:solidFill>
                  <a:srgbClr val="04617b"/>
                </a:solidFill>
                <a:latin typeface="Calibri"/>
              </a:rPr>
              <a:t> 2;2;2;3;3;3;3;3.</a:t>
            </a:r>
            <a:br>
              <a:rPr sz="48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Медианой ряда является число </a:t>
            </a:r>
            <a:r>
              <a:rPr b="1" lang="ru-RU" sz="4400" spc="-1" strike="noStrike" u="sng">
                <a:solidFill>
                  <a:srgbClr val="04617b"/>
                </a:solidFill>
                <a:uFillTx/>
                <a:latin typeface="Calibri"/>
              </a:rPr>
              <a:t>3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ll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глядное представление статистической информации: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Столбчатые диаграммы;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Круговые диаграммы;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Полигоны;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Гистограмм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35880" cy="638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лигон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- ломаная линия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истограмма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- ступенчатая фигура из сомкнутых прямоугольников, в отличии от столбчатой диаграммы основания прямоугольников выбираются не произвольно, а строго определены длиной интервал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толбчатая диаграмма «</a:t>
            </a: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Четвертные оценки по математики 9 «А» класса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5" descr=""/>
          <p:cNvPicPr/>
          <p:nvPr/>
        </p:nvPicPr>
        <p:blipFill>
          <a:blip r:embed="rId1"/>
          <a:stretch/>
        </p:blipFill>
        <p:spPr>
          <a:xfrm>
            <a:off x="344520" y="179388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руговая диаграмма «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ероятность сдачи  ГИА по математике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истограм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5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331120" cy="481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адача из тестов ГИА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определите по диаграмме, в каких пределах находится содержание жиров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1) 0-10% 2)10-25% 3)30-40% 4)40-50%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5" descr=""/>
          <p:cNvPicPr/>
          <p:nvPr/>
        </p:nvPicPr>
        <p:blipFill>
          <a:blip r:embed="rId1"/>
          <a:stretch/>
        </p:blipFill>
        <p:spPr>
          <a:xfrm>
            <a:off x="306360" y="209880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5640" y="1916280"/>
            <a:ext cx="62751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2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Тема урока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onstantia"/>
              </a:rPr>
              <a:t>«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Элементы статистики, комбинаторики и теории вероятностей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57880" y="4265640"/>
            <a:ext cx="3706920" cy="244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обобщить и систематизировать знания о статистических характеристик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добиться усвоения понятий «перестановки», «размещения» и «сочетания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Отработать навыки решения простейших задач ГИА по теории вероят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786280" y="4500720"/>
            <a:ext cx="278640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786040" y="4929120"/>
            <a:ext cx="2577960" cy="166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214200" y="459576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Воспитательные ц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ние добросовестного отношения к поручен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ние мотивов уч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ние дисциплинирован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ние эстетических взгл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715000" y="4286160"/>
            <a:ext cx="278604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Развивающие ц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азвитие интеллекта, самостоятель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азвитие познавательных умений – выделять главное, составлять план, конспект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азвитие умения работать в групп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ри группы серьёзно готовились к этому уроку. Познакомимся с ним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Constantia"/>
              </a:rPr>
              <a:t>СТАТИСТИКА</a:t>
            </a: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им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лучением, обработкой и анализом количественны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нных о массовых явлен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Constantia"/>
              </a:rPr>
              <a:t>КОМБИНАТОРИКА </a:t>
            </a: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учае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оличество комбинац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дчинённых определённым услов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Constantia"/>
              </a:rPr>
              <a:t>ВЕРОЯТНОСТЬ</a:t>
            </a: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учае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кономерности случайны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обыт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7286760" y="3071880"/>
            <a:ext cx="146664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0" y="5715000"/>
            <a:ext cx="200016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уро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760" y="114300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Летуч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(5мин.) Формируется группа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эксперт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Марафо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решения  простейших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задач ГИ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5 мин.) Проводят  экспер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Лотерея  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частливый случа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Работа в груп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чёт вероятности выигрыша. (5 мин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Защита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роект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( 15мин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Заполнение итоговой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таблиц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(5 мин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Комбинаторная игра 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ловесный конструкто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  Эксперты подводят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тог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ценк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 ур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9. Домашнее зад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7000920" y="5715000"/>
            <a:ext cx="199692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7:14:21Z</dcterms:created>
  <dc:creator>ирина</dc:creator>
  <dc:description/>
  <dc:language>en-US</dc:language>
  <cp:lastModifiedBy>USER</cp:lastModifiedBy>
  <dcterms:modified xsi:type="dcterms:W3CDTF">2013-09-30T07:30:07Z</dcterms:modified>
  <cp:revision>93</cp:revision>
  <dc:subject/>
  <dc:title>В.В. Путин заметил:</dc:title>
</cp:coreProperties>
</file>