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7.gif" ContentType="image/gif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7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4.png" ContentType="image/png"/>
  <Override PartName="/ppt/media/image21.gif" ContentType="image/gif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6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7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18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AD51-7AE2-40BC-A130-39C7DD8B82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C764-B8C9-4ADC-AA4D-8F2E2558A4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F491-0158-47DE-9264-83FE283310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C9B8-84DB-43E6-BC25-A5A47CE019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2E19-042B-41C8-BCDB-F1D44B58A9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7B68-7591-4D67-826B-44F59EDDF3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D2D6-57D0-4263-B520-DF43AE0A04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CBB6-F9C4-4924-985E-82B06B2571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F4B7-F290-4881-AE41-4E92B74186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552D-AB8D-4F6F-980D-8F98CDB2BB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0E33-4ED4-46ED-8606-DF76B05201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FDB4-01D3-47DE-AF8D-1AE946E45E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B7D8-C91B-4772-95F5-CCBB6040C3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F32C-BC96-40A5-87B7-E7AFC34770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240D-20E5-4743-A3E9-2139001E5F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7936-A9AE-44D8-841A-FF1600891C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2122-BCAE-44CC-A710-3207A31205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BB29-2B86-4575-8116-837D084D64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2A94-860A-473E-9996-6244426E26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6C06-604B-4AA2-B7F0-B9F3BF6BD4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706D-9941-4F8F-BCA1-0392927DFB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84AF-5314-4C89-8B0D-BF9201059D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440-164B-4B96-A592-C68CD40D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5CD-F175-441A-8A36-4809B600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076-737B-4EE8-9708-53692440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9AD-318C-487E-80E4-9874F1CF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2B58-6EEA-49CE-A851-F77E43B7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69DF-A255-4290-B93B-A9B48BD3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669E-4643-46CC-A6DB-2F143F29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CDB5-6B0D-440C-99DB-60FAF75C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6940-C391-4311-A968-A03A9D53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5583-CCEF-47DD-8950-8172F103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5371-DDFA-49FF-9867-B8BB7566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17C-E0F9-45F4-A377-784A21C1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3CB4-3BE6-4AB4-8BD3-4402EBA1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25EB-80D8-4447-8185-C71BC552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414D-1BD7-4D89-88C3-1D51ADC8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6533-6BC3-452C-93CD-612EDA47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1619-27BF-4736-83EB-A8E8DD0E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7F8F7-A3F7-4276-8F67-AD98F94B2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ACFBA-B4F4-4674-BE66-BA7DF1D8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91E0D-22A8-4C3D-B044-080DAE66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2ADC7-03A2-4CF1-B1EB-F730AA64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3A45D-F985-40AF-BAD0-69CEA6BC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6ADF-0EDB-41D3-90B3-1EB82AD2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81997-35CD-4D02-A4C2-CBEA3B5E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3EF16-8C61-4C05-A7C2-CEA4E7C3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5A433-6DA2-4856-A6D4-66070AEA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16855-9122-49CB-945F-FAA41C48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2D54A-7662-487B-BE90-D8C80382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24816-8ACC-43B6-A10C-A77509ED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81351-1E0B-4F5E-B627-F6BB91AD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DFDDD-7669-493F-8773-438F8091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C9919-5CFA-4D6B-943C-481FDAF7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88AC0-02BD-4AF1-9F79-CEE69219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A3A6-57CB-49AA-8A3D-9A292640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1DAEF-8E7B-468C-9841-44E84B8A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20182-A61C-4458-AFA4-6A3E4CDA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F86B8-4D91-40F4-8AA1-A1CCBF6C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269A3-2FA1-451C-9273-306265DC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9A475-9D45-4DC4-85F9-1F3A3414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AECC3-3C8E-49CF-9BA9-B2706B04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34C58-5DD4-414B-98E5-E86F4096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AE1E3-1C55-4CC1-8A57-07D49F1F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6D99E-9BB0-4554-94F4-66062D62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3FF8F-9444-4DDB-B3AE-FB3FA486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B243-29BF-4388-B146-AD339783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D1DFD-13F5-4664-9356-F7659BCA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77E06-3804-4F90-9B0B-F7D64F6C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3DB4A-4098-4F2C-BCF9-88F339ED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16300-566C-4AB4-9383-0F722339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69160-6FE7-49B4-8B7C-AD6BB6B9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D53A9-AF1D-4893-8BAF-FBF51555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956E0-8BCA-40A6-9E43-0F2030B6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45FA1-C2D5-4809-A527-0EC4CA90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D99F7-8550-44F5-8442-22CB9BDC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E40C9-7394-4008-BD33-0B082B18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0E2-E92C-4D30-83C5-BAD16288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04616-D004-4F57-A3B2-46E1F18A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1967-F5A9-41C8-9FFB-612ADC63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67D-E0A2-40C2-92C9-92C7CAAC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16D-5741-4BFB-ABD9-DEC685F3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C36C-6F23-4792-B8CD-2099F896401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63A1-DFF2-4735-98FC-88B8EB427B1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D889-A109-4723-8ECD-D6AF887F9CD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E976-95CD-4BA7-B30E-443CC1EB9A5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9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2571-E4A1-4393-9867-86885374C03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6836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Приглашается группа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«Комбинаторика»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Рисунок 5" descr=""/>
          <p:cNvPicPr/>
          <p:nvPr/>
        </p:nvPicPr>
        <p:blipFill>
          <a:blip r:embed="rId1"/>
          <a:stretch/>
        </p:blipFill>
        <p:spPr>
          <a:xfrm>
            <a:off x="4357800" y="3786120"/>
            <a:ext cx="4214880" cy="2786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Упражнение №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Человек забыл две последние цифры в шестизначном телефонном номере, помнит только, что они были неодинаковые и нечетные. Сколько таких телефонных номеров может бы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8610480" y="152280"/>
            <a:ext cx="304920" cy="304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5"/>
          <p:cNvSpPr txBox="1"/>
          <p:nvPr/>
        </p:nvSpPr>
        <p:spPr>
          <a:xfrm>
            <a:off x="2743200" y="4419720"/>
            <a:ext cx="3733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5394**</a:t>
            </a:r>
            <a:endParaRPr b="0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ipe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6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ечетных цифр всего пять: 1, 3, 5, 7, 9. Цифры по условию задачи не повторяются. Порядок расположения элементов важен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5!/3! = 120/6 = 2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"/>
          <p:cNvSpPr/>
          <p:nvPr/>
        </p:nvSpPr>
        <p:spPr>
          <a:xfrm>
            <a:off x="8610480" y="152280"/>
            <a:ext cx="304920" cy="304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2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Число сочетани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четанием из «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» элементов по «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» называется любое множество состоящих из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элементов, выбранных из данных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элем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Число сочетаний"/>
          <p:cNvPicPr/>
          <p:nvPr/>
        </p:nvPicPr>
        <p:blipFill>
          <a:blip r:embed="rId1"/>
          <a:stretch/>
        </p:blipFill>
        <p:spPr>
          <a:xfrm>
            <a:off x="3200400" y="3657600"/>
            <a:ext cx="2209680" cy="868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10649"/>
          <p:cNvPicPr/>
          <p:nvPr/>
        </p:nvPicPr>
        <p:blipFill>
          <a:blip r:embed="rId2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98" name="Oval 9"/>
          <p:cNvSpPr/>
          <p:nvPr/>
        </p:nvSpPr>
        <p:spPr>
          <a:xfrm>
            <a:off x="8610480" y="152280"/>
            <a:ext cx="304920" cy="304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38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2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2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Упражнение №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лотерее нужно зачеркнуть любые 8 чисел из 40. Сколькими способами это можно сделать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8610480" y="152280"/>
            <a:ext cx="304920" cy="304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" descr="24587605"/>
          <p:cNvPicPr/>
          <p:nvPr/>
        </p:nvPicPr>
        <p:blipFill>
          <a:blip r:embed="rId1"/>
          <a:stretch/>
        </p:blipFill>
        <p:spPr>
          <a:xfrm>
            <a:off x="1905120" y="2895480"/>
            <a:ext cx="5562360" cy="3292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260"/>
                            </p:stCondLst>
                            <p:childTnLst>
                              <p:par>
                                <p:cTn id="3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3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лементы не повторяются, порядок расположения элементов не важен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40!/8!(40-8)! = (1·2·3·…40)/8!(1·2·3·...·32) = 3100796899200/40320 = 7690468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"/>
          <p:cNvSpPr/>
          <p:nvPr/>
        </p:nvSpPr>
        <p:spPr>
          <a:xfrm>
            <a:off x="8610480" y="152280"/>
            <a:ext cx="304920" cy="304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2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val 5"/>
          <p:cNvSpPr/>
          <p:nvPr/>
        </p:nvSpPr>
        <p:spPr>
          <a:xfrm>
            <a:off x="8610480" y="152280"/>
            <a:ext cx="304920" cy="304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Безымянный"/>
          <p:cNvPicPr/>
          <p:nvPr/>
        </p:nvPicPr>
        <p:blipFill>
          <a:blip r:embed="rId1"/>
          <a:stretch/>
        </p:blipFill>
        <p:spPr>
          <a:xfrm>
            <a:off x="539640" y="1628640"/>
            <a:ext cx="6915240" cy="4927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546876360"/>
          <p:cNvPicPr/>
          <p:nvPr/>
        </p:nvPicPr>
        <p:blipFill>
          <a:blip r:embed="rId2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nstantia"/>
              </a:rPr>
              <a:t>"Знание - столь драгоценная вещь, что его не зазорно добывать из любого источника"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onstantia"/>
              </a:rPr>
              <a:t>Фома Аквинский (ок. 1224-1274)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6429240" y="189000"/>
            <a:ext cx="2714760" cy="1857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И вот, что интересное удалось найти в Интернете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такая поэзия, которая создаётся из уже заготовленных блоков – «КОМБИНАТОРНАЯ ПОЭЗИЯ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ним из самых старых приёмов комбинаторики является   ЦЕНТОН – это литературная игра, которая заключается в составлении нового стихотворения из строк уже написанных стихотвор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мер  1. (Из произведений А.С. Пушки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мер  2. (Из произведений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. Некрасова и  А.С. Пушки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6357960" y="5286240"/>
            <a:ext cx="2786040" cy="1571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Пример 1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.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  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Пример 2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Я помню чудное мгновенье -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ри сестрицы под окном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има!.. крестьянин торжествуя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сё ходит по цепи кругом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онимый вешними лучам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ж солнце меркнет за горами..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еги, сокройся от очей!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сердцу будет веселей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о глубине сибирских руд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орит восток зарёю новой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 пой красавица при мне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руга дней моих суровых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щай свободная стихия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усей крикливых караван…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ороз и солнце! День чудесный!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Храни меня мой талисман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днажды, в студеную зимнюю пору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ижу за решеткой в темнице сырой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ляжу, поднимается медленно в гору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скормленный в неволе орел молодой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, шествуя важно, в спокойствии чинном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ой верный товарищ, махая крылом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больших сапогах, в полушубке овчинном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ровавую пищу клюет       под окно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2643120" y="0"/>
            <a:ext cx="2824200" cy="1428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2"/>
          <a:stretch/>
        </p:blipFill>
        <p:spPr>
          <a:xfrm>
            <a:off x="4000680" y="5643720"/>
            <a:ext cx="2143080" cy="121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26920" y="907920"/>
            <a:ext cx="75088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lnSpc>
                <a:spcPct val="90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Приглашается группа «Вероятность»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0" name="Рисунок 5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816360" cy="40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5486400" y="3962160"/>
            <a:ext cx="3657600" cy="2361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609480" indent="-609480"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Подготовил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cccc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Касимцева Кс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cccc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Макарова Алес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cccc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Фирсова Екатери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cccc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Карталова Кари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cccc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Сосновская Александ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5838"/>
          <p:cNvPicPr/>
          <p:nvPr/>
        </p:nvPicPr>
        <p:blipFill>
          <a:blip r:embed="rId1"/>
          <a:stretch/>
        </p:blipFill>
        <p:spPr>
          <a:xfrm>
            <a:off x="0" y="0"/>
            <a:ext cx="1042920" cy="765000"/>
          </a:xfrm>
          <a:prstGeom prst="rect">
            <a:avLst/>
          </a:prstGeom>
          <a:ln w="0">
            <a:noFill/>
          </a:ln>
        </p:spPr>
      </p:pic>
      <p:sp>
        <p:nvSpPr>
          <p:cNvPr id="251" name="Oval 8"/>
          <p:cNvSpPr/>
          <p:nvPr/>
        </p:nvSpPr>
        <p:spPr>
          <a:xfrm>
            <a:off x="8610480" y="152280"/>
            <a:ext cx="304920" cy="304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0" y="2133720"/>
            <a:ext cx="550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Элементы комбинаторики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Комбинаторная игра «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Словесный конструктор</a:t>
            </a: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»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авить из букв сло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   О   М   Б   И   Н   А   Т   О   Р   И   К  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можно больше сл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Рисунок 3" descr=""/>
          <p:cNvPicPr/>
          <p:nvPr/>
        </p:nvPicPr>
        <p:blipFill>
          <a:blip r:embed="rId1"/>
          <a:stretch/>
        </p:blipFill>
        <p:spPr>
          <a:xfrm>
            <a:off x="1785960" y="3714840"/>
            <a:ext cx="4019400" cy="2495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algn="ctr"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ыступление экспертов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ведение итогов уро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цен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чётное домашнее задание по книг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«ГИА. 3000 задач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№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2577, 2596, 2614, 2623, 2629, 2640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6429240" y="4000680"/>
            <a:ext cx="2119320" cy="317952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4" descr=""/>
          <p:cNvPicPr/>
          <p:nvPr/>
        </p:nvPicPr>
        <p:blipFill>
          <a:blip r:embed="rId2"/>
          <a:stretch/>
        </p:blipFill>
        <p:spPr>
          <a:xfrm>
            <a:off x="1643040" y="4357800"/>
            <a:ext cx="3714840" cy="250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1640" y="231480"/>
            <a:ext cx="784836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стория комбинато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8610480" y="152280"/>
            <a:ext cx="304920" cy="304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3348000" y="1844640"/>
            <a:ext cx="57960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мбинаторика возникла в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VI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еке. Первые комбинаторные задачи касались в основном азартных иг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колькими способами можно выбросить нужное число очков, бросая кости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колькими способами можно получить двух королей в карточной игре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4" descr="63443124_cards"/>
          <p:cNvPicPr/>
          <p:nvPr/>
        </p:nvPicPr>
        <p:blipFill>
          <a:blip r:embed="rId1"/>
          <a:stretch/>
        </p:blipFill>
        <p:spPr>
          <a:xfrm>
            <a:off x="165240" y="40561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6" descr="p17e0912q5q5n1ikgmqiq4h12tn4"/>
          <p:cNvPicPr/>
          <p:nvPr/>
        </p:nvPicPr>
        <p:blipFill>
          <a:blip r:embed="rId2"/>
          <a:stretch/>
        </p:blipFill>
        <p:spPr>
          <a:xfrm>
            <a:off x="152280" y="1523880"/>
            <a:ext cx="3048120" cy="2062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0" y="1522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Великие лю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BV-2"/>
          <p:cNvPicPr/>
          <p:nvPr/>
        </p:nvPicPr>
        <p:blipFill>
          <a:blip r:embed="rId1"/>
          <a:stretch/>
        </p:blipFill>
        <p:spPr>
          <a:xfrm>
            <a:off x="228600" y="1905120"/>
            <a:ext cx="2516040" cy="3200400"/>
          </a:xfrm>
          <a:prstGeom prst="rect">
            <a:avLst/>
          </a:prstGeom>
          <a:ln w="0">
            <a:noFill/>
          </a:ln>
        </p:spPr>
      </p:pic>
      <p:sp>
        <p:nvSpPr>
          <p:cNvPr id="260" name="Oval 8"/>
          <p:cNvSpPr/>
          <p:nvPr/>
        </p:nvSpPr>
        <p:spPr>
          <a:xfrm>
            <a:off x="8610480" y="152280"/>
            <a:ext cx="304920" cy="304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3429000" y="1186920"/>
            <a:ext cx="514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Гнеденко Борис Владимирович изучал математическую статистику. Этот цикл его работ получил мировое признание.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5791320" y="2743200"/>
            <a:ext cx="33526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«Без учета влияния случайных явлений человек становится бессильным направлять развитие интересующих его процессов в желательном для него направлении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.В. Гнед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Комбинатори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омбинаторика-это раздел элементарной математики, связанный с изучением количества комбинаций, подчиненных определенным услов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т латинского слова «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ombinare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»-соединять, соче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10649"/>
          <p:cNvPicPr/>
          <p:nvPr/>
        </p:nvPicPr>
        <p:blipFill>
          <a:blip r:embed="rId1"/>
          <a:stretch/>
        </p:blipFill>
        <p:spPr>
          <a:xfrm>
            <a:off x="0" y="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66" name="Oval 5"/>
          <p:cNvSpPr/>
          <p:nvPr/>
        </p:nvSpPr>
        <p:spPr>
          <a:xfrm>
            <a:off x="8610480" y="152280"/>
            <a:ext cx="304920" cy="304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ANd9GcSA0ycdkHhkNpRWddV4WyOxT4ZJyQ38YctRy24vxvnyRBGw6Q0V1w"/>
          <p:cNvPicPr/>
          <p:nvPr/>
        </p:nvPicPr>
        <p:blipFill>
          <a:blip r:embed="rId2"/>
          <a:stretch/>
        </p:blipFill>
        <p:spPr>
          <a:xfrm>
            <a:off x="7162920" y="4191120"/>
            <a:ext cx="1457280" cy="1904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1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320"/>
                            </p:stCondLst>
                            <p:childTnLst>
                              <p:par>
                                <p:cTn id="1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Число перестаново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естановкой из «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» элементов называется каждое расположение этих элементов 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Число перестановок"/>
          <p:cNvPicPr/>
          <p:nvPr/>
        </p:nvPicPr>
        <p:blipFill>
          <a:blip r:embed="rId1"/>
          <a:stretch/>
        </p:blipFill>
        <p:spPr>
          <a:xfrm>
            <a:off x="2362320" y="3200400"/>
            <a:ext cx="4495680" cy="7700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228600" y="457200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*!-факториал- произведение натуральных чисел от единицы до какого-либо данного натурального числа «n», т. е. 1·2·3·... ·n; обозначается «n!» (читается эн факториа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8"/>
          <p:cNvSpPr/>
          <p:nvPr/>
        </p:nvSpPr>
        <p:spPr>
          <a:xfrm>
            <a:off x="8686800" y="152280"/>
            <a:ext cx="304920" cy="304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1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6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6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Упражнение №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колькими способами можно переставить 3 различных фотографии рыб, используя формулу числа перестановок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"/>
          <p:cNvSpPr/>
          <p:nvPr/>
        </p:nvSpPr>
        <p:spPr>
          <a:xfrm>
            <a:off x="8610480" y="152280"/>
            <a:ext cx="304920" cy="304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клоун"/>
          <p:cNvPicPr/>
          <p:nvPr/>
        </p:nvPicPr>
        <p:blipFill>
          <a:blip r:embed="rId1"/>
          <a:stretch/>
        </p:blipFill>
        <p:spPr>
          <a:xfrm>
            <a:off x="6248520" y="2819520"/>
            <a:ext cx="2706480" cy="1800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блог"/>
          <p:cNvPicPr/>
          <p:nvPr/>
        </p:nvPicPr>
        <p:blipFill>
          <a:blip r:embed="rId2"/>
          <a:stretch/>
        </p:blipFill>
        <p:spPr>
          <a:xfrm>
            <a:off x="0" y="4419720"/>
            <a:ext cx="1817640" cy="1801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еж"/>
          <p:cNvPicPr/>
          <p:nvPr/>
        </p:nvPicPr>
        <p:blipFill>
          <a:blip r:embed="rId3"/>
          <a:stretch/>
        </p:blipFill>
        <p:spPr>
          <a:xfrm>
            <a:off x="2971800" y="3429000"/>
            <a:ext cx="2403360" cy="179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26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760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731520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рядок расположения элементов важен, элементы не повторяются. Используем число перестановок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3!=1·2·3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8610480" y="152280"/>
            <a:ext cx="304920" cy="304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2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000000"/>
                </a:solidFill>
                <a:uFillTx/>
                <a:latin typeface="Arial"/>
              </a:rPr>
              <a:t>Число размещени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азмещением из «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» элементов по «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» называется любое множество из любых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элементов, взятых в определенном порядке из данных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элем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7" descr="490451_html_329fcda4"/>
          <p:cNvPicPr/>
          <p:nvPr/>
        </p:nvPicPr>
        <p:blipFill>
          <a:blip r:embed="rId1"/>
          <a:stretch/>
        </p:blipFill>
        <p:spPr>
          <a:xfrm>
            <a:off x="2514600" y="4114800"/>
            <a:ext cx="4191120" cy="1630440"/>
          </a:xfrm>
          <a:prstGeom prst="rect">
            <a:avLst/>
          </a:prstGeom>
          <a:ln w="0">
            <a:noFill/>
          </a:ln>
        </p:spPr>
      </p:pic>
      <p:sp>
        <p:nvSpPr>
          <p:cNvPr id="285" name="Oval 8"/>
          <p:cNvSpPr/>
          <p:nvPr/>
        </p:nvSpPr>
        <p:spPr>
          <a:xfrm>
            <a:off x="8610480" y="152280"/>
            <a:ext cx="304920" cy="304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10649"/>
          <p:cNvPicPr/>
          <p:nvPr/>
        </p:nvPicPr>
        <p:blipFill>
          <a:blip r:embed="rId2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940"/>
                            </p:stCondLst>
                            <p:childTnLst>
                              <p:par>
                                <p:cTn id="2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94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7:14:21Z</dcterms:created>
  <dc:creator>ирина</dc:creator>
  <dc:description/>
  <dc:language>en-US</dc:language>
  <cp:lastModifiedBy>USER</cp:lastModifiedBy>
  <dcterms:modified xsi:type="dcterms:W3CDTF">2013-09-30T11:13:24Z</dcterms:modified>
  <cp:revision>93</cp:revision>
  <dc:subject/>
  <dc:title>В.В. Путин заметил:</dc:title>
</cp:coreProperties>
</file>